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D29-BD14-4995-84E9-550BFEC3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9FD-3B5D-44C3-9F9D-0EB093F7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F5D-33D4-44DD-A672-E05758E4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AA3-82A1-47B5-8A8B-B700FF19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03D0-9D8A-4211-A8ED-54307635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8CCC-92FF-43EF-9ED9-2AACB10F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8852-6CEC-4260-BB3F-27A87230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13AE-2143-4CBC-AED1-76F32E8F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0D8E-D616-47FC-891E-408B9D87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FAC3-96C4-46BD-82D3-ED501C3C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72A5-E749-4EA6-B04F-268BE58E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749-E3A0-4A80-AAE4-F71F4793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6ABA-C1B0-4DE2-92AA-81CE1AE0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6A5F-E834-4793-8AEF-637927C9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41D8-BAEE-49E0-980C-579475C6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3AB3-25A6-4028-BBCA-00C8EF9D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8C60-7158-4463-9001-558E1E5D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BA1-092A-4822-A072-7F1FA7A6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186-9E86-4AF5-93C7-AFD92879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92A1-CE77-4AB4-860D-E635E8DB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8C9-887C-4D45-B413-54F9751E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F2D-9084-43CF-823C-01CD27E9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686-C9A9-4717-85A2-F6FFDA11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39A-29B6-415F-BF2E-44249ED0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2C28-3F7C-4229-8ED2-5594F2281B1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6EC5-055E-4978-A4CC-9D49B7400DF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ffb7"/>
                </a:solidFill>
                <a:latin typeface="Arial Black"/>
              </a:rPr>
              <a:t>BEHEERPLAN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conomisch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Maximum rendement, minimale kosten, bv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portveld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Fruitteel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Bosbou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sthetisch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29000" y="1904760"/>
            <a:ext cx="6316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Aanbli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choffelwe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Hag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ierhee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Leib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Technisc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keer (doorrijhoog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rktu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erdoorvo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aatlantaa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lektriciteitsma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Functioneel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etpa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ullenba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an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eeltoeste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ietsklem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- en aanrijschadepaaltj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osmetisc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iende pla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schoffelde b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stoken graska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ijverpartij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Kunnen ook door eigenaar/ beheerder worden opgelegd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lk kwaliteitsniveau in welke wij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nneer mag er wel en niet worden gewerk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REEFBEEL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J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de kwalit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het result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d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REEFBEEL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UNNEN ZIJ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tekening (bv. dwarsdoorsne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fo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omschrij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 bovenstaande op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BEHEERMAATREGEL VERSUS</a:t>
            </a:r>
            <a:br>
              <a:rPr sz="4400"/>
            </a:b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ONDERHOUDSMAATREGEL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2730600"/>
            <a:ext cx="800748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heermaatregel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Intensief /extens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derhoudsmaatregel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24 x of 2 x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PECIFICATI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OFDBEHEERGROEPEN VALLEN UITEEN IN BEHEERGROEPEN, b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m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anbomen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0- 10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0-25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&gt; 25 ja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rkbome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0 – 10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eleids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Groenbeleid/ 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tructuur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eheer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Beheer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Uitvoerings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Werk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6516720" y="2852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6443640" y="4365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PECIFICATI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ECIFICATIE gaat in op detail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 verhar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pen of gesloten beeld van bepla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tensief/ extensief maa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aste planten (cultuurlijk/ natuurlijk, plantenbak, grassen, winterbeel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SPECIFICATIES HEBBEN DUS GROTE 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INVLOED OP HET 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WERKPAKKET!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ijvoorbeeld het werkpakket van Laanbomen 0 - 10 jaar in verharding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geleidingssnoe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Wegafzetting plaatsen en oprui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rgaren materia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fvoeren materia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Pleksgewijs maa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 maaien gaz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werfvuil verwij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ras verga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fvoeren gras en zwerfvu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me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anvullende maatregelen gaz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regen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ollenbestrij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lucht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rticuter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lad verwijder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Kanten ste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Onderhoudscategorieë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yclisch onderh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ncidenteel onderh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mvor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Wat wil ik? Inventarisatie va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wil eigena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wil behee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zijn de doelstelling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mag het kost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Wat heb ik? Inventarisatie va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odem, grondwaterst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oorten gew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oorten verhar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traatmeubil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Hoe moet dat? Inventarisatie va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Hoe wordt het uitgevoer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zet mens en materiee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Wanne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ijafstand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OPZET BEHEERPL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49640" y="1904760"/>
            <a:ext cx="659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oelstell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andvoorwa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eefbeel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Hoofd)beheergroe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ecif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rkpakke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DRIE DOELSTELLING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70120" y="1904760"/>
            <a:ext cx="6175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log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nom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sthet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cologisch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9240" y="1904760"/>
            <a:ext cx="7365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Biotoopbehe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Kruidachtige gewass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tructuurvari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logische infrastructuu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7:45:17Z</dcterms:created>
  <dc:creator>Huub</dc:creator>
  <dc:description/>
  <dc:language>en-US</dc:language>
  <cp:lastModifiedBy>Jan van der Wiele</cp:lastModifiedBy>
  <dcterms:modified xsi:type="dcterms:W3CDTF">2018-11-21T09:14:43Z</dcterms:modified>
  <cp:revision>4</cp:revision>
  <dc:subject/>
  <dc:title>BEHEERPLAN</dc:title>
</cp:coreProperties>
</file>