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685-B365-4421-AEB1-DD300CDC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560-E9EF-4C37-8713-7C84EDEF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631-C99D-40D0-A591-4D01199F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976-E7E6-49CA-B1B4-B77DC452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7323-F877-4C78-B1B9-11077F09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ED6D-55F2-4153-9277-2713FC55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E421-CC70-410C-A905-23D355DC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0EAA-D6DB-4BB4-B357-70056555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CA05-EB5E-4FB9-8E10-6845CB12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AA8D-9A8B-45A4-873F-9D2CB6AE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DA0D-0994-48E1-AF31-A9A83BAA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E5B-9612-4F28-9E01-E2628ED4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4A07-7DE7-425C-898E-7CA2B7CF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BADA-2200-4698-9C66-5A544B49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47DE-0BE7-4197-BA55-F43C8EFF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1382-FB63-4E04-817D-6EC73BB0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1F34-A2FA-4D88-B04F-781F2E7A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056-7AB1-4FB3-BA45-FCE62319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EF7-6C39-4A73-A9DA-6DBE85E0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510-2C42-4EC7-9A0D-70F47F18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3AC-3014-4928-A77D-A9D21D6F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1E9-2BED-4F28-B225-59EC2655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99D-0777-4DDB-BCA8-0633F66F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404-9F6A-4A02-912C-BF362294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432E-510D-493F-A951-4B16BE2C94F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03CC-7831-4E37-9BA1-F3868B087C9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ffb7"/>
                </a:solidFill>
                <a:latin typeface="Arial Black"/>
              </a:rPr>
              <a:t>BEHEERPLAN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conomisch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Maximum rendement, minimale kosten, bv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portvel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ruittee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Bosbou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sthetisch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29000" y="1904760"/>
            <a:ext cx="6316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anbli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choffelwe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Hag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ierhee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Leib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Technisc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keer (doorrijhoog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rktu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erdoorvo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aatlantaa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lektriciteitsma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unctioneel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etpa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ullenba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an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eltoeste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ietsklem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- en aanrijschadepaalt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smetisc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iende pla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choffelde b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token graska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ijverpartij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Kunnen ook door eigenaar/ beheerder worden opgelegd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lk kwaliteitsniveau in welke wij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nneer mag er wel en niet worden gewerk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REEFBEEL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J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de kwalit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het result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d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REEFBEEL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UNNEN ZIJ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tekening (bv. dwarsdoorsne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fo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omschrij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 bovenstaande op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BEHEERMAATREGEL VERSUS</a:t>
            </a:r>
            <a:br>
              <a:rPr sz="4400"/>
            </a:b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NDERHOUDSMAATREGEL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730600"/>
            <a:ext cx="80074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heermaatregel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Intensief /extens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houdsmaatregel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24 x of 2 x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PECIFICA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OFDBEHEERGROEPEN VALLEN UITEEN IN BEHEERGROEPEN, b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m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anbomen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0- 10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0-25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&gt; 25 ja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rkbom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0 – 10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eleids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Groenbeleid/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tructuur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eheer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Beheer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Uitvoerings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Werk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6516720" y="2852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6443640" y="4365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PECIFICA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ECIFICATIE gaat in op detail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 verhar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pen of gesloten beeld van bepla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tensief/ extensief maa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aste planten (cultuurlijk/ natuurlijk, plantenbak, grassen, winterbeel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SPECIFICATIES HEBBEN DUS GROTE 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INVLOED OP HET 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WERKPAKKET!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ijvoorbeeld het werkpakket van Laanbomen 0 - 10 jaar in verharding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geleidingssnoe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Wegafzetting plaatsen en oprui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rgaren materi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fvoeren materi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Pleksgewijs maa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 maaien gaz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werfvuil verwij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ras verg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voeren gras en zwerfvu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me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anvullende maatregelen gaz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regen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ollenbestrij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luch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rticute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lad verwijde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Kanten ste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Onderhoudscategorieë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yclisch onderh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cidenteel onderh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mvor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Wat wil ik? Inventarisatie v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wil eigena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wil behee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zijn de doelstelling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mag het kos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Wat heb ik? Inventarisatie v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odem, grondwaterst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oorten gew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oorten verhar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traatmeubil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Hoe moet dat? Inventarisatie va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Hoe wordt het uitgevoer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zet mens en materiee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Wanne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ijafstand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PZET BEHEERPL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49640" y="1904760"/>
            <a:ext cx="659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oelstel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andvoorwa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eefbeel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Hoofd)beheergroe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cif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rkpakke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DRIE DOELSTELLING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70120" y="1904760"/>
            <a:ext cx="6175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log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nom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sthet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cologisch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9240" y="1904760"/>
            <a:ext cx="7365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Biotoopbehe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Kruidachtige gewass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tructuurvari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logische infrastructuu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7:45:17Z</dcterms:created>
  <dc:creator>Huub</dc:creator>
  <dc:description/>
  <dc:language>en-US</dc:language>
  <cp:lastModifiedBy>Jan van der Wiele</cp:lastModifiedBy>
  <dcterms:modified xsi:type="dcterms:W3CDTF">2018-11-21T09:14:43Z</dcterms:modified>
  <cp:revision>4</cp:revision>
  <dc:subject/>
  <dc:title>BEHEERPLAN</dc:title>
</cp:coreProperties>
</file>