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DD7-A4C5-4748-A21A-1299102D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918-FDD2-44E5-A7BB-E95C3B36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DE1-08E7-4E4A-9A02-8EFC5DB4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E6D-4E93-4021-A6CB-3AAF6EA7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11ED-85DF-4921-9280-AB84026D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C868-886B-4C77-BA63-3901486D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3822-BBB9-4716-A8EB-B5803BF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B3F0-96F8-475C-9A82-C8DFB4B9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0DF4-9C9B-4B18-9D56-8459B4CE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0CCB-03FB-461D-891D-0E45897E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40A4-01E2-4006-A281-64BBDCB7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811-18C5-4C8D-A085-8F66B16E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4998-87D0-4621-83E0-64792C2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7376-3843-4D39-9D90-7DF4FF6A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606E-9EDB-4EE0-849C-0939E1FA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0253-430C-43DD-9AD2-E92A2115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D20F-13D2-49C5-9696-82B62A70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F00-14B8-4417-9395-DFA28514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35C-C854-4419-B46E-57F5F0B2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540-A7A8-405E-95AD-EC2A8B81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1D1-3B64-439C-AAEF-21CFF5AB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B84-E9BD-4999-9090-35CA2AFC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7F8-7ECB-489E-A0C9-CB516FF1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004-28C4-4641-AAD1-FBCB917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4871-0424-4646-BD73-2459E889EA2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BA21-B077-4308-A295-8F7FA646D74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ffb7"/>
                </a:solidFill>
                <a:latin typeface="Arial Black"/>
              </a:rPr>
              <a:t>BEHEERPLAN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nom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aximum rendement, minimale kosten, b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ortvel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ruittee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osbou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sthetisch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29000" y="1904760"/>
            <a:ext cx="631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bl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choffelwe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ierhee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Leib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echn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keer (doorrijhoog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tu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doorv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atlantaa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lektriciteitsma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unctionee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etp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ullenba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eltoe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ietskle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- en aanrijschadepaalt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smet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iende pl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choffelde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token grask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jverpartij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unnen ook door eigenaar/ beheerder worden opgeleg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 kwaliteitsniveau in welke wij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nneer mag er wel en niet worden gewerk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kwa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het result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UNNEN 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tekening (bv. dwarsdoorsne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f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omschrij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bovenstaande op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HEERMAATREGEL VERSUS</a:t>
            </a:r>
            <a:br>
              <a:rPr sz="4400"/>
            </a:b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NDERHOUDSMAATREGEL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730600"/>
            <a:ext cx="80074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eer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tensief /extens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houds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24 x of 2 x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BEHEERGROEPEN VALLEN UITEEN IN BEHEERGROEPEN, b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m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anbomen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-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0-25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&gt; 25 ja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kb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 –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leid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Groenbeleid/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uctuu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heer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Behee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voering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Werk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516720" y="2852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443640" y="4365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ECIFICATIE gaat in op detai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 verhar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pen of gesloten beeld van be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tensief/ extensief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aste planten (cultuurlijk/ natuurlijk, plantenbak, grassen, winterbeel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SPECIFICATIES HEBBEN DUS GROTE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INVLOED OP HET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WERKPAKKET!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ijvoorbeeld het werkpakket van Laanbomen 0 - 10 jaar in verhar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geleidingssno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egafzetting plaatsen en oprui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ga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fvoe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leksgewijs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maaien gaz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werfvuil verwij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ras verg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voeren gras en zwerfv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me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anvullende maatregelen gaz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regen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ollenbestrij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luch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ticut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lad verwijd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Kanten ste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Onderhoudscategorieë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yclisch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cidenteel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wil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eigena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behee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zijn de doelstellin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g het kos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heb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odem, grondwaterst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ge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verhar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aatmeubil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Hoe moet dat? Inventarisatie va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Hoe wordt het uitgevoe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zet mens en materiee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anne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ijafstan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ZET BEHEER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49640" y="1904760"/>
            <a:ext cx="659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elstel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ndvoorwa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eefbe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Hoofd)beheergroe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cif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pakke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DRIE DOELSTELLING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70120" y="1904760"/>
            <a:ext cx="617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nom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sthet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log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24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iotoopbeh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ruidachtige gewas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uctuurvari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e infrastructu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7:45:17Z</dcterms:created>
  <dc:creator>Huub</dc:creator>
  <dc:description/>
  <dc:language>en-US</dc:language>
  <cp:lastModifiedBy>Jan van der Wiele</cp:lastModifiedBy>
  <dcterms:modified xsi:type="dcterms:W3CDTF">2018-11-21T09:14:43Z</dcterms:modified>
  <cp:revision>4</cp:revision>
  <dc:subject/>
  <dc:title>BEHEERPLAN</dc:title>
</cp:coreProperties>
</file>