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466B-F2D2-444A-B6E8-C6498074B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C98A-96EE-42C9-ABCB-3ACF0D29A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F37A-BF75-41AB-B04C-5D14E785E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837A-6E50-4595-9F9C-39EFA1FB4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48994-C862-4136-AAFE-67B34F194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4EE3A-B6C3-4F64-89E4-E7A33B6EE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A2DDA-E027-455E-9C6A-1CAFDEA4D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C6D55-0D1B-47E9-9858-9B8F792E2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501B8-99C1-4ED5-89C6-335B7E775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2B74B-84B9-4AC1-A332-F954D1F03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E3615-7D4D-40A3-989D-96D022F1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316F-289A-48FB-BCE9-05B4A9E7E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D6AFE-D7D1-41A8-B04B-2DC88E97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C2AC7-2E69-4D2A-9A07-26650318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E731C-86CC-4538-92F2-2A58FE7C7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D1984-0051-4246-830E-55A5EF39E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B131D-3D2E-4BF8-AF70-6D11B84BB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7C30-ED92-485B-A171-C0A303472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A39F-0F0B-4A40-8D3E-E8C203D44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6AF2-5510-467A-862C-26CD7816C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60CB-2EE3-414F-94FD-DB205C1EF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D05C-6757-453A-A687-CDEFD1AB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F5EF-B195-483C-849D-33E9CB98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56A0-019D-441E-B45A-7BE34BF2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6EB75-F474-4592-B1A9-365E3A94F02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336D6-E906-48C0-8E18-CBED5E8A8011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7200" spc="-1" strike="noStrike">
                <a:solidFill>
                  <a:srgbClr val="ffffb7"/>
                </a:solidFill>
                <a:latin typeface="Arial Black"/>
              </a:rPr>
              <a:t>BEHEERPLAN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Economisch: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Maximum rendement, minimale kosten, bv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Sportveld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Fruitteel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Bosbou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Esthetisch</a:t>
            </a: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29000" y="1904760"/>
            <a:ext cx="6316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Aanbli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Schoffelwe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Hag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Sierhees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Leibom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RANDVOORWAARDE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Technisch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erkeer (doorrijhoog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rktui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aterdoorvo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traatlantaar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Elektriciteitsmas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RANDVOORWAARDE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Functioneel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etpa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Prullenbak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an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peeltoestell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Fietsklem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aai- en aanrijschadepaaltj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RANDVOORWAARDE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osmetisch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loeiende plan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schoffelde bor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stoken graskan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ijverpartij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a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RANDVOORWAARDE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Kunnen ook door eigenaar/ beheerder worden opgelegd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lk kwaliteitsniveau in welke wijk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anneer mag er wel en niet worden gewerk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STREEFBEELDE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ZIJ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palend voor de kwalite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palend voor het resulta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palend voor de communic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STREEFBEELDE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KUNNEN ZIJ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Een tekening (bv. dwarsdoorsned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Een fo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Een omschrijv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lle bovenstaande op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893080" cy="27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BEHEERMAATREGEL VERSUS</a:t>
            </a:r>
            <a:br>
              <a:rPr sz="4400"/>
            </a:b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ONDERHOUDSMAATREGEL 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2730600"/>
            <a:ext cx="8007480" cy="33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heermaatregel </a:t>
            </a:r>
            <a:r>
              <a:rPr b="0" lang="nl-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Intensief /extensie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nderhoudsmaatregel </a:t>
            </a:r>
            <a:r>
              <a:rPr b="0" lang="nl-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24 x of 2 x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aai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SPECIFICATIES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OOFDBEHEERGROEPEN VALLEN UITEEN IN BEHEERGROEPEN, bv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om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Laanbomen 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0- 10 ja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10-25 ja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&gt; 25 jaa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Parkbomen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0 – 10 ja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Beleidsniveau </a:t>
            </a:r>
            <a:r>
              <a:rPr b="0" lang="nl-NL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 Groenbeleid/ 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structuurpl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Beheerniveau </a:t>
            </a:r>
            <a:r>
              <a:rPr b="0" lang="nl-NL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 Beheerpl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Uitvoeringsniveau </a:t>
            </a:r>
            <a:r>
              <a:rPr b="0" lang="nl-NL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 Werkpl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4"/>
          <p:cNvSpPr/>
          <p:nvPr/>
        </p:nvSpPr>
        <p:spPr>
          <a:xfrm>
            <a:off x="6516720" y="285264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5"/>
          <p:cNvSpPr/>
          <p:nvPr/>
        </p:nvSpPr>
        <p:spPr>
          <a:xfrm>
            <a:off x="6443640" y="4365720"/>
            <a:ext cx="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SPECIFICATIES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SPECIFICATIE gaat in op detail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In verhard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Open of gesloten beeld van bepla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Intensief/ extensief maai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Vaste planten (cultuurlijk/ natuurlijk, plantenbak, grassen, winterbeeld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5400" spc="-1" strike="noStrike" u="sng">
                <a:solidFill>
                  <a:srgbClr val="ffffff"/>
                </a:solidFill>
                <a:uFillTx/>
                <a:latin typeface="Arial"/>
              </a:rPr>
              <a:t>SPECIFICATIES HEBBEN DUS GROTE </a:t>
            </a:r>
            <a:r>
              <a:rPr b="1" lang="nl-NL" sz="5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1" lang="nl-NL" sz="5400" spc="-1" strike="noStrike" u="sng">
                <a:solidFill>
                  <a:srgbClr val="ffffff"/>
                </a:solidFill>
                <a:uFillTx/>
                <a:latin typeface="Arial"/>
              </a:rPr>
              <a:t>INVLOED OP HET </a:t>
            </a:r>
            <a:r>
              <a:rPr b="1" lang="nl-NL" sz="5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1" lang="nl-NL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5400" spc="-1" strike="noStrike" u="sng">
                <a:solidFill>
                  <a:srgbClr val="ffffff"/>
                </a:solidFill>
                <a:uFillTx/>
                <a:latin typeface="Arial"/>
              </a:rPr>
              <a:t>WERKPAKKET!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WERKPAKKETTE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Bijvoorbeeld het werkpakket van Laanbomen 0 - 10 jaar in verharding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Begeleidingssnoe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Wegafzetting plaatsen en opruim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Vergaren materia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Afvoeren materia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Pleksgewijs maai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WERKPAKKETTE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beeld maaien gaz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Zwerfvuil verwijd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aai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ras verga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fvoeren gras en zwerfvu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mes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Control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WERKPAKKETTE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Aanvullende maatregelen gazon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Beregen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Mollenbestrijd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Belucht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Verticuter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Blad verwijder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Kanten stek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Onderhoudscategorieë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yclisch onderhou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Incidenteel onderhou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Omvorm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Stappenplan</a:t>
            </a: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 1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Wat wil ik? Inventarisatie van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Wat wil eigena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Wat wil beheerd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Wat zijn de doelstelling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Wat mag het kost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Stappenplan</a:t>
            </a: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 2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Wat heb ik? Inventarisatie van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Bodem, grondwatersta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Soorten gew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Soorten verhard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Straatmeubilai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Stappenplan</a:t>
            </a: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 3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Hoe moet dat? Inventarisatie van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Hoe wordt het uitgevoer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Inzet mens en materieel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Wannee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Rijafstande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OPZET BEHEERPLA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49640" y="1904760"/>
            <a:ext cx="6595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oelstellin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Randvoorwaar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treefbeel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(Hoofd)beheergroe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pecific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rkpakket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DRIE DOELSTELLINGE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670120" y="1904760"/>
            <a:ext cx="6175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Ecologis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Economis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Esthetis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Ecologisch: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79240" y="1904760"/>
            <a:ext cx="73659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Biotoopbehe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Kruidachtige gewass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Structuurvariati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Ecologische infrastructuu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8T17:45:17Z</dcterms:created>
  <dc:creator>Huub</dc:creator>
  <dc:description/>
  <dc:language>en-US</dc:language>
  <cp:lastModifiedBy>Jan van der Wiele</cp:lastModifiedBy>
  <dcterms:modified xsi:type="dcterms:W3CDTF">2018-11-21T09:14:43Z</dcterms:modified>
  <cp:revision>4</cp:revision>
  <dc:subject/>
  <dc:title>BEHEERPLAN</dc:title>
</cp:coreProperties>
</file>