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C5DF-DA4F-4A75-9AAC-50CFAF7A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F51D-6C2A-43F6-A7D9-B11A387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7FFC-C63A-4D35-806E-F5E6482B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3E2F-F5BE-4531-8DDC-75A8B4372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66E8-5199-4E70-98D6-A937CD6A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44D9-415B-4E01-BF77-96029F6EA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45DD-89C7-41AB-A5F9-4FFB23B3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771C-FE69-4628-86D6-5B87D2256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674F-5AF7-488F-9F57-82C2B923D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E09E2-FED2-42D4-BCD0-84F79DAC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F78A-95FA-4B83-ABD6-F86C8B2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553F-F99D-4052-87EF-11AE5EDC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F032-AF8A-4CFA-A49D-AA6C777E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483A-5DEC-49C7-B575-92D58A883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7FAD-43A7-4EA8-91D5-9A16977D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991CC-331D-4C42-90FB-F771BF666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F431-947D-4491-9CC9-1E34FC913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411-EE96-49D9-AC40-8C028383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56F-78A5-48F2-850A-1D47B8DD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333E-4B51-4160-9323-5C64E2F2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FAD3-3711-4BF3-84C8-B63121E9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0A4F-9474-4506-8171-C899DEF1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DE6-354E-4012-90AE-05850DF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8A80-55B4-4E32-9C55-97FB91C8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3B5A-8DD4-4D2A-A3ED-E79C7663A2A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0123-E1D5-4265-BED7-933722DA106C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ffb7"/>
                </a:solidFill>
                <a:latin typeface="Arial Black"/>
              </a:rPr>
              <a:t>BEHEERPLAN</a:t>
            </a:r>
            <a:endParaRPr b="1" lang="en-US" sz="7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nom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Maximum rendement, minimale kosten, bv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portveld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ruitteel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osbou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sthetisch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29000" y="1904760"/>
            <a:ext cx="6316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Aanbli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choffelwer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ierhee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Leibom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Techn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erkeer (doorrijhoog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tui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terdoorvo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aatlantaa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lektriciteitsma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Functioneel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etpa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rullenbak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ank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eltoestell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Fietsklemm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- en aanrijschadepaaltj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osmetisch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loeiende pl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choffelde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estoken graskan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ijverpartij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a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RANDVOORWAAR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unnen ook door eigenaar/ beheerder worden opgelegd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lk kwaliteitsniveau in welke wijk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anneer mag er wel en niet worden gewerk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kwalite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het resulta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palend voor de commun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REEFBEELD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KUNNEN ZIJ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tekening (bv. dwarsdoorsne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fot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en omschrij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lle bovenstaande op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BEHEERMAATREGEL VERSUS</a:t>
            </a:r>
            <a:br>
              <a:rPr sz="4400"/>
            </a:b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NDERHOUDSMAATREGEL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2730600"/>
            <a:ext cx="8007480" cy="33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heer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Intensief /extensie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Onderhoudsmaatregel </a:t>
            </a:r>
            <a:r>
              <a:rPr b="0" lang="nl-N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 24 x of 2 x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HOOFDBEHEERGROEPEN VALLEN UITEEN IN BEHEERGROEPEN, bv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ome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Laanbomen  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-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10-25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&gt; 25 ja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Parkbomen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0 – 10 ja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leid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Groenbeleid/ 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uctuu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eheer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Beheer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Uitvoeringsniveau </a:t>
            </a:r>
            <a:r>
              <a:rPr b="0" lang="nl-NL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Werk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4"/>
          <p:cNvSpPr/>
          <p:nvPr/>
        </p:nvSpPr>
        <p:spPr>
          <a:xfrm>
            <a:off x="6516720" y="2852640"/>
            <a:ext cx="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6443640" y="4365720"/>
            <a:ext cx="0" cy="863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PECIFICATIES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ECIFICATIE gaat in op detail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 verhar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pen of gesloten beeld van beplan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tensief/ extensief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aste planten (cultuurlijk/ natuurlijk, plantenbak, grassen, winterbeeld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SPECIFICATIES HEBBEN DUS GROTE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INVLOED OP HET 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1" lang="nl-NL" sz="5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nl-NL" sz="5400" spc="-1" strike="noStrike" u="sng">
                <a:solidFill>
                  <a:srgbClr val="ffffff"/>
                </a:solidFill>
                <a:uFillTx/>
                <a:latin typeface="Arial"/>
              </a:rPr>
              <a:t>WERKPAKKET!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ijvoorbeeld het werkpakket van Laanbomen 0 - 10 jaar in verharding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geleidingssnoe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egafzetting plaatsen en opruim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ga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fvoeren materia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Pleksgewijs maai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Voorbeeld maaien gaz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Zwerfvuil verwijd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Maai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Gras verga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Afvoeren gras en zwerfvu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Bemes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WERKPAKKETT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anvullende maatregelen gazo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regen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Mollenbestrijd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elucht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rticut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Blad verwijder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Kanten stek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Onderhoudscategorieë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Cyclisch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Incidenteel onderhou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Omvorm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wil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eigena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wil behee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zijn de doelstelling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Wat mag het kost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Wat heb ik? Inventarisatie van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Bodem, grondwaterst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gew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oorten verhard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Straatmeubil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Stappenplan</a:t>
            </a: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Hoe moet dat? Inventarisatie van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Hoe wordt het uitgevoer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nzet mens en materieel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Wannee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ijafstand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b7"/>
                </a:solidFill>
                <a:latin typeface="Arial Black"/>
              </a:rPr>
              <a:t>OPZET BEHEERPLA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49640" y="1904760"/>
            <a:ext cx="659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Doelstelling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Randvoorwaar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treefbeeld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(Hoofd)beheergroep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Specificat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Arial"/>
              </a:rPr>
              <a:t>Werkpakket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DRIE DOELSTELLINGEN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70120" y="1904760"/>
            <a:ext cx="6175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nom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99ff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sthetis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b7"/>
                </a:solidFill>
                <a:latin typeface="Arial Black"/>
              </a:rPr>
              <a:t>Ecologisch: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79240" y="1904760"/>
            <a:ext cx="7365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Biotoopbehe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Kruidachtige gewass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Structuurvariat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Arial"/>
              </a:rPr>
              <a:t>Ecologische infrastructuu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8T17:45:17Z</dcterms:created>
  <dc:creator>Huub</dc:creator>
  <dc:description/>
  <dc:language>en-US</dc:language>
  <cp:lastModifiedBy>Jan van der Wiele</cp:lastModifiedBy>
  <dcterms:modified xsi:type="dcterms:W3CDTF">2018-11-21T09:14:43Z</dcterms:modified>
  <cp:revision>4</cp:revision>
  <dc:subject/>
  <dc:title>BEHEERPLAN</dc:title>
</cp:coreProperties>
</file>