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0666413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FBA0-AAD9-477C-923C-AFB8CFDE9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7FB6-1098-4EE4-9D10-716F7FCC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8D5F-D02B-4F52-AE0A-E209635C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640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216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028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640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3216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53D3-0636-4F39-A595-28F33A1F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65C9-8E39-4B7E-BE82-2138ADD6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ECB2-1094-4159-980E-7140F839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9221-F600-4B5B-B5CF-1FBFEC15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E3B7-C781-4F37-8117-FF793242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0280" y="642600"/>
            <a:ext cx="906768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6353-B33E-4D41-A3E9-A9D3BD9C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4743-F352-48AB-8698-AC920C28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9C5B-17B3-48A6-B576-8C73D7E8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34FE-1492-4F12-A2B1-CEC449A8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9920" y="6595560"/>
            <a:ext cx="222228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5000" y="6595560"/>
            <a:ext cx="33782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45320" y="6595560"/>
            <a:ext cx="22226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389D301-32B9-4B50-8BC1-1A9649028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193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SVEILIGHEI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99840" y="2498400"/>
            <a:ext cx="7467480" cy="34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61D0-4F91-4EBD-95A7-CB351B5E75D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0280" y="23004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2960" y="1419120"/>
            <a:ext cx="9067680" cy="14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or Heinrich en Veiligheidskundi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iner werd de dominotheorie opgest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948960" y="566748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74880" y="566748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487760" y="56674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222600" y="56674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024400" y="56674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2560" y="31748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19240" y="28526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76680" y="31748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89560" y="31748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26560" y="31748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24760" y="31748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43360" y="28526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56240" y="28526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91440" y="28526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093240" y="28526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948960" y="427212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222600" y="43005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8024400" y="42721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8024400" y="28526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222600" y="285264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487760" y="285264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774880" y="28526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948960" y="285264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774880" y="430200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487760" y="4249800"/>
            <a:ext cx="106704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745480" y="30178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23400" y="3259080"/>
            <a:ext cx="2473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745480" y="40068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123400" y="41450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78720" y="363204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43680" y="30178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1600" y="320688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84600" y="3230640"/>
            <a:ext cx="2494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365760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95600" y="4086360"/>
            <a:ext cx="247680" cy="2332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73520" y="3179880"/>
            <a:ext cx="247680" cy="2314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51360" y="36320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07040" y="401148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21600" y="417204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43680" y="39830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123400" y="46274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745480" y="4386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1600" y="559260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40280" y="49766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84600" y="462744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07040" y="54547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17920" y="5402160"/>
            <a:ext cx="24912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73520" y="46274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5029200"/>
            <a:ext cx="247680" cy="2332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21600" y="4654440"/>
            <a:ext cx="24732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23400" y="559260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745480" y="537840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43680" y="44658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78720" y="50068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43680" y="543096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759B-9DF2-4D24-B1DD-FDCAC0C0AAE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00280" y="17748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00280" y="1366920"/>
            <a:ext cx="90676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een is verantwoordelijk voor veilighe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E0A7-DE6B-4476-942A-FEA24084C90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 handelen / 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377280" y="2349360"/>
            <a:ext cx="0" cy="28162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8310240" y="516564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10600" y="267192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73960" y="267192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40640" y="2349360"/>
            <a:ext cx="0" cy="28162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27760" y="2349360"/>
            <a:ext cx="0" cy="28162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61080" y="2671920"/>
            <a:ext cx="0" cy="28144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7988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160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573600" y="5165640"/>
            <a:ext cx="1066680" cy="3207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860720" y="516564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0128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8310240" y="23493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8310240" y="392436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576840" y="2349360"/>
            <a:ext cx="106704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012840" y="392436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0128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860720" y="2349360"/>
            <a:ext cx="1066680" cy="322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860720" y="390060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573600" y="39006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2110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211040" y="39006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2110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132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142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07440" y="27050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918640" y="489888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29880" y="40892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029880" y="363528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029880" y="24922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5120" y="379584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20120" y="42274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763120" y="3129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763120" y="45496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407440" y="5037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84920" y="377352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94680" y="2514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84920" y="27050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4920" y="42274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72240" y="50594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94680" y="49514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94680" y="3508200"/>
            <a:ext cx="24768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94680" y="40672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8800" y="318132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81800" y="361152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59360" y="27273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5040" y="4576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81800" y="4927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59360" y="422748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5240" y="5614920"/>
            <a:ext cx="77360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0600" y="41878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35A2-2F6C-4806-9968-9EAF74B97BD2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lijke bestrating op de werkpl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oldoende beveiligingen op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ek aan orde en ne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sen, dampen of stof in de werk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oldoende verlichting of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772400" y="990720"/>
            <a:ext cx="2195640" cy="209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1579-36B1-4087-9000-4EC48B33A47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86000" y="2016000"/>
            <a:ext cx="6553080" cy="407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9FBA-8955-476B-9B05-18BC7DC3114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pen over een steiger waar steigerplanken zijn verwijd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stoere bink uith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slijpbril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l bevestigen aan ondeugdelijk ophang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oeropeningen niet afd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271E-FA33-4665-B73C-E297725269F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ha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5050080" cy="398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818F-BD00-46D5-B38C-811961259A3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elingen / gevaarlijk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lijk vaste verhouding tu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8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.o.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aarlijke sit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ED1A-2194-492F-AFDD-CB0F73ADB7B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00280" y="17748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00280" y="1366920"/>
            <a:ext cx="90676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pak van onveilige hande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n sto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ructie g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iplinaire 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9E17-F9D1-427A-9F05-0C7D8949363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heffen onveilig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809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f onveilige situaties op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09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gn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veiligen / afsche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sch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eren inscha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317C-EF36-4094-92A4-CF6C69A225C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 Theorie naar Prakt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 defini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mate van waarschijnlijkheid dat 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paald ongewenst effect zal optre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’s bij uw we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r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nis en vakbekwaam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ding (mentalit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3733920"/>
            <a:ext cx="5640480" cy="79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 = KANS x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25B7-F48A-4150-B04C-961A63D795A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00280" y="2808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00280" y="162540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60560" y="2976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056960" y="54687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815920" y="552132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576680" y="552132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6222600" y="546876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8070480" y="54687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056960" y="265428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27240" y="265428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3027240"/>
            <a:ext cx="0" cy="28162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270684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8480" y="297648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0760" y="2654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74080" y="297648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91440" y="2654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24760" y="297648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45160" y="2654280"/>
            <a:ext cx="25560" cy="2878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1056960" y="40212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815920" y="2706840"/>
            <a:ext cx="1066680" cy="3204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576680" y="2654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222600" y="2654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8070480" y="2654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815920" y="402120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576680" y="402120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22260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8070480" y="39988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82160" y="298116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791560" y="2819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43680" y="2819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1600" y="298116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73520" y="298116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14560" y="30607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3700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95960" y="378468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940280" y="33829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73520" y="434808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48560" y="335916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21600" y="40258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4368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79156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69120" y="39225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791560" y="37623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3700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27240" y="43480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21600" y="44290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169120" y="43768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43680" y="42670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1600" y="539424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4368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40280" y="4778280"/>
            <a:ext cx="24912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95960" y="523224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524800" y="4830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791560" y="5232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169120" y="5394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4720" y="5916600"/>
            <a:ext cx="9433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2DB2-65F4-46B6-8A03-63FAF5E5421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e grondsla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w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ku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w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74B3-9035-4D95-93A3-72580F1CF3D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00280" y="3330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htergro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48960" y="521028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774880" y="521028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487760" y="5210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6222600" y="5210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8024400" y="5210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52560" y="27176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19240" y="23954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76680" y="27176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89560" y="27176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026560" y="27176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24760" y="27176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3360" y="23954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556240" y="23954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91440" y="23954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093240" y="23954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948960" y="381492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222600" y="38433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8024400" y="38149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8024400" y="23954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222600" y="239544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487760" y="239544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774880" y="23954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948960" y="239544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774880" y="384480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4487760" y="3792600"/>
            <a:ext cx="106704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745480" y="25606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23400" y="2801880"/>
            <a:ext cx="2473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745480" y="35496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123400" y="36878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478720" y="317484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43680" y="25606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321600" y="274968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84600" y="2773440"/>
            <a:ext cx="2494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71600" y="320040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95600" y="3629160"/>
            <a:ext cx="247680" cy="2332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73520" y="2722680"/>
            <a:ext cx="247680" cy="2314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51360" y="31748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07040" y="355428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21600" y="371484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43680" y="35258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123400" y="41702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745480" y="39290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21600" y="513540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40280" y="45194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84600" y="417024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07040" y="49975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17920" y="4944960"/>
            <a:ext cx="24912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73520" y="4170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71600" y="4572000"/>
            <a:ext cx="247680" cy="2332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321600" y="4197240"/>
            <a:ext cx="24732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123400" y="513540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745480" y="492120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43680" y="4008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478720" y="4549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3680" y="497376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04720" y="5708520"/>
            <a:ext cx="9658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a50021"/>
                </a:solidFill>
                <a:latin typeface="Arial"/>
              </a:rPr>
              <a:t>Achtergro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A598-4688-47F1-AA06-7AD584F5D28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hter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herleiden tot vier hoofdcategorië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rakter en aan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voeding en op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rganisatorische en werk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ivé 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FFBD-9F4B-43F7-8788-3850CDF19FE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voorkom je een ongeva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1244520" y="5549760"/>
            <a:ext cx="1067040" cy="3225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2755800" y="549756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489360" y="54975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000640" y="549756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246320" y="3056040"/>
            <a:ext cx="0" cy="28162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13000" y="2735280"/>
            <a:ext cx="0" cy="28144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57600" y="300528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24280" y="268272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491160" y="3005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069480" y="268272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02440" y="3005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558200" y="268272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6489360" y="268272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755800" y="268272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755800" y="40496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1244520" y="4102200"/>
            <a:ext cx="106704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1244520" y="2735280"/>
            <a:ext cx="1067040" cy="3207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648936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8000640" y="40496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8000640" y="268272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609560" y="3543480"/>
            <a:ext cx="247680" cy="2314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54440" y="3008160"/>
            <a:ext cx="24768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7652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98480" y="491184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54440" y="44053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7652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88000" y="450864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099280" y="4429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72172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10440" y="42688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588000" y="40258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21044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547380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21044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099280" y="54738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099280" y="394668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588000" y="306072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099280" y="30607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721720" y="2900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210440" y="2900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721720" y="3784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454960" y="34639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721720" y="5313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454960" y="4911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711680" y="2090880"/>
            <a:ext cx="1440" cy="1447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4711320" y="3218040"/>
            <a:ext cx="1066680" cy="3204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711320" y="177012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78360" y="1770120"/>
            <a:ext cx="1800" cy="144792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711320" y="40176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4711680" y="720360"/>
            <a:ext cx="0" cy="136692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778360" y="401400"/>
            <a:ext cx="0" cy="13683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432400" y="2981160"/>
            <a:ext cx="24768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76720" y="24987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9960" y="217800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BB2B-5308-462E-8886-02BBFEFA5C3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tapp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pen / Ophe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en onderzo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tregelen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eren op resul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ECD2-EAC7-4CC9-B36F-176784BE490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00280" y="32220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00280" y="1528920"/>
            <a:ext cx="906768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f risicobeperken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ast, orde en netheid,bedrijfsblindheid, sl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dures, BHV team, verantwoordelijkheden, toezich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techn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werp, opstelling, spanningen, statische elektriciteit, lawaai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m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waai, brandblusmiddelen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borde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8267-AE34-4B8A-9549-AA856DC1661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2" name="" descr=""/>
          <p:cNvPicPr/>
          <p:nvPr/>
        </p:nvPicPr>
        <p:blipFill>
          <a:blip r:embed="rId7"/>
          <a:stretch/>
        </p:blipFill>
        <p:spPr>
          <a:xfrm>
            <a:off x="557280" y="380880"/>
            <a:ext cx="9744120" cy="616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10D5-E406-4D2E-BB22-0513F7ED1FAC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s er toch een ongeval gebe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veiligings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persoonlijke bescherming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afzetten van het werkgeb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plaatsen van waarschuwingsb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gastest appar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rgen voor brandblussers en een juiste instr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dekken van putten en riole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werkvergun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scherming tegen vallende voorwer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DB9F-AE48-4BD4-A667-511987CF721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zonder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at gev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middellijk melden bij directe chef betrokk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roffen persoon naar verband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jna-ongeval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14400" y="4508640"/>
            <a:ext cx="8839080" cy="1920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j moeten met een formulier gemel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orden aan 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erkgever.  Deze heeft da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kans om hem t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onderzoeken zoda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ze situatie / handeling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de toekom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een scha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n/of letsel tot gevolg heef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ABA3-5128-4E3D-9AA5-6A361E06AE3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 en Veilig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 en bijna-ong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09640" y="5153040"/>
            <a:ext cx="9137520" cy="111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bewust nemen van 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vaardbaar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9640" y="2739960"/>
            <a:ext cx="9048600" cy="1133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ongeval is een ongewen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beurtenis met schade en/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tot gevo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1BB3-62C9-499A-8C2D-9384029C9F8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fonisch waarschuwen (1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am en af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ats 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rd van de verwon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tal slachto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 ambulance moet 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at plaats herh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2960640" cy="399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D0DB-B9F0-4FA4-8B24-CA4BCA317949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schuw de directe chef van het slachtoff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rg voor coördinatie bij hul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schuw veiligheidsdien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 op eigen veiligheid bij red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en geschoolde personen mogen EHBO verl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ets aan werkomgeving verande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0C88-C477-47E3-8E2B-4C581B0355D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etstoepassing en werkonderbrek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 bestaat het recht op werkonderbreking als vold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an de volgende 3 voorwaa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aat om gevaar voor uzelf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vaar dreigt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directe chef is ervan op de hoogte gebrac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7603-2292-4BEB-B717-E356691044A6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meld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354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onderscheiden drie soor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 met ernsti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 zonder ernsti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na-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2840" y="5638680"/>
            <a:ext cx="8782200" cy="955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 ongevallen di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eld te wo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9B5E-603C-4EA4-A414-01A13D5274D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02120" y="642960"/>
            <a:ext cx="4608720" cy="6361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0680" y="666720"/>
            <a:ext cx="63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ijsbergtheorie,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e is “top”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 je ziet is maar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CC8B-5B3D-45CC-9B23-9213686AE667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0280" y="280800"/>
            <a:ext cx="9067680" cy="96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ijsbergtheo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0280" y="5105520"/>
            <a:ext cx="9067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e ongevallen terugdringen do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trijd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/ situa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bij de rol van de direct  leidinggevende cruciaal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1539720"/>
            <a:ext cx="6865920" cy="3302280"/>
          </a:xfrm>
          <a:custGeom>
            <a:avLst/>
            <a:gdLst/>
            <a:ahLst/>
            <a:rect l="l" t="t" r="r" b="b"/>
            <a:pathLst>
              <a:path w="2935" h="3065">
                <a:moveTo>
                  <a:pt x="1622" y="10"/>
                </a:moveTo>
                <a:lnTo>
                  <a:pt x="1565" y="0"/>
                </a:lnTo>
                <a:lnTo>
                  <a:pt x="1526" y="130"/>
                </a:lnTo>
                <a:lnTo>
                  <a:pt x="1448" y="209"/>
                </a:lnTo>
                <a:lnTo>
                  <a:pt x="1422" y="313"/>
                </a:lnTo>
                <a:lnTo>
                  <a:pt x="1343" y="391"/>
                </a:lnTo>
                <a:lnTo>
                  <a:pt x="1304" y="430"/>
                </a:lnTo>
                <a:lnTo>
                  <a:pt x="1278" y="470"/>
                </a:lnTo>
                <a:lnTo>
                  <a:pt x="1278" y="509"/>
                </a:lnTo>
                <a:lnTo>
                  <a:pt x="1278" y="548"/>
                </a:lnTo>
                <a:lnTo>
                  <a:pt x="1226" y="561"/>
                </a:lnTo>
                <a:lnTo>
                  <a:pt x="1187" y="561"/>
                </a:lnTo>
                <a:lnTo>
                  <a:pt x="1174" y="522"/>
                </a:lnTo>
                <a:lnTo>
                  <a:pt x="1174" y="483"/>
                </a:lnTo>
                <a:lnTo>
                  <a:pt x="1174" y="456"/>
                </a:lnTo>
                <a:lnTo>
                  <a:pt x="1135" y="483"/>
                </a:lnTo>
                <a:lnTo>
                  <a:pt x="1109" y="522"/>
                </a:lnTo>
                <a:lnTo>
                  <a:pt x="1109" y="574"/>
                </a:lnTo>
                <a:lnTo>
                  <a:pt x="1109" y="613"/>
                </a:lnTo>
                <a:lnTo>
                  <a:pt x="1109" y="652"/>
                </a:lnTo>
                <a:lnTo>
                  <a:pt x="1096" y="691"/>
                </a:lnTo>
                <a:lnTo>
                  <a:pt x="1096" y="730"/>
                </a:lnTo>
                <a:lnTo>
                  <a:pt x="1070" y="769"/>
                </a:lnTo>
                <a:lnTo>
                  <a:pt x="1070" y="796"/>
                </a:lnTo>
                <a:lnTo>
                  <a:pt x="1070" y="835"/>
                </a:lnTo>
                <a:lnTo>
                  <a:pt x="1057" y="874"/>
                </a:lnTo>
                <a:lnTo>
                  <a:pt x="1057" y="926"/>
                </a:lnTo>
                <a:lnTo>
                  <a:pt x="1043" y="965"/>
                </a:lnTo>
                <a:lnTo>
                  <a:pt x="1043" y="1004"/>
                </a:lnTo>
                <a:lnTo>
                  <a:pt x="1030" y="1043"/>
                </a:lnTo>
                <a:lnTo>
                  <a:pt x="1017" y="1095"/>
                </a:lnTo>
                <a:lnTo>
                  <a:pt x="1017" y="1122"/>
                </a:lnTo>
                <a:lnTo>
                  <a:pt x="991" y="1161"/>
                </a:lnTo>
                <a:lnTo>
                  <a:pt x="978" y="1239"/>
                </a:lnTo>
                <a:lnTo>
                  <a:pt x="965" y="1278"/>
                </a:lnTo>
                <a:lnTo>
                  <a:pt x="939" y="1317"/>
                </a:lnTo>
                <a:lnTo>
                  <a:pt x="939" y="1356"/>
                </a:lnTo>
                <a:lnTo>
                  <a:pt x="913" y="1395"/>
                </a:lnTo>
                <a:lnTo>
                  <a:pt x="900" y="1474"/>
                </a:lnTo>
                <a:lnTo>
                  <a:pt x="887" y="1552"/>
                </a:lnTo>
                <a:lnTo>
                  <a:pt x="861" y="1591"/>
                </a:lnTo>
                <a:lnTo>
                  <a:pt x="822" y="1617"/>
                </a:lnTo>
                <a:lnTo>
                  <a:pt x="783" y="1630"/>
                </a:lnTo>
                <a:lnTo>
                  <a:pt x="744" y="1630"/>
                </a:lnTo>
                <a:lnTo>
                  <a:pt x="704" y="1656"/>
                </a:lnTo>
                <a:lnTo>
                  <a:pt x="665" y="1656"/>
                </a:lnTo>
                <a:lnTo>
                  <a:pt x="626" y="1643"/>
                </a:lnTo>
                <a:lnTo>
                  <a:pt x="626" y="1604"/>
                </a:lnTo>
                <a:lnTo>
                  <a:pt x="600" y="1565"/>
                </a:lnTo>
                <a:lnTo>
                  <a:pt x="587" y="1526"/>
                </a:lnTo>
                <a:lnTo>
                  <a:pt x="561" y="1565"/>
                </a:lnTo>
                <a:lnTo>
                  <a:pt x="548" y="1604"/>
                </a:lnTo>
                <a:lnTo>
                  <a:pt x="522" y="1643"/>
                </a:lnTo>
                <a:lnTo>
                  <a:pt x="483" y="1682"/>
                </a:lnTo>
                <a:lnTo>
                  <a:pt x="457" y="1734"/>
                </a:lnTo>
                <a:lnTo>
                  <a:pt x="444" y="1774"/>
                </a:lnTo>
                <a:lnTo>
                  <a:pt x="444" y="1813"/>
                </a:lnTo>
                <a:lnTo>
                  <a:pt x="444" y="1865"/>
                </a:lnTo>
                <a:lnTo>
                  <a:pt x="444" y="1917"/>
                </a:lnTo>
                <a:lnTo>
                  <a:pt x="444" y="2047"/>
                </a:lnTo>
                <a:lnTo>
                  <a:pt x="418" y="2100"/>
                </a:lnTo>
                <a:lnTo>
                  <a:pt x="391" y="2191"/>
                </a:lnTo>
                <a:lnTo>
                  <a:pt x="352" y="2282"/>
                </a:lnTo>
                <a:lnTo>
                  <a:pt x="339" y="2321"/>
                </a:lnTo>
                <a:lnTo>
                  <a:pt x="326" y="2360"/>
                </a:lnTo>
                <a:lnTo>
                  <a:pt x="313" y="2412"/>
                </a:lnTo>
                <a:lnTo>
                  <a:pt x="287" y="2439"/>
                </a:lnTo>
                <a:lnTo>
                  <a:pt x="274" y="2517"/>
                </a:lnTo>
                <a:lnTo>
                  <a:pt x="235" y="2543"/>
                </a:lnTo>
                <a:lnTo>
                  <a:pt x="196" y="2543"/>
                </a:lnTo>
                <a:lnTo>
                  <a:pt x="157" y="2543"/>
                </a:lnTo>
                <a:lnTo>
                  <a:pt x="118" y="2543"/>
                </a:lnTo>
                <a:lnTo>
                  <a:pt x="91" y="2543"/>
                </a:lnTo>
                <a:lnTo>
                  <a:pt x="65" y="2582"/>
                </a:lnTo>
                <a:lnTo>
                  <a:pt x="52" y="2621"/>
                </a:lnTo>
                <a:lnTo>
                  <a:pt x="26" y="2673"/>
                </a:lnTo>
                <a:lnTo>
                  <a:pt x="13" y="2712"/>
                </a:lnTo>
                <a:lnTo>
                  <a:pt x="0" y="2765"/>
                </a:lnTo>
                <a:lnTo>
                  <a:pt x="0" y="2804"/>
                </a:lnTo>
                <a:lnTo>
                  <a:pt x="26" y="2843"/>
                </a:lnTo>
                <a:lnTo>
                  <a:pt x="78" y="2882"/>
                </a:lnTo>
                <a:lnTo>
                  <a:pt x="105" y="2908"/>
                </a:lnTo>
                <a:lnTo>
                  <a:pt x="157" y="2947"/>
                </a:lnTo>
                <a:lnTo>
                  <a:pt x="209" y="2986"/>
                </a:lnTo>
                <a:lnTo>
                  <a:pt x="261" y="3012"/>
                </a:lnTo>
                <a:lnTo>
                  <a:pt x="365" y="3038"/>
                </a:lnTo>
                <a:lnTo>
                  <a:pt x="470" y="3051"/>
                </a:lnTo>
                <a:lnTo>
                  <a:pt x="652" y="3051"/>
                </a:lnTo>
                <a:lnTo>
                  <a:pt x="913" y="3064"/>
                </a:lnTo>
                <a:lnTo>
                  <a:pt x="1226" y="3064"/>
                </a:lnTo>
                <a:lnTo>
                  <a:pt x="1487" y="3064"/>
                </a:lnTo>
                <a:lnTo>
                  <a:pt x="1617" y="3064"/>
                </a:lnTo>
                <a:lnTo>
                  <a:pt x="1656" y="3064"/>
                </a:lnTo>
                <a:lnTo>
                  <a:pt x="1696" y="3064"/>
                </a:lnTo>
                <a:lnTo>
                  <a:pt x="1735" y="3064"/>
                </a:lnTo>
                <a:lnTo>
                  <a:pt x="1813" y="3064"/>
                </a:lnTo>
                <a:lnTo>
                  <a:pt x="1943" y="3064"/>
                </a:lnTo>
                <a:lnTo>
                  <a:pt x="2100" y="3064"/>
                </a:lnTo>
                <a:lnTo>
                  <a:pt x="2230" y="3064"/>
                </a:lnTo>
                <a:lnTo>
                  <a:pt x="2361" y="3064"/>
                </a:lnTo>
                <a:lnTo>
                  <a:pt x="2517" y="3064"/>
                </a:lnTo>
                <a:lnTo>
                  <a:pt x="2674" y="3064"/>
                </a:lnTo>
                <a:lnTo>
                  <a:pt x="2778" y="3051"/>
                </a:lnTo>
                <a:lnTo>
                  <a:pt x="2830" y="3012"/>
                </a:lnTo>
                <a:lnTo>
                  <a:pt x="2882" y="2973"/>
                </a:lnTo>
                <a:lnTo>
                  <a:pt x="2908" y="2934"/>
                </a:lnTo>
                <a:lnTo>
                  <a:pt x="2934" y="2895"/>
                </a:lnTo>
                <a:lnTo>
                  <a:pt x="2934" y="2843"/>
                </a:lnTo>
                <a:lnTo>
                  <a:pt x="2934" y="2804"/>
                </a:lnTo>
                <a:lnTo>
                  <a:pt x="2908" y="2765"/>
                </a:lnTo>
                <a:lnTo>
                  <a:pt x="2869" y="2765"/>
                </a:lnTo>
                <a:lnTo>
                  <a:pt x="2791" y="2765"/>
                </a:lnTo>
                <a:lnTo>
                  <a:pt x="2713" y="2752"/>
                </a:lnTo>
                <a:lnTo>
                  <a:pt x="2608" y="2738"/>
                </a:lnTo>
                <a:lnTo>
                  <a:pt x="2530" y="2725"/>
                </a:lnTo>
                <a:lnTo>
                  <a:pt x="2491" y="2712"/>
                </a:lnTo>
                <a:lnTo>
                  <a:pt x="2465" y="2673"/>
                </a:lnTo>
                <a:lnTo>
                  <a:pt x="2426" y="2634"/>
                </a:lnTo>
                <a:lnTo>
                  <a:pt x="2400" y="2530"/>
                </a:lnTo>
                <a:lnTo>
                  <a:pt x="2374" y="2426"/>
                </a:lnTo>
                <a:lnTo>
                  <a:pt x="2361" y="2399"/>
                </a:lnTo>
                <a:lnTo>
                  <a:pt x="2348" y="2347"/>
                </a:lnTo>
                <a:lnTo>
                  <a:pt x="2348" y="2295"/>
                </a:lnTo>
                <a:lnTo>
                  <a:pt x="2348" y="2191"/>
                </a:lnTo>
                <a:lnTo>
                  <a:pt x="2348" y="2152"/>
                </a:lnTo>
                <a:lnTo>
                  <a:pt x="2361" y="2113"/>
                </a:lnTo>
                <a:lnTo>
                  <a:pt x="2374" y="2073"/>
                </a:lnTo>
                <a:lnTo>
                  <a:pt x="2374" y="2034"/>
                </a:lnTo>
                <a:lnTo>
                  <a:pt x="2374" y="1995"/>
                </a:lnTo>
                <a:lnTo>
                  <a:pt x="2348" y="1943"/>
                </a:lnTo>
                <a:lnTo>
                  <a:pt x="2308" y="1904"/>
                </a:lnTo>
                <a:lnTo>
                  <a:pt x="2295" y="1865"/>
                </a:lnTo>
                <a:lnTo>
                  <a:pt x="2269" y="1826"/>
                </a:lnTo>
                <a:lnTo>
                  <a:pt x="2269" y="1787"/>
                </a:lnTo>
                <a:lnTo>
                  <a:pt x="2256" y="1760"/>
                </a:lnTo>
                <a:lnTo>
                  <a:pt x="2243" y="1682"/>
                </a:lnTo>
                <a:lnTo>
                  <a:pt x="2230" y="1643"/>
                </a:lnTo>
                <a:lnTo>
                  <a:pt x="2217" y="1591"/>
                </a:lnTo>
                <a:lnTo>
                  <a:pt x="2217" y="1487"/>
                </a:lnTo>
                <a:lnTo>
                  <a:pt x="2204" y="1382"/>
                </a:lnTo>
                <a:lnTo>
                  <a:pt x="2191" y="1343"/>
                </a:lnTo>
                <a:lnTo>
                  <a:pt x="2178" y="1291"/>
                </a:lnTo>
                <a:lnTo>
                  <a:pt x="2139" y="1265"/>
                </a:lnTo>
                <a:lnTo>
                  <a:pt x="2100" y="1265"/>
                </a:lnTo>
                <a:lnTo>
                  <a:pt x="2061" y="1265"/>
                </a:lnTo>
                <a:lnTo>
                  <a:pt x="2035" y="1226"/>
                </a:lnTo>
                <a:lnTo>
                  <a:pt x="2022" y="1122"/>
                </a:lnTo>
                <a:lnTo>
                  <a:pt x="2022" y="1082"/>
                </a:lnTo>
                <a:lnTo>
                  <a:pt x="2022" y="1043"/>
                </a:lnTo>
                <a:lnTo>
                  <a:pt x="2035" y="1004"/>
                </a:lnTo>
                <a:lnTo>
                  <a:pt x="2061" y="965"/>
                </a:lnTo>
                <a:lnTo>
                  <a:pt x="2061" y="926"/>
                </a:lnTo>
                <a:lnTo>
                  <a:pt x="2048" y="887"/>
                </a:lnTo>
                <a:lnTo>
                  <a:pt x="2022" y="848"/>
                </a:lnTo>
                <a:lnTo>
                  <a:pt x="1982" y="743"/>
                </a:lnTo>
                <a:lnTo>
                  <a:pt x="1969" y="665"/>
                </a:lnTo>
                <a:lnTo>
                  <a:pt x="1956" y="626"/>
                </a:lnTo>
                <a:lnTo>
                  <a:pt x="1943" y="574"/>
                </a:lnTo>
                <a:lnTo>
                  <a:pt x="1930" y="535"/>
                </a:lnTo>
                <a:lnTo>
                  <a:pt x="1852" y="456"/>
                </a:lnTo>
                <a:lnTo>
                  <a:pt x="1826" y="417"/>
                </a:lnTo>
                <a:lnTo>
                  <a:pt x="1800" y="378"/>
                </a:lnTo>
                <a:lnTo>
                  <a:pt x="1774" y="339"/>
                </a:lnTo>
                <a:lnTo>
                  <a:pt x="1735" y="300"/>
                </a:lnTo>
                <a:lnTo>
                  <a:pt x="1709" y="261"/>
                </a:lnTo>
                <a:lnTo>
                  <a:pt x="1682" y="222"/>
                </a:lnTo>
                <a:lnTo>
                  <a:pt x="1643" y="209"/>
                </a:lnTo>
                <a:lnTo>
                  <a:pt x="1630" y="170"/>
                </a:lnTo>
                <a:lnTo>
                  <a:pt x="1604" y="130"/>
                </a:lnTo>
                <a:lnTo>
                  <a:pt x="1578" y="91"/>
                </a:lnTo>
                <a:lnTo>
                  <a:pt x="1622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4340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28195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396252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1828800"/>
            <a:ext cx="1003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2286000"/>
            <a:ext cx="2125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t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2819520"/>
            <a:ext cx="2840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3429000"/>
            <a:ext cx="129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H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4191120"/>
            <a:ext cx="281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4224-7EC4-4623-B9B1-757BBED88A8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0280" y="281160"/>
            <a:ext cx="90676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ugdringen van onveilige handelingen/situ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0520" y="1606680"/>
            <a:ext cx="10199520" cy="5059080"/>
          </a:xfrm>
          <a:prstGeom prst="triangle">
            <a:avLst>
              <a:gd name="adj" fmla="val 49986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39880" y="5943600"/>
            <a:ext cx="7188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.000 gevallen van onveilige handelingen en/of situa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03280" y="5584680"/>
            <a:ext cx="797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27200" y="4800600"/>
            <a:ext cx="5778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000 (bijna) ongevallen met gering letsel/ehbo zonder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1840" y="4653000"/>
            <a:ext cx="617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4084560"/>
            <a:ext cx="4680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ongevallen met letsel met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3886200"/>
            <a:ext cx="460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62360" y="3200400"/>
            <a:ext cx="3400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0 ongevallen m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nstig letsel met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73600" y="3102120"/>
            <a:ext cx="303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2133720"/>
            <a:ext cx="318960" cy="91440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2362320"/>
            <a:ext cx="762120" cy="22860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2438280"/>
            <a:ext cx="78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3B9B-F49D-4900-A94B-C96ED754084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00280" y="281160"/>
            <a:ext cx="90676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ugdringen van onveilige handelingen/situ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1600200"/>
            <a:ext cx="3733560" cy="5059440"/>
          </a:xfrm>
          <a:prstGeom prst="triangle">
            <a:avLst>
              <a:gd name="adj" fmla="val 49986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594360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16440" y="5584680"/>
            <a:ext cx="2919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495288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48000" y="4653000"/>
            <a:ext cx="2262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408456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37080" y="3886200"/>
            <a:ext cx="1684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29040" y="3102120"/>
            <a:ext cx="1106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2514600"/>
            <a:ext cx="78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rbeidsongeval" descr=""/>
          <p:cNvPicPr/>
          <p:nvPr/>
        </p:nvPicPr>
        <p:blipFill>
          <a:blip r:embed="rId1"/>
          <a:stretch/>
        </p:blipFill>
        <p:spPr>
          <a:xfrm>
            <a:off x="838080" y="5410080"/>
            <a:ext cx="1771920" cy="1501920"/>
          </a:xfrm>
          <a:prstGeom prst="rect">
            <a:avLst/>
          </a:prstGeom>
          <a:ln w="0">
            <a:noFill/>
          </a:ln>
        </p:spPr>
      </p:pic>
      <p:pic>
        <p:nvPicPr>
          <p:cNvPr id="94" name="images" descr=""/>
          <p:cNvPicPr/>
          <p:nvPr/>
        </p:nvPicPr>
        <p:blipFill>
          <a:blip r:embed="rId2"/>
          <a:stretch/>
        </p:blipFill>
        <p:spPr>
          <a:xfrm>
            <a:off x="7467480" y="4572000"/>
            <a:ext cx="1524240" cy="1141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0" t="0" r="2107" b="0"/>
          <a:stretch/>
        </p:blipFill>
        <p:spPr>
          <a:xfrm>
            <a:off x="2847960" y="3657600"/>
            <a:ext cx="922320" cy="1305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553080" y="2666880"/>
            <a:ext cx="2362320" cy="1440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rcRect l="0" t="0" r="13984" b="0"/>
          <a:stretch/>
        </p:blipFill>
        <p:spPr>
          <a:xfrm>
            <a:off x="3886200" y="1981080"/>
            <a:ext cx="762120" cy="95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990B-78F0-4B85-8EA7-2DDC9DBC84D9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96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rzaken - Gevol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00280" y="1780920"/>
            <a:ext cx="9067680" cy="457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Heinrich en Lateiner werd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minotheorie ontwikk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at 5 onderd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htergro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karak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veilige handeling of situ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de en/of letsel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43F-ABFF-47F9-A2F2-91519A8BA64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4T18:39:37Z</dcterms:created>
  <dc:creator>Hajo Kleijburg</dc:creator>
  <dc:description>Revisie 0</dc:description>
  <dc:language>en-US</dc:language>
  <cp:lastModifiedBy>Robbert Oosterom</cp:lastModifiedBy>
  <cp:lastPrinted>2000-05-31T16:35:47Z</cp:lastPrinted>
  <dcterms:modified xsi:type="dcterms:W3CDTF">2013-09-26T21:38:03Z</dcterms:modified>
  <cp:revision>31</cp:revision>
  <dc:subject>Les 2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