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8DBE4-F48D-4A6D-80BB-B622F6D3317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371600" y="1143000"/>
            <a:ext cx="41148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s://www.rvo.nl/onderwerpen/agrarisch-ondernemen/dieren-houden/dierenwelzijn/antibiotica-gebruiken-de-veehouderij/zelf-toedienen-en/op-voorraad-hebben  </a:t>
            </a:r>
            <a:endParaRPr b="0" lang="en-US" sz="1200" spc="-1" strike="noStrike">
              <a:solidFill>
                <a:srgbClr val="000000"/>
              </a:solidFill>
              <a:latin typeface="Calibri"/>
            </a:endParaRPr>
          </a:p>
        </p:txBody>
      </p:sp>
      <p:sp>
        <p:nvSpPr>
          <p:cNvPr id="122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B0E5B-D261-4E1D-A2CD-5A552846359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371600" y="1143000"/>
            <a:ext cx="4114800" cy="3086280"/>
          </a:xfrm>
          <a:prstGeom prst="rect">
            <a:avLst/>
          </a:prstGeom>
          <a:ln w="0">
            <a:noFill/>
          </a:ln>
        </p:spPr>
      </p:sp>
      <p:sp>
        <p:nvSpPr>
          <p:cNvPr id="12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2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A4DC9-6CD5-4064-848E-69FAB18BB95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4CE55-7FB7-4B5E-854F-B6F2CA48F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E5C8-A9FB-4DC8-B642-68A4D487A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6769A-F9E9-4F96-8E06-733E5E944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EA618-A001-47A1-951E-53252761F8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CC11C-1985-446A-A92F-3601C4AB9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46A8F-7D1F-4BC4-A2BE-46253DDEA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09D54-E17B-4CBC-972C-B8C6D67C0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E4B06-E26D-4833-87E1-998044C1C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49D5B-012C-45BB-924B-1540C086C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948A1-8E16-449D-A602-FD4985709C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25B48D-1C26-432E-BD6C-9E7799170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5CEAB6-FFE0-42DC-9C8F-713C71BC3B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A425-54D4-41EA-BEE3-406D534C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41F541-6123-4C3D-B0CC-A8C36B9B05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29FF99-84C6-4BDC-B288-0BA214923F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F5AA26-839C-44A4-8996-5B7290B934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F4CC29-BA2D-4239-BBCF-F2E449D7D0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2C4275-C5C6-43B9-983B-98A3BAE409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9D17C1-A0C8-4C39-A26E-97B2F47605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C481A5-ABDF-4F06-9518-7FD75CC737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CDA7F2-49B4-4AD1-B755-3AA186F420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75B3FC-FF4B-4A05-9CFF-4ABE919F71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4C5EB8-34A4-49B3-B21B-C1638098E6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AB3E9-C749-49A3-861D-8762E4E9D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2B7D37-8D3F-4627-9F09-60494E1209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889EF4-DDAD-45E1-B681-0F5362B712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5AA406-541C-4C12-9CDB-64BDE97CF8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2BCCED-54C3-4B19-8EC1-47154F88CE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3CD599-257B-4049-A935-4B0240F29A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8E5B17-5A35-4D96-8336-CBCDDBCEDB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1DC034-44F4-4D45-9DB6-B3B2755060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BC0248-1DB1-4504-82F6-636FA87F3D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E026F9-2733-4461-97B0-6F86F49C7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D6118A-63D1-41BD-8E0B-16B72D4A8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B3B7A-80E0-47BB-A0DC-25D99C3DD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9585A2-FA3B-4B59-B711-A291639055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129A8A-2B93-4E2C-9387-75EDBF60EF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A8E5DE-A65A-46F9-B300-070542D153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90F464-3B80-49F7-9A89-362AABD4B6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293041-7E28-4433-83E5-480E0CA01F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31A8F8-07C1-4845-9A16-C170F390EF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F7FFC8-7483-4236-B52A-F7E09B760A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934FBE-9FC2-4D8A-873C-777926E2F0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CFE27B-D7B8-400C-A11B-BB9F64A721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6CBA3B-1221-4C56-BA0A-3B17E8B204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1DF48-97F1-4A83-9E87-FEFE27704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1D6CC0-7A63-4899-926D-F0B0D62AAA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9C44BE-C252-4703-8F80-1D33F11F9D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BA5125-8915-4AA9-9581-5C692108E8C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F76D68-B505-4F7A-B523-A12FCC97BF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A1B1D2-2D4D-40E0-9737-123C4CC491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BC29745-8252-40CB-ACA9-E0E0016164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A176E5-48A1-46C6-A513-13E87FFD6F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AB342A-80DD-4784-8940-F2440439FB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EE9425-9BBB-42C3-96B3-604072477D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8D0B5B-8BE1-495C-AC77-01712EF380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706E5-2FC0-410E-AF3C-A332158E8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11B393-1DF5-4C22-8D1B-D0F33BB4A5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92B6F2-98BA-4F8A-88E1-52B08FB6EA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0D6DC6-AFF4-4193-B2A7-87690EE8A1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630F2C-02EE-49F3-80AF-87FA4D9A2D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FC629A-538E-4210-9E35-F82C5597F8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6B1D6EA-BEC2-44EE-A0D3-95DAACDA58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69CDAF-7B92-4581-8815-C7AD3E21F7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AEF73C-E0E0-4ABB-98C0-D5EADD66063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E3F2A1-C5CE-4AF5-893A-A8E36A2E9E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3A32F6-05A2-436C-AE1C-6E95B7627F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EF499-A207-415B-9BFE-AA9EF3CA9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A68BBD-5556-4A4D-9B20-55D93AE4C3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303B1F-DFDB-4655-8964-D75AC5471E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B7A3C0-A459-4821-B04E-8E789A0316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6370B7-9201-4DE3-A723-F38C15DBD0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C870CD-E979-404C-9BA5-8056361CB2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C9D774-0450-4A04-8E14-34A9CA3DEF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16000D-0578-4E3D-ABA0-9729468544E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B3229B-F6E9-440E-8D93-FBD70645895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0CDD86-A713-4A6B-B45D-BB49CB98B6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3E5A858-048F-4ED3-869B-22A69428663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9263E-962E-4A40-9472-27EB49294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E291A4-2515-471D-918D-2A0B3208C6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D66507-773E-48ED-AF18-8E6EA717AD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07326C-0669-4D2E-8F0E-C7BD5B0D89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823575-1D8B-477A-93A1-3F1E6731E3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DB76B6-966D-4CF1-9332-A7ECE8A469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441BA6-51E2-4125-9377-2433C08AA0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18AC67-8C62-4D48-B8EF-FF3907C099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1C228F-0DBD-483C-9824-842072AD07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86A51E-C5CB-4A42-8D9B-D0CA18D72E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C7A229-9CB5-44D6-9E3F-2073FA4DACE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A7AF1-FBA1-4E10-8848-A23453152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823368-35F5-4E19-AD2F-3DEAC72199D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F76FF33-72B8-4EC1-B354-CCD028183E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2D6B63-7883-4F70-A5E5-4A7681BAB4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CAC91F-480A-4C0D-AEBD-085E16590F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B53D2A-B947-4828-B5A9-571E4EFF35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23AA2BE-0DC6-4442-A17A-79123B736F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0892EB-6E90-4A45-ABEC-B180B19351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2AC0B2-7D76-4C05-8FE5-2C61226D3C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3DA8B1-E6BA-47F7-B72D-F02A0E6F4D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CE2CC8-43B2-4C07-A6FE-5CA95A830D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6209B-2FE0-41E8-A5E6-87D01B90B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5B8159-0253-4B0D-9544-DD9AC528CC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CE3D55-AE09-4ED4-8C77-C17C3C01161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8158B7-D056-43CC-99B5-A368CD4FD72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6B1F63D-F7C3-421A-99AB-4E5F05D994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A4C2A6-30E7-4ACF-B094-F0665B1A61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2A88FE-9C06-44A0-8034-27D8CE159E3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DA4B09-BF53-4708-BB8D-0874FFAA54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063B64-9CBD-431E-A3C3-AA6F18E6E6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5A0A47-707A-4FAC-BB81-6F5F3A95CF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89D9A7-A2C1-4370-AC45-EA9BD3A3F0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55535-B74C-4764-A304-D4B29569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93DC-50A4-4E75-9F1B-4D48E9E05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D0F80F-28AB-4DB9-AB30-76DB4AF554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6E7699-042D-4FCE-851F-9733873305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EC8891-16E9-4E97-A480-A44FA421C7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90D09C5-C5E8-4C13-A9F4-9D4D4DF57A4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8770A7C-9A75-4379-AD9A-7D8D952F8F6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5F643-B2B9-4405-A571-B8DC5D71F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FC328-8FE3-4885-9A8A-F29D4771D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2A726-67C8-46C5-BB84-26FAD3930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8FC2C-B896-4A85-9B5A-C0CB17956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624FFF-CB0E-437B-9960-7BB5033F3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0C0ED-D8B5-442D-98E8-48EE39429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87F85-075F-4F23-8234-93462DEBB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C8C96-05AD-48CD-B94A-4935AFFBE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94168-5DA5-4487-BBA9-792A85BD0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C6DE-2B22-48A3-AC48-86563646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94B7B-515D-4C12-8D4F-2BD835C5C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A4136-51C2-4825-A6D0-4223B7665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D796C-444A-42B1-9F9B-2A8694A9B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F9449-8CCC-4840-AB7D-1D9CAEAC0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B8DCB-35F1-4833-8D61-06BB24AC9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3CAFA-BD28-4CDB-924D-30A95BCCE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12C3F-6A6C-4D14-A123-DEF7E1E36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86290-619E-4D17-8D82-841C34360C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E7121-6C4E-4BA1-8960-9907C09E3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38C04-5F3D-494F-A1F4-50C6C80E7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F4400-E35C-4537-B53F-8AA1DE9E5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B307D-9ED1-435A-B3CD-7076D0C84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71A5B-6E85-4111-AB00-25745ED69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2838F-BC4C-4D52-86F1-85F48DFF1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C96ED-FF4E-4424-B396-FF2F10D20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F785C-705F-4051-9B9B-4C5ADA70D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2B94A-20A7-4510-A7CD-E31E6C757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6D5DE-7FFE-4441-815C-2DC30AF57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AC4CF-D3B5-4F91-A4B5-0C25B047C6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33ACF6-C435-47AD-8578-95813319F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31D89D-96EB-4A1D-A219-DCD484CF92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857D3-34EB-4BC3-A266-48CAB864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C9A9E-FCEB-433C-8422-CCC93C7B6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6C0075-674E-4A81-AEA1-2EEB20E1E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2DC75-21EE-406D-9C3D-7D1047D2A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7BD6A-2ED6-4AFA-94D7-DF9309121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51FF0-7B84-459A-8768-42165F38F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1024A-8B65-4E4C-9F17-C65256EE8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0A559-B488-4823-B39F-82E7B4803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C8623-6306-4146-9CB9-CD609B5C7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1B721-02C4-4247-8F21-DF78C1FD0C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307032-6A4E-49DF-A07E-A730A9ABF0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C5D5-9EE3-40F9-9B1C-E8EFC90C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E1BB11-3A63-4E4E-AA74-C84995B05D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50500-F6CA-4150-8E3B-D5831EB87E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17B7D-0833-4CEA-BF42-3F040E552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1A5D8-93BC-4C75-A4B8-1E00541433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A7D003-094A-4973-B201-4DD45B1A8E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5A673-9621-46F5-9D6B-D0FD87A7D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9DBCE4-8ECC-47E9-8AF7-083F74E71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66A23-FDB6-47CD-B53B-4D344AAA1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AD579-651F-4355-B81D-2E39E1C5D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88D23-7693-4225-9C92-2FD6ED442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625A7-2F18-4B27-AC1C-4A202A7D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CFA08-A91B-4237-803C-A97F6354A4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5A322-920B-4834-A869-74930D1AC6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C994CA-EAF2-44C0-898D-D2F8802837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942DB6-0790-42AD-934D-783AB30E0F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6228E0-3B15-4E45-894A-5707D30BD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89B2A3-4992-4A39-A71D-6DF2B0F98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8F00B1-CAC9-4CEF-A02D-8966810EC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254BD4-E390-4EC0-8032-433C247FA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C8D26-4EE6-453B-A19F-108AD3F8E4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40AAB-43BF-4E16-AD5F-CCCDC42E7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3132D-3ED0-46E8-A772-70BA962E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7D396-C6E1-4409-B6E3-F0499A840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3D492-B013-477B-B3D0-09F75A974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980C0-67D1-4DC1-8ABE-6A27D5C65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6ED79B-A826-4BAB-872F-1848F4A4D1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279B64-3202-4BD1-BBE4-7FF92701CA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7C0C3-2342-4C11-81DC-DBA031DC9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8328D-F736-476A-9144-51618A6A0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1B5C3-82CA-41C6-9164-BF52969314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4F204-9D9C-49E1-991F-9A674ED74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491F1-8503-430D-A35F-C822F2919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E92FD-83B1-426D-A06A-B25A4DC8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581FD-9921-49A5-AD3D-490880C36D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F2C34-EF25-47BE-B3AA-3FE5B4332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F899E-DDF5-4E62-B604-79BEDDEF8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89A6D-945F-4D21-80F2-22199C3B5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1E94D-6DAB-40F7-8962-E7E95BB73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332EFE-A61D-4164-8ADA-FCBD8EB9D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497ECC-51ED-457B-991F-7CA426C8D2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CD4A2E-3FBC-43C5-9563-8E75834AC2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B4EEAE-6AC9-4806-85B9-A489748524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EDF77-47EB-4845-B582-69124D7A61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A54B8-3C32-4869-A5FD-C9262D1CC51A}"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BAB71-BB73-41E6-A29C-B9696ADB8CCD}"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45063-2E19-47ED-9A5C-E484D73CB0E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BE2F1-27C0-40A8-BE6D-25EBCDBDB06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BFECE-2FCF-4C55-9206-9E1CF61D18BB}"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alibri"/>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1BF01-0A6D-4C1C-9CB0-D84A831CC125}"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7D7E1-4C2F-4751-9366-D66C8D4424A8}"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76AF3-8A70-470B-9F76-023625575202}"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49B82-3F8F-4120-AF44-F4CEB493701D}"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219A9-E39C-4DE5-A162-7EFE90763136}"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603B8-775A-4A52-A342-13DF83EB7659}"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AF057-CB0E-4710-8308-3B886C80CA34}"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67CB5-83F1-4E4F-A20D-52235E7BEBB4}"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CE208-7B07-445E-828B-81B0818224C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1568E-6C9F-40CE-8ABE-29A02F0E82E0}"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9C3D3-1540-4526-BCC7-12CA6E7EA6CB}"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497F6-E97C-45A9-9026-43FFF946E393}" type="slidenum">
              <a:rPr b="0" lang="nl-NL"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0" y="660240"/>
            <a:ext cx="7772400" cy="1470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Antibiotica</a:t>
            </a:r>
            <a:br>
              <a:rPr sz="3600"/>
            </a:br>
            <a:r>
              <a:rPr b="0" lang="nl-NL" sz="2000" spc="-1" strike="noStrike">
                <a:solidFill>
                  <a:srgbClr val="262626"/>
                </a:solidFill>
                <a:latin typeface="Century Gothic"/>
              </a:rPr>
              <a:t>Gezondheidzorg V4.2</a:t>
            </a:r>
            <a:endParaRPr b="0" lang="en-US" sz="2000" spc="-1" strike="noStrike">
              <a:solidFill>
                <a:srgbClr val="262626"/>
              </a:solidFill>
              <a:latin typeface="Century Gothic"/>
            </a:endParaRPr>
          </a:p>
        </p:txBody>
      </p:sp>
      <p:pic>
        <p:nvPicPr>
          <p:cNvPr id="1184" name="Afbeelding 2" descr=""/>
          <p:cNvPicPr/>
          <p:nvPr/>
        </p:nvPicPr>
        <p:blipFill>
          <a:blip r:embed="rId1"/>
          <a:stretch/>
        </p:blipFill>
        <p:spPr>
          <a:xfrm>
            <a:off x="4359240" y="3365640"/>
            <a:ext cx="4199040" cy="27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kstvak 1"/>
          <p:cNvSpPr/>
          <p:nvPr/>
        </p:nvSpPr>
        <p:spPr>
          <a:xfrm>
            <a:off x="1474920" y="730080"/>
            <a:ext cx="7034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Op de volgende agarplaat hebben ze in het laboratorium een uitstrijkje gemaakt van een bacterie. Op deze plaat hebben ze een aantal schijfjes met verschillende antibiotica geplaatst om te laten zien welke antibiotica het beste de bacteriën remmen of doden. Daar waar het  grootste en helderste rondje om het schijfje zit werkt het antibioticum het beste.</a:t>
            </a:r>
            <a:endParaRPr b="0" lang="en-US" sz="1800" spc="-1" strike="noStrike">
              <a:solidFill>
                <a:srgbClr val="000000"/>
              </a:solidFill>
              <a:latin typeface="Calibri"/>
            </a:endParaRPr>
          </a:p>
        </p:txBody>
      </p:sp>
      <p:pic>
        <p:nvPicPr>
          <p:cNvPr id="1205" name="Tijdelijke aanduiding voor inhoud 3" descr="remming groei bacterie.tiff"/>
          <p:cNvPicPr/>
          <p:nvPr/>
        </p:nvPicPr>
        <p:blipFill>
          <a:blip r:embed="rId1"/>
          <a:srcRect l="832" t="0" r="1016" b="2331"/>
          <a:stretch/>
        </p:blipFill>
        <p:spPr>
          <a:xfrm>
            <a:off x="1474920" y="3160800"/>
            <a:ext cx="7486560" cy="3514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Bacterie of virus?</a:t>
            </a:r>
            <a:endParaRPr b="0" lang="en-US" sz="3600" spc="-1" strike="noStrike">
              <a:solidFill>
                <a:srgbClr val="262626"/>
              </a:solidFill>
              <a:latin typeface="Century Gothic"/>
            </a:endParaRPr>
          </a:p>
        </p:txBody>
      </p:sp>
      <p:sp>
        <p:nvSpPr>
          <p:cNvPr id="1207" name=""/>
          <p:cNvSpPr txBox="1"/>
          <p:nvPr/>
        </p:nvSpPr>
        <p:spPr>
          <a:xfrm>
            <a:off x="1753920" y="2160360"/>
            <a:ext cx="7196040" cy="56163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BVD</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almonell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IBR</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404040"/>
                </a:solidFill>
                <a:latin typeface="Century Gothic"/>
              </a:rPr>
              <a:t>Para TBC</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404040"/>
                </a:solidFill>
                <a:latin typeface="Century Gothic"/>
              </a:rPr>
              <a:t>Blauwtong</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Q-koorts</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chmallenberg</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Chlamydi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Pinkengriep</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Streptokokken</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Vogelgriep</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Coli</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MKZ</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404040"/>
                </a:solidFill>
                <a:latin typeface="Century Gothic"/>
              </a:rPr>
              <a:t>MRSA</a:t>
            </a:r>
            <a:endParaRPr b="0" lang="en-US" sz="1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Voorbeelden Virussen &amp; Bacteriën</a:t>
            </a:r>
            <a:endParaRPr b="0" lang="en-US" sz="3600" spc="-1" strike="noStrike">
              <a:solidFill>
                <a:srgbClr val="262626"/>
              </a:solidFill>
              <a:latin typeface="Century Gothic"/>
            </a:endParaRPr>
          </a:p>
        </p:txBody>
      </p:sp>
      <p:graphicFrame>
        <p:nvGraphicFramePr>
          <p:cNvPr id="1209" name=""/>
          <p:cNvGraphicFramePr/>
          <p:nvPr/>
        </p:nvGraphicFramePr>
        <p:xfrm>
          <a:off x="2438280" y="2755800"/>
          <a:ext cx="6096240" cy="296712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ffffff"/>
                          </a:solidFill>
                          <a:latin typeface="Century Gothic"/>
                        </a:rPr>
                        <a:t>Viru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ffffff"/>
                          </a:solidFill>
                          <a:latin typeface="Century Gothic"/>
                        </a:rPr>
                        <a:t>Bacteri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BV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almonel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71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IB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Para TB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Blauwto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Q-koo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chmallenber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Chlamyd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Pinkengrie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Streptokokk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Vogelgrie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Co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MKZ</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entury Gothic"/>
                        </a:rPr>
                        <a:t>MRS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bl>
          </a:graphicData>
        </a:graphic>
      </p:graphicFrame>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0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209"/>
                                        </p:tgtEl>
                                        <p:attrNameLst>
                                          <p:attrName>style.visibility</p:attrName>
                                        </p:attrNameLst>
                                      </p:cBhvr>
                                      <p:to>
                                        <p:strVal val="visible"/>
                                      </p:to>
                                    </p:set>
                                    <p:animEffect filter="fade" transition="in">
                                      <p:cBhvr additive="repl">
                                        <p:cTn id="50"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Bacterie of virus</a:t>
            </a:r>
            <a:endParaRPr b="0" lang="en-US" sz="3600" spc="-1" strike="noStrike">
              <a:solidFill>
                <a:srgbClr val="262626"/>
              </a:solidFill>
              <a:latin typeface="Century Gothic"/>
            </a:endParaRPr>
          </a:p>
        </p:txBody>
      </p:sp>
      <p:sp>
        <p:nvSpPr>
          <p:cNvPr id="1211"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Brucella Abortu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Leptospirose</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Miltvuur</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1561680" y="736200"/>
            <a:ext cx="6870600" cy="1320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Op welke manier kan je een dier antibiotica toedienen?</a:t>
            </a:r>
            <a:endParaRPr b="0" lang="en-US" sz="3200" spc="-1" strike="noStrike">
              <a:solidFill>
                <a:srgbClr val="404040"/>
              </a:solidFill>
              <a:latin typeface="Century Gothic"/>
            </a:endParaRPr>
          </a:p>
        </p:txBody>
      </p:sp>
      <p:sp>
        <p:nvSpPr>
          <p:cNvPr id="1213" name="Tijdelijke aanduiding voor inhoud 2"/>
          <p:cNvSpPr/>
          <p:nvPr/>
        </p:nvSpPr>
        <p:spPr>
          <a:xfrm>
            <a:off x="1562040" y="2108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Ingeven (bek) </a:t>
            </a: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Anaal/vaginaal</a:t>
            </a: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ea typeface="MS PGothic"/>
              </a:rPr>
              <a:t>inspuiten</a:t>
            </a:r>
            <a:endParaRPr b="0" lang="en-US" sz="18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de spieren (nek)/intramusculair</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Onder de huid/subcutaan</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het bloed/intraveneus</a:t>
            </a:r>
            <a:endParaRPr b="0" lang="en-US" sz="1600" spc="-1" strike="noStrike">
              <a:solidFill>
                <a:srgbClr val="000000"/>
              </a:solidFill>
              <a:latin typeface="Calibri"/>
            </a:endParaRPr>
          </a:p>
          <a:p>
            <a:pPr lvl="1" marL="743040" indent="-28584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Century Gothic"/>
                <a:ea typeface="MS PGothic"/>
              </a:rPr>
              <a:t>In het uier/intramamma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1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1574640" y="659880"/>
            <a:ext cx="7150320" cy="4526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Waarom kan je een kalf wel antibiotica oraal ( ingeven in de bek) geven en een koe niet?</a:t>
            </a:r>
            <a:endParaRPr b="0" lang="en-US" sz="3200" spc="-1" strike="noStrike">
              <a:solidFill>
                <a:srgbClr val="404040"/>
              </a:solidFill>
              <a:latin typeface="Century Gothic"/>
            </a:endParaRPr>
          </a:p>
        </p:txBody>
      </p:sp>
      <p:sp>
        <p:nvSpPr>
          <p:cNvPr id="1215" name="Rechthoek 1"/>
          <p:cNvSpPr/>
          <p:nvPr/>
        </p:nvSpPr>
        <p:spPr>
          <a:xfrm>
            <a:off x="2425680" y="3205080"/>
            <a:ext cx="629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Bij een kalf heb je nog geen ontwikkelde pens en gaat melk of water rechtstreeks naar de lebmaag. Bij een ontwikkelde pens worden alle medicijnen zoals antibiotica onwerkzaam gemaakt. Ook zou de penswerking verstoort of tot stilstand kunnen komen en dat wil je helemaal niet. Vandaar dat je medicijnen bij een koe inspuiten mo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663200" y="604440"/>
            <a:ext cx="71377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262626"/>
                </a:solidFill>
                <a:latin typeface="Century Gothic"/>
              </a:rPr>
              <a:t>Welke categorieën geneesmiddelen zijn er?</a:t>
            </a:r>
            <a:endParaRPr b="0" lang="en-US" sz="3200" spc="-1" strike="noStrike">
              <a:solidFill>
                <a:srgbClr val="262626"/>
              </a:solidFill>
              <a:latin typeface="Century Gothic"/>
            </a:endParaRPr>
          </a:p>
        </p:txBody>
      </p:sp>
      <p:sp>
        <p:nvSpPr>
          <p:cNvPr id="1217" name=""/>
          <p:cNvSpPr txBox="1"/>
          <p:nvPr/>
        </p:nvSpPr>
        <p:spPr>
          <a:xfrm>
            <a:off x="1663200" y="2077920"/>
            <a:ext cx="7137720" cy="601920"/>
          </a:xfrm>
          <a:prstGeom prst="rect">
            <a:avLst/>
          </a:prstGeom>
          <a:noFill/>
          <a:ln w="0">
            <a:noFill/>
          </a:ln>
        </p:spPr>
        <p:txBody>
          <a:bodyPr anchor="t">
            <a:normAutofit fontScale="2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1. Wat zijn de verschillende codes op een diergeneesmiddel en wat betekenen ze?</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2. Wat zijn eerste, tweede en derde keuze antibiotica</a:t>
            </a:r>
            <a:endParaRPr b="0" lang="en-US" sz="1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formularium</a:t>
            </a:r>
            <a:endParaRPr b="0" lang="en-US" sz="18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categorieën</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1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17">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1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txBox="1"/>
          <p:nvPr/>
        </p:nvSpPr>
        <p:spPr>
          <a:xfrm>
            <a:off x="2201400" y="1561680"/>
            <a:ext cx="6591240" cy="3778200"/>
          </a:xfrm>
          <a:prstGeom prst="rect">
            <a:avLst/>
          </a:prstGeom>
          <a:noFill/>
          <a:ln w="0">
            <a:noFill/>
          </a:ln>
        </p:spPr>
        <p:txBody>
          <a:bodyPr anchor="t">
            <a:normAutofit/>
          </a:bodyPr>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Zoek uit hoeveel antibiotica je in voorraad mag hebben voor welke dieren.</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staat er in het formularium rundvee en wat kun je hiermee?</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arom mag er geen antibiotica zitten in vlees of melk? </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zou er gebeuren als er toch antibiotica in de melk terechtkomen?</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kan er gebeuren als er toch restanten antibiotica in het vlees aangetroffen worden bij de keuring voor het slachten. </a:t>
            </a:r>
            <a:endParaRPr b="0" lang="en-US" sz="1800" spc="-1" strike="noStrike">
              <a:solidFill>
                <a:srgbClr val="404040"/>
              </a:solidFill>
              <a:latin typeface="Century Gothic"/>
            </a:endParaRPr>
          </a:p>
          <a:p>
            <a:pPr marL="343080" indent="-343080">
              <a:spcBef>
                <a:spcPts val="1001"/>
              </a:spcBef>
              <a:buClr>
                <a:srgbClr val="a53010"/>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Probiotica?</a:t>
            </a:r>
            <a:endParaRPr b="0" lang="en-US" sz="3600" spc="-1" strike="noStrike">
              <a:solidFill>
                <a:srgbClr val="262626"/>
              </a:solidFill>
              <a:latin typeface="Century Gothic"/>
            </a:endParaRPr>
          </a:p>
        </p:txBody>
      </p:sp>
      <p:sp>
        <p:nvSpPr>
          <p:cNvPr id="1220"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is het ?</a:t>
            </a:r>
            <a:br>
              <a:rPr sz="1800"/>
            </a:br>
            <a:r>
              <a:rPr b="0" lang="nl-NL"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Film</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film vd Heuvel op 18.38</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431640" y="6886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zijn antibiotica?</a:t>
            </a:r>
            <a:endParaRPr b="0" lang="en-US" sz="3600" spc="-1" strike="noStrike">
              <a:solidFill>
                <a:srgbClr val="262626"/>
              </a:solidFill>
              <a:latin typeface="Century Gothic"/>
            </a:endParaRPr>
          </a:p>
        </p:txBody>
      </p:sp>
      <p:sp>
        <p:nvSpPr>
          <p:cNvPr id="1186" name="Rechthoek 2"/>
          <p:cNvSpPr/>
          <p:nvPr/>
        </p:nvSpPr>
        <p:spPr>
          <a:xfrm>
            <a:off x="2946240" y="310032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Stoffen die de bacteriën doden of in de groei rem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1701720" y="685800"/>
            <a:ext cx="5524560" cy="3200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Century Gothic"/>
              </a:rPr>
              <a:t>Hoe doen antibiotica dat?</a:t>
            </a:r>
            <a:endParaRPr b="0" lang="en-US" sz="32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88" name="Rechthoek 2"/>
          <p:cNvSpPr/>
          <p:nvPr/>
        </p:nvSpPr>
        <p:spPr>
          <a:xfrm>
            <a:off x="1701720" y="2170080"/>
            <a:ext cx="6540480" cy="1922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Celwand kapot mak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Celwand groei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Eiwit aanmaak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Stofwisseling verstoren</a:t>
            </a: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000000"/>
                </a:solidFill>
                <a:latin typeface="Calibri"/>
                <a:ea typeface="MS PGothic"/>
              </a:rPr>
              <a:t>Bacterie celkern bouw en functie verstor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8">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8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88">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een virus?</a:t>
            </a:r>
            <a:endParaRPr b="0" lang="en-US" sz="3600" spc="-1" strike="noStrike">
              <a:solidFill>
                <a:srgbClr val="262626"/>
              </a:solidFill>
              <a:latin typeface="Century Gothic"/>
            </a:endParaRPr>
          </a:p>
        </p:txBody>
      </p:sp>
      <p:sp>
        <p:nvSpPr>
          <p:cNvPr id="1190"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is een virus?</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erkt antibiotica tegen een viru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91" name="Tekstvak 4"/>
          <p:cNvSpPr/>
          <p:nvPr/>
        </p:nvSpPr>
        <p:spPr>
          <a:xfrm>
            <a:off x="1600200" y="2552760"/>
            <a:ext cx="599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Virussen kunnen zich niet zelf voortplanten maar slechts met behulp van een gastheer Dit is te beschouwen is als de ultieme vorm van parasitisme. Virussen worden normaal niet als organisme gezien, omdat ze niet de noodzakelijke kenmerken van leven vertone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192" name="Tekstvak 6"/>
          <p:cNvSpPr/>
          <p:nvPr/>
        </p:nvSpPr>
        <p:spPr>
          <a:xfrm>
            <a:off x="1600200" y="4368960"/>
            <a:ext cx="6197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Antibiotica zijn niet effectief tegen virale infecties. De enige goede reden waarom soms antibiotica worden voorgeschreven als iemand een virale infectie heeft, is om te voorkomen dat een bacteriële-infectie als complicatie optreed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91"/>
                                        </p:tgtEl>
                                        <p:attrNameLst>
                                          <p:attrName>style.visibility</p:attrName>
                                        </p:attrNameLst>
                                      </p:cBhvr>
                                      <p:to>
                                        <p:strVal val="visible"/>
                                      </p:to>
                                    </p:set>
                                    <p:animEffect filter="fade" transition="in">
                                      <p:cBhvr additive="repl">
                                        <p:cTn id="27" dur="500"/>
                                        <p:tgtEl>
                                          <p:spTgt spid="119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192"/>
                                        </p:tgtEl>
                                        <p:attrNameLst>
                                          <p:attrName>style.visibility</p:attrName>
                                        </p:attrNameLst>
                                      </p:cBhvr>
                                      <p:to>
                                        <p:strVal val="visible"/>
                                      </p:to>
                                    </p:set>
                                    <p:animEffect filter="fade" transition="in">
                                      <p:cBhvr additive="repl">
                                        <p:cTn id="32"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een bacterie?</a:t>
            </a:r>
            <a:endParaRPr b="0" lang="en-US" sz="3600" spc="-1" strike="noStrike">
              <a:solidFill>
                <a:srgbClr val="262626"/>
              </a:solidFill>
              <a:latin typeface="Century Gothic"/>
            </a:endParaRPr>
          </a:p>
        </p:txBody>
      </p:sp>
      <p:sp>
        <p:nvSpPr>
          <p:cNvPr id="1194" name=""/>
          <p:cNvSpPr txBox="1"/>
          <p:nvPr/>
        </p:nvSpPr>
        <p:spPr>
          <a:xfrm>
            <a:off x="1942920" y="160452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 </a:t>
            </a:r>
            <a:r>
              <a:rPr b="0" lang="nl-NL" sz="1800" spc="-1" strike="noStrike">
                <a:solidFill>
                  <a:srgbClr val="404040"/>
                </a:solidFill>
                <a:latin typeface="Century Gothic"/>
              </a:rPr>
              <a:t>Wat zijn bacteriën? </a:t>
            </a:r>
            <a:br>
              <a:rPr sz="1800"/>
            </a:br>
            <a:br>
              <a:rPr sz="1800"/>
            </a:br>
            <a:r>
              <a:rPr b="0" lang="nl-NL"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doen bacterië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Kun je bacteriën zichtbaar maken?</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Wat zijn ‘gunstige’ omstandigheden voor een bacterie?</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95" name="Tekstvak 3"/>
          <p:cNvSpPr/>
          <p:nvPr/>
        </p:nvSpPr>
        <p:spPr>
          <a:xfrm>
            <a:off x="2311560" y="1523880"/>
            <a:ext cx="6591240" cy="41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0" i="1" lang="nl-NL" sz="1400" spc="-1" strike="noStrike">
                <a:solidFill>
                  <a:srgbClr val="000000"/>
                </a:solidFill>
                <a:latin typeface="Century Gothic"/>
              </a:rPr>
              <a:t>Bacteriën zijn eencellige organisme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0" i="1" lang="nl-NL" sz="1400" spc="-1" strike="noStrike">
                <a:solidFill>
                  <a:srgbClr val="000000"/>
                </a:solidFill>
                <a:latin typeface="Century Gothic"/>
              </a:rPr>
              <a:t>Ze groeien en delen. Hoe beter de omstandigheden voor de bacterie zijn, hoe sneller ze groeien en delen.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Thuis meestal niet, maar in een laboratorium zijn daar methodes voor. Met een microscoop zijn bacteriën wel te zien. Bacteriën worden vaak in het laboratorium gekweekt, bijvoorbeeld in een vloeistof of op een voedingsbodem.</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400" spc="-1" strike="noStrike">
                <a:solidFill>
                  <a:srgbClr val="000000"/>
                </a:solidFill>
                <a:latin typeface="Century Gothic"/>
              </a:rPr>
              <a:t>voor de meeste bacteriën zijn de omstandigheden optimaal als de omgeving vochtig en warm is, er een bepaalde zuurgraad (pH) heerst, er voldoende zuurstof is en er voedingsstoffen aanwezig zijn, zoals bijvoorbeeld suiker.</a:t>
            </a:r>
            <a:endParaRPr b="0" lang="en-US" sz="1400" spc="-1" strike="noStrike">
              <a:solidFill>
                <a:srgbClr val="000000"/>
              </a:solidFill>
              <a:latin typeface="Calibri"/>
            </a:endParaRPr>
          </a:p>
        </p:txBody>
      </p:sp>
      <p:sp>
        <p:nvSpPr>
          <p:cNvPr id="1196" name="Tekstvak 1"/>
          <p:cNvSpPr/>
          <p:nvPr/>
        </p:nvSpPr>
        <p:spPr>
          <a:xfrm>
            <a:off x="4280040" y="6110280"/>
            <a:ext cx="462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ea typeface="MS PGothic"/>
              </a:rPr>
              <a:t>Resistentie antibio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195"/>
                                        </p:tgtEl>
                                        <p:attrNameLst>
                                          <p:attrName>style.visibility</p:attrName>
                                        </p:attrNameLst>
                                      </p:cBhvr>
                                      <p:to>
                                        <p:strVal val="visible"/>
                                      </p:to>
                                    </p:set>
                                    <p:animEffect filter="fade" transition="in">
                                      <p:cBhvr additive="repl">
                                        <p:cTn id="39"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262626"/>
                </a:solidFill>
                <a:latin typeface="Century Gothic"/>
              </a:rPr>
              <a:t>Wat is het verschil tussen een bacterie en een virus?</a:t>
            </a:r>
            <a:endParaRPr b="0" lang="en-US" sz="3600" spc="-1" strike="noStrike">
              <a:solidFill>
                <a:srgbClr val="262626"/>
              </a:solidFill>
              <a:latin typeface="Century Gothic"/>
            </a:endParaRPr>
          </a:p>
        </p:txBody>
      </p:sp>
      <p:sp>
        <p:nvSpPr>
          <p:cNvPr id="1198" name=""/>
          <p:cNvSpPr txBox="1"/>
          <p:nvPr/>
        </p:nvSpPr>
        <p:spPr>
          <a:xfrm>
            <a:off x="1942920" y="2133360"/>
            <a:ext cx="65912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Century Gothic"/>
              </a:rPr>
              <a:t>Uitleg</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Tijdelijke aanduiding voor inhoud 3" descr="443px-Bacteria-.svg.png"/>
          <p:cNvPicPr/>
          <p:nvPr/>
        </p:nvPicPr>
        <p:blipFill>
          <a:blip r:embed="rId1"/>
          <a:srcRect l="0" t="10828" r="0" b="10828"/>
          <a:stretch/>
        </p:blipFill>
        <p:spPr>
          <a:xfrm>
            <a:off x="914400" y="1157400"/>
            <a:ext cx="8229600" cy="477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Afbeelding 1" descr=""/>
          <p:cNvPicPr/>
          <p:nvPr/>
        </p:nvPicPr>
        <p:blipFill>
          <a:blip r:embed="rId1"/>
          <a:stretch/>
        </p:blipFill>
        <p:spPr>
          <a:xfrm>
            <a:off x="2781360" y="546120"/>
            <a:ext cx="4584600" cy="575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Tekstvak 1"/>
          <p:cNvSpPr/>
          <p:nvPr/>
        </p:nvSpPr>
        <p:spPr>
          <a:xfrm>
            <a:off x="1810080" y="693720"/>
            <a:ext cx="6747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Hieronder kan je de bacteriegroei zien op een bloedagar pla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Op deze plaat zit een laagje agar gemengd met runder- of schapeblo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Bacteriën kunnen goed groeien op zo’n plaat omdat alle benodigd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Calibri"/>
                <a:ea typeface="MS PGothic"/>
              </a:rPr>
              <a:t>voedingsstoffen in bloed voorkomen.</a:t>
            </a:r>
            <a:endParaRPr b="0" lang="en-US" sz="1800" spc="-1" strike="noStrike">
              <a:solidFill>
                <a:srgbClr val="000000"/>
              </a:solidFill>
              <a:latin typeface="Calibri"/>
            </a:endParaRPr>
          </a:p>
        </p:txBody>
      </p:sp>
      <p:sp>
        <p:nvSpPr>
          <p:cNvPr id="1202" name="Tekstvak 2"/>
          <p:cNvSpPr/>
          <p:nvPr/>
        </p:nvSpPr>
        <p:spPr>
          <a:xfrm>
            <a:off x="1873800" y="258588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MS PGothic"/>
              </a:rPr>
              <a:t>Wat is agar?</a:t>
            </a:r>
            <a:endParaRPr b="0" lang="en-US" sz="2400" spc="-1" strike="noStrike">
              <a:solidFill>
                <a:srgbClr val="000000"/>
              </a:solidFill>
              <a:latin typeface="Calibri"/>
            </a:endParaRPr>
          </a:p>
        </p:txBody>
      </p:sp>
      <p:pic>
        <p:nvPicPr>
          <p:cNvPr id="1203" name="Tijdelijke aanduiding voor inhoud 3" descr="bacterie cultuur.tiff"/>
          <p:cNvPicPr/>
          <p:nvPr/>
        </p:nvPicPr>
        <p:blipFill>
          <a:blip r:embed="rId1"/>
          <a:srcRect l="0" t="1122" r="1643" b="5473"/>
          <a:stretch/>
        </p:blipFill>
        <p:spPr>
          <a:xfrm>
            <a:off x="4229280" y="2705040"/>
            <a:ext cx="4559040" cy="3949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3T09:17:24Z</dcterms:created>
  <dc:creator>Huibert Oosterveen</dc:creator>
  <dc:description/>
  <dc:language>en-US</dc:language>
  <cp:lastModifiedBy>Leon Raedts</cp:lastModifiedBy>
  <dcterms:modified xsi:type="dcterms:W3CDTF">2018-09-19T06:21:51Z</dcterms:modified>
  <cp:revision>64</cp:revision>
  <dc:subject/>
  <dc:title>Antibiotica</dc:title>
</cp:coreProperties>
</file>