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4.wmf" ContentType="image/x-wmf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6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7953-B9D8-47BD-B9CF-E09C5FACB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5708-2734-44A1-AF1C-27E5DA7DC289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F036-2156-41E3-A66B-3EEF495C2497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EDE6-F5CF-4654-BFC8-D39688851440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2C04-87E9-45DD-A85A-100D9034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5D8D-1689-4D7F-B11F-68DC63BE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5AF-8A5B-4B02-A987-6D00836F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686-D1CC-48D5-8985-8866936E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812F-9B28-4D74-9B44-8A8DFDB7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4784-4F4A-4601-BF18-118C43C0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5ED-DEF8-4CA0-9B05-8C69C4C7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E88-CC4F-416C-A759-88D0EB1F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259-8669-4374-B7BA-D5BCC502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5BC2-5CE6-443D-8EF6-F4E3273D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09F9-3139-4D98-86B2-9B181DE8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3C1D-4CFC-453A-8F2E-A2666DF3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01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FB0F-8421-4CAA-A17A-814FCD0071E4}" type="slidenum">
              <a:rPr b="0" lang="en-US" sz="14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bc.net.au/news/2015-08-11/japan-wwii-massacre-survivor-apology/6689610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26964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23e26"/>
                </a:solidFill>
                <a:latin typeface="Arial"/>
              </a:rPr>
              <a:t>Bloedbad van Nanking (1937)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20814600">
            <a:off x="4594320" y="1355400"/>
            <a:ext cx="379872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c00000"/>
                </a:solidFill>
                <a:latin typeface="Agency FB"/>
              </a:rPr>
              <a:t>Verfilmd</a:t>
            </a:r>
            <a:endParaRPr b="0" lang="en-US" sz="88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50" name="Afbeelding 5" descr=""/>
          <p:cNvPicPr/>
          <p:nvPr/>
        </p:nvPicPr>
        <p:blipFill>
          <a:blip r:embed="rId2"/>
          <a:stretch/>
        </p:blipFill>
        <p:spPr>
          <a:xfrm rot="4331400">
            <a:off x="-2869560" y="2329560"/>
            <a:ext cx="7773840" cy="2228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411280" y="3556080"/>
            <a:ext cx="6432840" cy="2989080"/>
          </a:xfrm>
          <a:prstGeom prst="rect">
            <a:avLst/>
          </a:prstGeom>
          <a:ln w="0">
            <a:noFill/>
          </a:ln>
        </p:spPr>
      </p:pic>
      <p:pic>
        <p:nvPicPr>
          <p:cNvPr id="52" name="Afbeelding 2" descr=""/>
          <p:cNvPicPr/>
          <p:nvPr/>
        </p:nvPicPr>
        <p:blipFill>
          <a:blip r:embed="rId4"/>
          <a:stretch/>
        </p:blipFill>
        <p:spPr>
          <a:xfrm rot="20629800">
            <a:off x="2673000" y="153000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1" descr=""/>
          <p:cNvPicPr/>
          <p:nvPr/>
        </p:nvPicPr>
        <p:blipFill>
          <a:blip r:embed="rId1"/>
          <a:stretch/>
        </p:blipFill>
        <p:spPr>
          <a:xfrm>
            <a:off x="207324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fbeelding 2" descr=""/>
          <p:cNvPicPr/>
          <p:nvPr/>
        </p:nvPicPr>
        <p:blipFill>
          <a:blip r:embed="rId1"/>
          <a:stretch/>
        </p:blipFill>
        <p:spPr>
          <a:xfrm>
            <a:off x="57240" y="404640"/>
            <a:ext cx="90867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"/>
          <p:cNvPicPr/>
          <p:nvPr/>
        </p:nvPicPr>
        <p:blipFill>
          <a:blip r:embed="rId1"/>
          <a:stretch/>
        </p:blipFill>
        <p:spPr>
          <a:xfrm>
            <a:off x="0" y="423720"/>
            <a:ext cx="914400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fbeelding 1" descr=""/>
          <p:cNvPicPr/>
          <p:nvPr/>
        </p:nvPicPr>
        <p:blipFill>
          <a:blip r:embed="rId1"/>
          <a:stretch/>
        </p:blipFill>
        <p:spPr>
          <a:xfrm>
            <a:off x="600120" y="0"/>
            <a:ext cx="794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Afbeeldingsresultaat voor rape of nank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3360"/>
            <a:ext cx="91645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523e26"/>
                </a:solidFill>
                <a:latin typeface="Arial"/>
              </a:rPr>
              <a:t>City of Life and Death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200" y="2141640"/>
            <a:ext cx="431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Ook bekend als:</a:t>
            </a:r>
            <a:br>
              <a:rPr sz="2800"/>
            </a:br>
            <a:r>
              <a:rPr b="0" i="1" lang="nl-NL" sz="2800" spc="-1" strike="noStrike">
                <a:solidFill>
                  <a:srgbClr val="2d2015"/>
                </a:solidFill>
                <a:latin typeface="Arial"/>
              </a:rPr>
              <a:t>Nanjing! Nanjing!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Jaar: 2008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Land: China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Regisseur: Lu Chua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Budget: 10 miljoen euro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IMDB-cijfer: 7,7/10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Duur: 132 minute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735360" y="1033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南京 南京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72" name="Afbeelding 8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4178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1" descr=""/>
          <p:cNvPicPr/>
          <p:nvPr/>
        </p:nvPicPr>
        <p:blipFill>
          <a:blip r:embed="rId1"/>
          <a:stretch/>
        </p:blipFill>
        <p:spPr>
          <a:xfrm>
            <a:off x="539640" y="-7920"/>
            <a:ext cx="802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3e26"/>
                </a:solidFill>
                <a:latin typeface="Arial"/>
              </a:rPr>
              <a:t>PROGRAMMA:</a:t>
            </a:r>
            <a:endParaRPr b="0" lang="en-US" sz="3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42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Arial"/>
              </a:rPr>
              <a:t>Informatie over het bloedbad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Uitleg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Video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Foto’s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Arial"/>
              </a:rPr>
              <a:t>Twee of drie films bekijken: 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City of Life and Death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 (2009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John Rabe 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(2009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The Flowers of War 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(2011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+ antwoordbladen invulle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 rot="5400000">
            <a:off x="5715000" y="3438720"/>
            <a:ext cx="43387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3" descr=""/>
          <p:cNvPicPr/>
          <p:nvPr/>
        </p:nvPicPr>
        <p:blipFill>
          <a:blip r:embed="rId2"/>
          <a:stretch/>
        </p:blipFill>
        <p:spPr>
          <a:xfrm>
            <a:off x="117360" y="0"/>
            <a:ext cx="890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fbeelding 1" descr="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fbeelding 1" descr="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1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fbeelding 1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fbeelding 1" descr=""/>
          <p:cNvPicPr/>
          <p:nvPr/>
        </p:nvPicPr>
        <p:blipFill>
          <a:blip r:embed="rId1"/>
          <a:stretch/>
        </p:blipFill>
        <p:spPr>
          <a:xfrm>
            <a:off x="1351080" y="0"/>
            <a:ext cx="644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3:35:23Z</dcterms:created>
  <dc:creator>Mark Baker</dc:creator>
  <dc:description/>
  <dc:language>en-US</dc:language>
  <cp:lastModifiedBy>Stefan Rops</cp:lastModifiedBy>
  <dcterms:modified xsi:type="dcterms:W3CDTF">2018-09-10T14:18:43Z</dcterms:modified>
  <cp:revision>133</cp:revision>
  <dc:subject/>
  <dc:title>PowerPoint Presentation  -  World War Two, 1939-1945</dc:title>
</cp:coreProperties>
</file>