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31E-C931-4DE0-B88E-56F03BFA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93D1-F2D1-4A06-9248-0E526F6C1737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D715-F177-42D6-887E-1EC114643202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7685-15CB-4970-A8F4-3181B8F762F8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360-2A3D-4D76-9E94-B0FDFC52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4E3-3BF0-4224-A833-1B7F7111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80A-59D2-4493-8B5B-FF19091C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440-B5DD-41D9-8BA8-9EE1788A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010-CD59-40D0-B4F2-9052A53F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D7A-77AD-4901-BAEF-FBECDD08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348-322A-4D9D-9556-0CBE10D7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A97-2BA0-4D20-8EAF-72B53238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4EC-3DCD-4757-9F8A-A81649C5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D5A-17A8-4B2D-BA7E-F98DD772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7B4-3D7C-4F8D-B542-35C3E93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B59-814C-4D1E-972F-011443C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01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323C-962F-4364-A51A-44CF066F4714}" type="slidenum">
              <a:rPr b="0" lang="en-US" sz="14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news/2015-08-11/japan-wwii-massacre-survivor-apology/668961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Bloedbad van Nanking (1937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0814600">
            <a:off x="4594320" y="1355400"/>
            <a:ext cx="3798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c00000"/>
                </a:solidFill>
                <a:latin typeface="Agency FB"/>
              </a:rPr>
              <a:t>Verfilmd</a:t>
            </a:r>
            <a:endParaRPr b="0" lang="en-US" sz="8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0" name="Afbeelding 5" descr=""/>
          <p:cNvPicPr/>
          <p:nvPr/>
        </p:nvPicPr>
        <p:blipFill>
          <a:blip r:embed="rId2"/>
          <a:stretch/>
        </p:blipFill>
        <p:spPr>
          <a:xfrm rot="4331400">
            <a:off x="-2869560" y="2329560"/>
            <a:ext cx="777384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411280" y="3556080"/>
            <a:ext cx="6432840" cy="298908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2" descr=""/>
          <p:cNvPicPr/>
          <p:nvPr/>
        </p:nvPicPr>
        <p:blipFill>
          <a:blip r:embed="rId4"/>
          <a:stretch/>
        </p:blipFill>
        <p:spPr>
          <a:xfrm rot="20629800">
            <a:off x="2673000" y="153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2" descr=""/>
          <p:cNvPicPr/>
          <p:nvPr/>
        </p:nvPicPr>
        <p:blipFill>
          <a:blip r:embed="rId1"/>
          <a:stretch/>
        </p:blipFill>
        <p:spPr>
          <a:xfrm>
            <a:off x="57240" y="404640"/>
            <a:ext cx="90867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"/>
          <p:cNvPicPr/>
          <p:nvPr/>
        </p:nvPicPr>
        <p:blipFill>
          <a:blip r:embed="rId1"/>
          <a:stretch/>
        </p:blipFill>
        <p:spPr>
          <a:xfrm>
            <a:off x="600120" y="0"/>
            <a:ext cx="79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fbeeldingsresultaat voor rape of nan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6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523e26"/>
                </a:solidFill>
                <a:latin typeface="Arial"/>
              </a:rPr>
              <a:t>City of Life and Death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200" y="2141640"/>
            <a:ext cx="43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Ook bekend als:</a:t>
            </a:r>
            <a:br>
              <a:rPr sz="2800"/>
            </a:br>
            <a:r>
              <a:rPr b="0" i="1" lang="nl-NL" sz="2800" spc="-1" strike="noStrike">
                <a:solidFill>
                  <a:srgbClr val="2d2015"/>
                </a:solidFill>
                <a:latin typeface="Arial"/>
              </a:rPr>
              <a:t>Nanjing! Nanjing!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Jaar: 2008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Land: China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Regisseur: Lu Chua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Budget: 10 miljoen eur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IMDB-cijfer: 7,7/10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Duur: 132 minut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5360" y="1033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南京 南京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17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Arial"/>
              </a:rPr>
              <a:t>PROGRAMMA:</a:t>
            </a:r>
            <a:endParaRPr b="0" lang="en-US" sz="3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Informatie over het bloedbad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Uitleg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Foto’s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Twee of drie films bekijken: 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City of Life and Death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 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John Rabe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The Flowers of War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11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+ antwoordbladen invull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rot="5400000">
            <a:off x="5715000" y="3438720"/>
            <a:ext cx="4338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"/>
          <p:cNvPicPr/>
          <p:nvPr/>
        </p:nvPicPr>
        <p:blipFill>
          <a:blip r:embed="rId2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"/>
          <p:cNvPicPr/>
          <p:nvPr/>
        </p:nvPicPr>
        <p:blipFill>
          <a:blip r:embed="rId1"/>
          <a:stretch/>
        </p:blipFill>
        <p:spPr>
          <a:xfrm>
            <a:off x="1351080" y="0"/>
            <a:ext cx="64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5:23Z</dcterms:created>
  <dc:creator>Mark Baker</dc:creator>
  <dc:description/>
  <dc:language>en-US</dc:language>
  <cp:lastModifiedBy>Stefan Rops</cp:lastModifiedBy>
  <dcterms:modified xsi:type="dcterms:W3CDTF">2018-09-10T14:18:43Z</dcterms:modified>
  <cp:revision>133</cp:revision>
  <dc:subject/>
  <dc:title>PowerPoint Presentation  -  World War Two, 1939-1945</dc:title>
</cp:coreProperties>
</file>