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D4C8-6B48-4815-AFA1-7CF09604D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DCA1-BF8E-4C12-A118-EAFF8943A8A0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3B88-B25A-4C60-B7F1-A0DE7627A1E4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CECB-8D58-4FDD-A06C-247B1A0A887A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75A-7167-46C8-B9FC-D2B15E9D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0A0-CD9B-45AD-BBF6-22F5EB00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EFF-8A2C-47F8-BF3B-5F679639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7D7-D43A-4F99-9186-0A887DCE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6CB-A872-43F8-9CF9-817B39C4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5E4-6192-412C-866E-B74B9A0A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60E-C3C1-4D33-98C9-A9AC0040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25B-B7B4-4067-A067-E3301A3E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64D-58DB-4152-8449-CB6D84B6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858-A7CD-4896-9F92-81EC3A8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9E2-4B31-415D-B13C-667EE9B8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336-AACA-4660-BBC7-ACB559D2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01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3567-F4F7-4A16-88A7-86CE95AA2A52}" type="slidenum">
              <a:rPr b="0" lang="en-US" sz="14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bc.net.au/news/2015-08-11/japan-wwii-massacre-survivor-apology/668961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6964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Bloedbad van Nanking (1937)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0814600">
            <a:off x="4594320" y="1355400"/>
            <a:ext cx="3798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c00000"/>
                </a:solidFill>
                <a:latin typeface="Agency FB"/>
              </a:rPr>
              <a:t>Verfilmd</a:t>
            </a:r>
            <a:endParaRPr b="0" lang="en-US" sz="8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0" name="Afbeelding 5" descr=""/>
          <p:cNvPicPr/>
          <p:nvPr/>
        </p:nvPicPr>
        <p:blipFill>
          <a:blip r:embed="rId2"/>
          <a:stretch/>
        </p:blipFill>
        <p:spPr>
          <a:xfrm rot="4331400">
            <a:off x="-2869560" y="2329560"/>
            <a:ext cx="777384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411280" y="3556080"/>
            <a:ext cx="6432840" cy="2989080"/>
          </a:xfrm>
          <a:prstGeom prst="rect">
            <a:avLst/>
          </a:prstGeom>
          <a:ln w="0">
            <a:noFill/>
          </a:ln>
        </p:spPr>
      </p:pic>
      <p:pic>
        <p:nvPicPr>
          <p:cNvPr id="52" name="Afbeelding 2" descr=""/>
          <p:cNvPicPr/>
          <p:nvPr/>
        </p:nvPicPr>
        <p:blipFill>
          <a:blip r:embed="rId4"/>
          <a:stretch/>
        </p:blipFill>
        <p:spPr>
          <a:xfrm rot="20629800">
            <a:off x="2673000" y="153000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2" descr=""/>
          <p:cNvPicPr/>
          <p:nvPr/>
        </p:nvPicPr>
        <p:blipFill>
          <a:blip r:embed="rId1"/>
          <a:stretch/>
        </p:blipFill>
        <p:spPr>
          <a:xfrm>
            <a:off x="57240" y="404640"/>
            <a:ext cx="90867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"/>
          <p:cNvPicPr/>
          <p:nvPr/>
        </p:nvPicPr>
        <p:blipFill>
          <a:blip r:embed="rId1"/>
          <a:stretch/>
        </p:blipFill>
        <p:spPr>
          <a:xfrm>
            <a:off x="600120" y="0"/>
            <a:ext cx="79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fbeeldingsresultaat voor rape of nan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645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523e26"/>
                </a:solidFill>
                <a:latin typeface="Arial"/>
              </a:rPr>
              <a:t>City of Life and Death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200" y="2141640"/>
            <a:ext cx="43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Ook bekend als:</a:t>
            </a:r>
            <a:br>
              <a:rPr sz="2800"/>
            </a:br>
            <a:r>
              <a:rPr b="0" i="1" lang="nl-NL" sz="2800" spc="-1" strike="noStrike">
                <a:solidFill>
                  <a:srgbClr val="2d2015"/>
                </a:solidFill>
                <a:latin typeface="Arial"/>
              </a:rPr>
              <a:t>Nanjing! Nanjing!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Jaar: 2008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Land: China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Regisseur: Lu Chua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Budget: 10 miljoen eur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IMDB-cijfer: 7,7/10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Duur: 132 minut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5360" y="1033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南京 南京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17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Arial"/>
              </a:rPr>
              <a:t>PROGRAMMA:</a:t>
            </a:r>
            <a:endParaRPr b="0" lang="en-US" sz="3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Informatie over het bloedbad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Uitleg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Foto’s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Twee of drie films bekijken: 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City of Life and Death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 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John Rabe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The Flowers of War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11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+ antwoordbladen invull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 rot="5400000">
            <a:off x="5715000" y="3438720"/>
            <a:ext cx="43387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3" descr=""/>
          <p:cNvPicPr/>
          <p:nvPr/>
        </p:nvPicPr>
        <p:blipFill>
          <a:blip r:embed="rId2"/>
          <a:stretch/>
        </p:blipFill>
        <p:spPr>
          <a:xfrm>
            <a:off x="117360" y="0"/>
            <a:ext cx="89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"/>
          <p:cNvPicPr/>
          <p:nvPr/>
        </p:nvPicPr>
        <p:blipFill>
          <a:blip r:embed="rId1"/>
          <a:stretch/>
        </p:blipFill>
        <p:spPr>
          <a:xfrm>
            <a:off x="1351080" y="0"/>
            <a:ext cx="644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3:35:23Z</dcterms:created>
  <dc:creator>Mark Baker</dc:creator>
  <dc:description/>
  <dc:language>en-US</dc:language>
  <cp:lastModifiedBy>Stefan Rops</cp:lastModifiedBy>
  <dcterms:modified xsi:type="dcterms:W3CDTF">2018-09-10T14:18:43Z</dcterms:modified>
  <cp:revision>133</cp:revision>
  <dc:subject/>
  <dc:title>PowerPoint Presentation  -  World War Two, 1939-1945</dc:title>
</cp:coreProperties>
</file>