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C6CD-984B-4A70-93F7-28834E855FC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93E5-49E7-4C70-B4A3-CFCAB9A259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DEE-83E9-4988-ADA3-6196B474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B60-CC0C-41D8-9B0F-90A22DBB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CD8-979C-43D8-9AD2-1F501DE7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9BA-75F9-4A7E-8E44-5ABBAE50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F775-1A15-44CF-A0AE-094ACFA6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9005-EDD9-48D7-83FD-B8A91BB2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7735-2017-4169-80B4-D9618DD8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52C7-433C-4D1F-BAF5-8472EF6F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50B3-EE61-453C-9968-185103A8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20C2-E8A7-402D-BED2-176E793A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9EFF-7B9E-4D79-97F7-BACE7A48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278-B3BD-410E-B179-AF5DA82E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DFD-FFF9-4DA3-A9FA-B85BE7B1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1049-ABE8-4991-8D0A-4BEEF7B0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505A-D90E-417D-8EF4-3B1A72DB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867-CD59-4761-B197-CA6EE1FD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F8C6-F1C2-4ABC-B674-976F1808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F1EF-309B-4FCF-B27B-77AFC6DF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728C-8A32-43A5-9621-48EE526E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375B-02F6-4FE8-8F94-8BE22670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07D9-F9F9-438D-BEE4-A87074B6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49C8-EF4B-4397-B9EB-C180A831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EB9-59AA-4B33-8E4F-F15DAB62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C4AC4-951B-4E38-94DF-89BBF017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F29A-E00E-4DD5-A4F2-A87DF7BD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B6E8-C1DE-4290-B4BD-10F062C8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1170-2327-485C-B103-27C7622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7989-6304-45C6-8148-69BD0656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2859-93A0-44CF-9F75-358243EB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9FC7-EEFE-4439-8E28-4939B45D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3493-6001-4768-A215-0F5375D6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A4DA6-B99F-49EB-A1BA-7EB58914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79F8-9439-440C-BE49-141425E7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2E9-F570-42E7-B265-52909149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8B5F-062A-4330-8029-E3C29150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B67F-BB2A-404F-AF15-CEA0A497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F494-3C38-4C8F-AD16-F7B00963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F225A-A9C9-4F7F-B6FD-817120DC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F436-BAC9-4280-A537-F51C7F74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9626B-0C4A-4B16-AA86-ACBFE9C9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51FF0-AED9-42DB-80B6-0438DC7A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5E59-E161-4501-84AD-82BF9482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8481-5EA9-42BD-88CC-1BDE7276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ED2-DD1A-463F-9EF0-7A138147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D6A-FFD3-467E-B43F-3FAEC5D5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546-07D2-4C36-8457-02224A32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708-D721-488C-97EF-26618AD8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CC6-649B-422E-BB3F-62EB6D10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4499-BF85-42DF-A405-2570940FC8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BDCC-462E-4BFC-9750-9EB8FC8A89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A82B-A859-4967-930F-A79FA9D1A5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6FA7-7DD9-4360-B09E-AD4997C206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hyperlink" Target="https://www.youtube.com/watch?v=Z4M3sBQSwII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 of d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20-12-02T22:44:05Z</dcterms:modified>
  <cp:revision>41</cp:revision>
  <dc:subject/>
  <dc:title>Marketing les 1</dc:title>
</cp:coreProperties>
</file>