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BA76-4BA8-40D5-9F67-3901DBFDAB6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47F8-187C-4C8D-9629-1037F38CB71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D0E9-7BCE-48ED-BD77-4D5C90E5465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4F12-5B54-4CFC-8018-A3B1675D956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A46F-499A-4D87-B38B-2732AC7B307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67D24-7CA4-47AA-BDA0-A78FFC116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346D8-C3B2-46F7-A951-1750D3536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E17BB-A1CE-40BE-8B1D-3BA393984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A7D42-B425-4BDE-8648-146F2A4E3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7F5CB-ABD9-4C00-8DF0-8ADE9C4BD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B275B-459E-41D4-A92F-B8DC2481B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7E4FA-ECDA-4060-9434-D1C460A16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50D09-B110-4DBF-9CC6-C575429E1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725AF-C184-42E1-8C31-514FC1E7A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B9629-BC5F-4BEE-B1AA-2A4F3C58C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9419C-A7AD-410C-BB1A-C5890EE57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59DD7-AA5B-40DE-8D45-064D29F56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67C90-DCAD-428E-83E6-E453138F9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FA3AE-16EE-4697-85F7-F330D03C0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6B0B0-7C01-4384-BD28-8680AE8CD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F54B6-4797-4FCF-98C9-8A03C1DAA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967F5-38A1-4EDA-B2C5-83CB0459F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46CAC-FE66-48D8-847D-028FF9E27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870B1-F655-48F7-A508-44B2C464D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6EF34-48C2-4234-ADC3-93DD7B92D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5D706-2FC3-4FDD-80A8-2C33917C1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8E2BB-4ADF-4970-8DBA-C1163A43A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85BA3-C7BB-4799-BC7F-261C72160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5D39D-60FB-44FF-928E-164C5BC19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4127-FCEF-4CC4-9E36-53568B53A06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3694-7E02-4743-A306-5F23BD7EDAE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youtube.com/watch?v=DstESP8xBfM" TargetMode="External"/><Relationship Id="rId3" Type="http://schemas.openxmlformats.org/officeDocument/2006/relationships/hyperlink" Target="https://www.youtube.com/watch?v=riZRvGuXrcQ" TargetMode="External"/><Relationship Id="rId4" Type="http://schemas.openxmlformats.org/officeDocument/2006/relationships/hyperlink" Target="https://www.youtube.com/watch?v=riZRvGuXrcQ" TargetMode="External"/><Relationship Id="rId5" Type="http://schemas.openxmlformats.org/officeDocument/2006/relationships/hyperlink" Target="http://www.jumbosupermarkten.nl/Bedrijf/Over-Jumbo/Feiten-en-cijfers/"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a:t>
            </a:r>
            <a:r>
              <a:rPr b="0" lang="en-US" sz="2800" spc="-1" strike="noStrike" u="sng">
                <a:solidFill>
                  <a:srgbClr val="660066"/>
                </a:solidFill>
                <a:uFillTx/>
                <a:latin typeface="Times New Roman"/>
                <a:ea typeface="Times New Roman"/>
                <a:hlinkClick r:id="rId2"/>
              </a:rPr>
              <a:t>glimlac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3"/>
              </a:rPr>
              <a:t>Alles </a:t>
            </a:r>
            <a:r>
              <a:rPr b="0" lang="en-US" sz="2800" spc="-1" strike="noStrike" u="sng">
                <a:solidFill>
                  <a:srgbClr val="660066"/>
                </a:solidFill>
                <a:uFillTx/>
                <a:latin typeface="Times New Roman"/>
                <a:ea typeface="Times New Roman"/>
                <a:hlinkClick r:id="rId4"/>
              </a:rPr>
              <a:t>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5"/>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éraar de Jong</cp:lastModifiedBy>
  <dcterms:modified xsi:type="dcterms:W3CDTF">2019-02-06T22:55:05Z</dcterms:modified>
  <cp:revision>79</cp:revision>
  <dc:subject/>
  <dc:title>Marketing les 1</dc:title>
</cp:coreProperties>
</file>