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19B5-FD7A-4E6F-8FAA-2C994A01746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A595-5797-4F82-A0B3-BE891AEC84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BBFF-D0C4-4ED0-916B-8CF49422D27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4491-CC81-4840-A5B9-3807E0F5D63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841-23A1-4DC7-8B47-D99EEC9B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9FE-6A54-4296-9C69-F6F55113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B5B-D432-4B24-93D6-6B2BCF0F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7B4-44CB-478D-AA39-58CC02AC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8E3E-9C7C-45B5-8510-E3E1249A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CB73-B2A8-4CEB-9BC8-757F1ADC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5125-76F0-4080-8ABB-4B8CD4B5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1538-A7C0-4604-911C-AFAB61DE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2D1F-A799-41AD-BCDD-27DBB200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E530-AE56-4658-88F5-CE24C396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D476-E351-40FA-A3C5-1921E58F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0BD-B34A-41CD-9298-F07EAE93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54BA-020C-4F43-AAAC-27B87AB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7B8B-F99C-4203-9F1E-FF187380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9286-2D66-4EB7-94F4-2BD905B7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4494-7DA7-488F-AEA3-CF5A7BC9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5E5B-F88B-4CF9-978C-DD19F4E5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269F-FF59-4DB8-8B6E-1AC3AD8D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F593-42A1-4833-951F-91D56412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380A5-4F93-43DA-9A44-F42D3819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F42BA-96DE-426E-A0C9-E0DA9B50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9550-8A42-4784-89AF-D0B18922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F7C-98A2-4119-9CD3-1B451B57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635B-F2D3-43FE-8787-C8CBEE75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4FEA-ED47-4430-B0ED-9C645400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9A87-0B84-47B3-946F-B02BF311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683F-8484-410B-ABA1-0FCCE1B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4567-B74E-4A1E-88EA-534F9BBE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2A0B-D987-4565-B9A9-4A6E7BD1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498A2-73B0-4B59-B17F-864A7121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B48C9-C050-4005-96A3-2B16CD49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4E867-E34C-4948-A4D8-C1742295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348F-689C-4043-A150-C152FD6A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D7C-A391-4997-8117-2D3E6BD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90DE6-B29E-45E9-9F78-ECDE87B1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7EA2E-AF45-4865-9761-2587B3BA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206CA-2DD0-4DCE-9A0E-66E6447F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51EC0-2530-4C5F-866C-6CBA5ABC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4CEB6-A9AE-4B22-A6F8-E312CEF7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9270-0FFA-4965-BB4F-F35DC4A9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DF2DC-E571-413E-86E9-3A58B0CE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7062C-7C21-43F2-A7A3-D5AA2C5A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05E63-3FB5-43EF-86FD-E693D854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858-04F6-4410-8352-B3DBFC02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093-2753-4964-81EE-C0109290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3CF-7BF0-4638-8DE9-8A05AB70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185-FA82-4586-BB25-CBBAE37A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1ED-21F7-4CD6-9F4F-F3E6348D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C101-7273-4BE9-BEB2-2B4E30C71CB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2FC8-188E-4370-AB12-D9107B8BD6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BF87-24F9-4839-8A59-3E0BEAE7B2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0F0-0177-43BB-ABFC-557A93D2AA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Marketingmix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Maslow 2"/>
          <p:cNvPicPr/>
          <p:nvPr/>
        </p:nvPicPr>
        <p:blipFill>
          <a:blip r:embed="rId1"/>
          <a:stretch/>
        </p:blipFill>
        <p:spPr>
          <a:xfrm>
            <a:off x="4910040" y="29242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258920" y="2637000"/>
            <a:ext cx="50292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Tekstvak 2"/>
          <p:cNvSpPr/>
          <p:nvPr/>
        </p:nvSpPr>
        <p:spPr>
          <a:xfrm>
            <a:off x="110952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.a.w.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6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.o.v.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MAKEN.WIKIWIJS.NL/1338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auterbo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e 4 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ntenoplo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to the Custo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js/kwalite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ience / gem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mo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1-11T23:02:12Z</dcterms:modified>
  <cp:revision>46</cp:revision>
  <dc:subject/>
  <dc:title>Marketing les 1</dc:title>
</cp:coreProperties>
</file>