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17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36B0-7813-4C49-A432-5B2A5966A41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6FE3-CD08-4054-BD3D-AE9483DB6B0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CBD8-EF5D-4CE5-8C99-A751600E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D8C-EEAD-42BA-BBCD-E894DE2F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061-8CE9-4152-92FE-90F226ED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D4EB-D84B-427A-9DEF-307EE714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7F9C-5EE0-4F4A-A112-E55FA19A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FF29-079D-4903-9C55-F0DB2AB1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F920-9134-47A1-8DD0-0C1BA472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A741-37CE-4E75-AF77-61A6374A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2EB3-2973-408D-B583-CF57EE08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1D61-0939-4982-B895-DDB37D28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1D8B-8B71-4295-88C1-C9052B5F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C19-382C-4FCE-9B48-AE064ABB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0335-B56A-472B-9604-7DDA7F67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55EE-5832-4FFB-B671-6CC43530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41C9-6483-4E42-9399-CBBDEBFF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8CF2-58B2-4BB1-8AF3-E8F46C42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532D-E145-4A7D-9DFA-0B6C92F1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79ABC-2E03-4AFE-A9BD-C628A72F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2E833-1207-456D-89C9-2A3ED6EF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CB0DD-688C-4088-AC25-34622D70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D1831-B866-40C5-A323-C757126C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865F1-54D3-4E12-9ACA-5860085D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01E-A42A-45EA-B76C-DC47376A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E8309-D7CD-4B9B-965A-2DFE49C3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36BEC-7EBD-43F7-9B97-B5F89033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102AF-8BAC-4861-93AC-12B1CB24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5410-4F36-467F-9F57-4A7C4B48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EBDE9-D341-4C66-881D-3B0A93AD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339CE-DE03-4D06-AEED-2C7BD79B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2693B-9049-4063-8AE0-B99C8A8F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DC881-6006-44B0-A774-B3D9C340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F8A3A-5663-4A83-9BBB-F98FAF2E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02EE5-FB72-44EA-A55B-D79F42D1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F83-BC03-499E-8D89-2A2E1234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A78A4-70ED-4C6A-A20F-3806F5FD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0E2F9-8865-4FD7-A950-54ED3A0E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33A60-1EF8-4659-8D37-D59456A7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A3DB1-771F-4C2A-A5AA-3FEC0A95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7F415-7088-4B09-93DA-C9250281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07916-2397-41A0-957D-DDB58A88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AE207-023C-400A-AA13-91FDA235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E8259-5078-41EC-8B7F-796EC15F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1C8EB-AE1A-40E6-A1AE-7885C751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2F9B-60A1-479B-86C1-E2E262B9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7563-83EC-4734-AE93-67AE0C18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06A-3D89-4818-AB19-84406BE5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BC86-E4BA-4691-9BEF-632B2160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8C6A-BE4D-4FE9-9061-1F7E4423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C59C-2814-470C-A2AB-0D155606735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3743-6A59-44BB-93A8-F08AB4A3609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D3EC-4BC5-423B-834B-D7F321CF33D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7C95-AF7E-40F9-9BB4-43626B8BD70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s://www.allesvoorniks.nl/?p=gratis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763280" y="2997360"/>
            <a:ext cx="63248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Sellogram, Koopgedrag en marktaand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NE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220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kstvak 5"/>
          <p:cNvSpPr/>
          <p:nvPr/>
        </p:nvSpPr>
        <p:spPr>
          <a:xfrm>
            <a:off x="1332000" y="4869000"/>
            <a:ext cx="36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4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225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een kinder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Tijdelijke aanduiding voor inhoud 1" descr=""/>
          <p:cNvPicPr/>
          <p:nvPr/>
        </p:nvPicPr>
        <p:blipFill>
          <a:blip r:embed="rId1"/>
          <a:stretch/>
        </p:blipFill>
        <p:spPr>
          <a:xfrm>
            <a:off x="1332000" y="1568520"/>
            <a:ext cx="6840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4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Tekstvak 2"/>
          <p:cNvSpPr/>
          <p:nvPr/>
        </p:nvSpPr>
        <p:spPr>
          <a:xfrm>
            <a:off x="1258920" y="1893960"/>
            <a:ext cx="742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Sel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46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eugj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7" dur="1" fill="hold"/>
                                  <p:tgtEl>
                                    <p:spTgt spid="26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k opdracht 2c voor jouw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 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201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1411200" y="2095560"/>
            <a:ext cx="2759040" cy="1851120"/>
          </a:xfrm>
          <a:prstGeom prst="rect">
            <a:avLst/>
          </a:prstGeom>
          <a:ln w="0">
            <a:noFill/>
          </a:ln>
        </p:spPr>
      </p:pic>
      <p:sp>
        <p:nvSpPr>
          <p:cNvPr id="208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kstvak 2"/>
          <p:cNvSpPr/>
          <p:nvPr/>
        </p:nvSpPr>
        <p:spPr>
          <a:xfrm>
            <a:off x="1657440" y="907920"/>
            <a:ext cx="6521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kstvak 3"/>
          <p:cNvSpPr/>
          <p:nvPr/>
        </p:nvSpPr>
        <p:spPr>
          <a:xfrm>
            <a:off x="1258920" y="4349880"/>
            <a:ext cx="7316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215" name="Tekstvak 4"/>
          <p:cNvSpPr/>
          <p:nvPr/>
        </p:nvSpPr>
        <p:spPr>
          <a:xfrm>
            <a:off x="5010120" y="230040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Geraar de Jong</cp:lastModifiedBy>
  <dcterms:modified xsi:type="dcterms:W3CDTF">2018-12-09T23:59:36Z</dcterms:modified>
  <cp:revision>43</cp:revision>
  <dc:subject/>
  <dc:title>Marketing les 1</dc:title>
</cp:coreProperties>
</file>