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DBA8-A319-4888-824D-79C8DC72A89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C3CA-CE6A-42E1-A7C7-8FB62E1871C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3B6-D60D-49A3-8D1D-FB9A7A00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C48-C4C5-47FC-B6CD-5710FE27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178-84E6-4D59-9289-B23AF81F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0D7-652F-40AB-92C7-DA41C3A8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1397-B493-40A1-9FAC-0211A6A9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FB4B-35EE-46FA-ABC9-8D4EBF6E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6B51-803D-4BE8-B778-D87A4E4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055A-1CBC-4EC1-90EA-97879573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9A0E-C0CF-48F8-B79C-D3AA6E2E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5D1F-132C-4EF6-939E-2480C851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D032-78CE-4EAA-94A9-6C56461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FF5-D05E-48AD-BD54-BF15F0F4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0602-CFE0-4CD8-A28B-8EDA5F31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224F-9D98-45BA-9AC8-8844307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0105-D280-4DC9-BDBE-ADC2BDA7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6BE7-97EC-4BDB-B9BA-CB89CB9D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162-4A24-4E1C-922B-CDF2FB75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BA86-4DEA-4DF1-86F7-47462989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0317-2FF8-4D13-923A-5426A0CE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BD97-9D46-4BBA-B714-D15EBF8B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09AA-45CC-4BA3-B7D5-6589992C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C5BD-6A7C-4382-8DD1-B2B7EBAF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E4A-BD00-4872-8302-919DE05E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8C355-8B32-44A9-AB1B-9D664A23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F8D9-26DC-4530-9F15-A3160ADD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307A-D9DA-46A4-87C9-FBED45C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BB1DB-F46B-45CE-A265-66767B9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68C8-0844-4677-BD3A-51CD906F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210D-8786-411C-B1DF-50FA64B9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C53DD-3DDF-4F56-B58F-9548CAFF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4C5A-0145-49EF-826A-02B8778F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A9BC-9438-43BB-B527-2393D660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674B-14FF-4D0D-A25A-AD7E870A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9F1-99F1-4C6C-8990-7531B226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67465-69CE-43E1-B2F0-2ABD0FB3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9A43-FB4E-461B-B9D4-8CFA3716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38FE5-2008-4AF9-83B9-C9BDD221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A770-A6FB-4E78-B30A-17E9CAEC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C8C10-DF7A-4F22-9AC5-000BE17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143D-FBEB-4D6B-B30A-73A6E4EB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4771-C4CF-459E-B743-B6F68F94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ACAA-C7F1-4148-B705-35F9B954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130BD-48E6-4B10-89E1-1B084091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FF5-97DE-4E5E-AA69-C5593F91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DB8-652F-46D9-9460-C3348FB2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D28-1EDC-422D-BA3D-2B34700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36E-0DB9-451F-8538-660E5EB7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DAA-2FC6-4A2E-876F-ECBB3B2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1B2-33F9-4F24-A684-711CF410D9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1405-CAC2-4FD3-9EA5-38733B6EAB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FFFE-BDB1-4966-9F94-1D0FEC68E17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7497-80AD-452A-8E35-EB49D6A2F81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hyperlink" Target="https://www.youtube.com/watch?v=Z4M3sBQSwII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 of d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20-12-02T22:44:05Z</dcterms:modified>
  <cp:revision>41</cp:revision>
  <dc:subject/>
  <dc:title>Marketing les 1</dc:title>
</cp:coreProperties>
</file>