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D54B-C867-4284-BCEE-86E568C1795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1D1C-6AF7-4EDF-B966-AC857D84E08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CED0-7351-4F38-A4EA-7576E0DF5A4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6154-0EDC-4E6A-BCD5-7543AC60EE5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848C-8B59-4FCD-8130-463A844FFE5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BC47A-DE02-45C2-9B80-04EDBC335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16B01-3902-495B-AECD-500490A97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066FE-7851-41F1-93B0-FC89BFF87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C159A-4951-4735-B806-5E4841979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C7324-2997-4E4D-906D-05C23A654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F402C-A890-4FFC-8103-96511AD76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BBDF0-D2EA-4FBA-8ECE-DBAEE8062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DBC11-63CA-4ED0-8046-9DD8FC518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72B80-A0AA-4745-989D-F82682718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FD460-157F-4146-9196-FE04A1E54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0DE94-87AA-4034-ADD2-BAB475F6E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B3A29-DD04-472F-A49C-74752CC80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4FDB7-AE1D-4DF7-844F-6614024B8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69FA7-9858-491F-A571-55382050A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D6D4A-CD32-40A5-9297-E5A400436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828E2-8752-42CD-BD81-D2A4B6066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9AF27-4BE7-4424-BB46-FB34E84E8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39964-8AD2-4E54-8C9A-803A4A0A6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EF81C-33C3-4E7E-A602-56F9513E0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3CFB8-7F5F-43A1-AF49-43948260B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2A443-86B1-48FA-99A2-224650DB7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F9C5F-3F0F-4F16-B7E3-697B5BA03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1C981-141F-4DC2-8399-88867AFE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18EB5-53B7-4AC1-ADCC-5D5B07EB8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39C0-C31C-4F49-B0B7-AB7FC1347EB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8E44-01CB-4292-AA6E-EE4970ECD7D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youtube.com/watch?v=DstESP8xBfM" TargetMode="External"/><Relationship Id="rId3" Type="http://schemas.openxmlformats.org/officeDocument/2006/relationships/hyperlink" Target="https://www.youtube.com/watch?v=riZRvGuXrcQ" TargetMode="External"/><Relationship Id="rId4" Type="http://schemas.openxmlformats.org/officeDocument/2006/relationships/hyperlink" Target="https://www.youtube.com/watch?v=riZRvGuXrcQ" TargetMode="External"/><Relationship Id="rId5" Type="http://schemas.openxmlformats.org/officeDocument/2006/relationships/hyperlink" Target="http://www.jumbosupermarkten.nl/Bedrijf/Over-Jumbo/Feiten-en-cijfers/"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a:t>
            </a:r>
            <a:r>
              <a:rPr b="0" lang="en-US" sz="2800" spc="-1" strike="noStrike" u="sng">
                <a:solidFill>
                  <a:srgbClr val="660066"/>
                </a:solidFill>
                <a:uFillTx/>
                <a:latin typeface="Times New Roman"/>
                <a:ea typeface="Times New Roman"/>
                <a:hlinkClick r:id="rId2"/>
              </a:rPr>
              <a:t>glimlac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3"/>
              </a:rPr>
              <a:t>Alles </a:t>
            </a:r>
            <a:r>
              <a:rPr b="0" lang="en-US" sz="2800" spc="-1" strike="noStrike" u="sng">
                <a:solidFill>
                  <a:srgbClr val="660066"/>
                </a:solidFill>
                <a:uFillTx/>
                <a:latin typeface="Times New Roman"/>
                <a:ea typeface="Times New Roman"/>
                <a:hlinkClick r:id="rId4"/>
              </a:rPr>
              <a:t>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5"/>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éraar de Jong</cp:lastModifiedBy>
  <dcterms:modified xsi:type="dcterms:W3CDTF">2019-02-06T22:55:05Z</dcterms:modified>
  <cp:revision>79</cp:revision>
  <dc:subject/>
  <dc:title>Marketing les 1</dc:title>
</cp:coreProperties>
</file>