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9B82-4629-474A-9C32-12822238C45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F77B-7E89-4554-A16E-B420AB2618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A278-AA91-4CB8-88BE-5801BFFC4AC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6465-18B0-452F-8691-EBF461141E6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5C6-5B1A-4F04-8733-61AD4083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935-3946-48DA-88E6-4057542B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67A-24D5-414D-A1A7-CF2D9343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1F4-9E78-4373-AFB8-CC0A507C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2B6C-32E7-4DBD-ABA7-48C211D4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709E-B092-40C6-B3D8-D5A6B431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100E-D880-4FA5-8C67-06E45CDA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676E-2AC3-45CB-BFC1-E746B900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A409-B998-4FDF-97D4-9B3A9926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EEFA-B61D-4FC4-939D-FC934BB2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B119-B93E-4375-B2F3-82DAC9D5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FE6-C56E-4639-8B55-A0BEAC4A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02C1-C3D7-47AD-A3E7-8FCC9AF6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43CC-46EE-4A44-BEA8-FDB1211D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C2C5-0280-4626-96AB-89184CA4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1641-6E5D-44B3-A316-69EF47F7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3134-8902-4571-B431-96F45A99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A984-F050-4811-841D-A6D43D74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37779-A847-44A2-9213-3D57478B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1F4D-AE11-4698-9C9E-664D6F2E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1055-7873-41F9-9130-421DBEE0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450B-9E55-4D7C-AC97-24693C9F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3A8-9AE7-48A3-8FFE-1E590AD9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9B7F-D538-49AE-8CC3-A9DE9225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847D-ADE2-4086-AD55-F25EBA6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972F-F427-4BF4-A9CE-5D862C1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F6931-BC6C-4759-9016-18ADEE9D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E6ACF-CD9A-455B-89F1-1C49CB67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1024-3B11-406D-B309-CBFA7466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AF86-28FE-4C9D-91C1-94509AA8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E7774-3210-4E7E-8086-6A3B3D4A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34ABF-D778-4291-837F-5D68B5E3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52BD2-0EFF-44E5-B607-C6672185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8FB-5721-4F72-8F70-48DF8528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931E-6CDA-41FF-B340-3B73CAA3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93CD-6360-47DE-BE68-7CECEFC3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1F288-5287-4781-90EA-13DA081A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647E9-68CF-47C3-8893-3FB4FA9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1CFE-0228-478B-9A9C-8B601BF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D1560-4AB5-47C7-9B0B-268A36E6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1A55-C5DC-40FC-A6DA-5EB3805D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1EA00-1BB2-498E-B070-57EBD10B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BDF9F-E764-439E-A7B0-CC548B88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928-BF94-448F-9FCA-A83AEF7D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231-C587-42DE-B034-2F7662EB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70E-CEC9-4ADA-B73D-52312753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59B-41CF-4746-9AF0-63AAD33D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5FA-ED99-49FA-9FCC-424D3106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95F5-24E6-4DF1-AE86-8B530E9E730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FF3B-4D62-4AFE-90B4-34907AB2A7B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479F-0CCB-4DEE-8BC9-DBC0755DA01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A13A-0332-426F-AF31-3566D7BE8E1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Marketingmix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Maslow 2"/>
          <p:cNvPicPr/>
          <p:nvPr/>
        </p:nvPicPr>
        <p:blipFill>
          <a:blip r:embed="rId1"/>
          <a:stretch/>
        </p:blipFill>
        <p:spPr>
          <a:xfrm>
            <a:off x="4910040" y="29242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258920" y="2637000"/>
            <a:ext cx="50292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Tekstvak 2"/>
          <p:cNvSpPr/>
          <p:nvPr/>
        </p:nvSpPr>
        <p:spPr>
          <a:xfrm>
            <a:off x="110952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.a.w.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6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.o.v.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MAKEN.WIKIWIJS.NL/1338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auterbo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e 4 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ntenoplo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to the Custo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js/kwalite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ience / gem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mo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1-11T23:02:12Z</dcterms:modified>
  <cp:revision>46</cp:revision>
  <dc:subject/>
  <dc:title>Marketing les 1</dc:title>
</cp:coreProperties>
</file>