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17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B594-A744-4930-818E-233BA1793F6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8A5B-A6AD-4E7A-8917-A916F92577A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689A-3378-406A-9801-88DE3D20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A2C-8DA1-454B-807D-8A64CDEB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2178-AEB5-4E52-9E37-4C63CF3B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403-AFE9-4389-B91A-1F99F66E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B48C-CD4B-4055-9685-A7BD186D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8218-C76A-4A79-9759-C52290BF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941E-B7F1-4647-9B9F-42CE0F41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59F6-ACDB-4481-B3B9-540C2681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BE35-2F45-454B-A357-D662D99A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3FFB-864F-4304-87F9-19BF4AEF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14B1-11F3-4A7D-96A6-8A23AC7E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6F05-D19B-4CFF-8267-F69921B0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DBF9-0D8C-4983-9919-52CB8B0F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2EB3-1B30-4470-94EC-FC14649A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C8A2-E2A2-435E-8935-96DC810E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8B0B-F63C-465D-B669-CFAEEA54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1F71-D4E6-4EB2-8AA2-07279D10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2DD9B-D488-468B-A013-5F4CD046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8F459-57EC-4031-88E0-32963AF0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936F4-D45B-4C89-B721-64ECA26B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53EC5-7052-49FB-8034-C8053698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3C6C5-878B-48B5-9906-5084BC30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E11B-E924-41A7-894E-E5A7C18E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EBD3F-C9E8-4B15-8EE3-6AE57FC5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CC33D-2473-42EA-B3FB-D8FA08B4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2CA9F-09BF-4966-9C9A-1BBD879A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71E4D-C1BA-4FE6-BDE4-729A839D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232AF-FFF2-4B7B-9D8D-69C8CD1A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5E372-9150-4C9A-B14F-DA301AC9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437ED-EDE1-46C7-8BF0-02719C24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661FE-B891-4AE2-B32F-181FA4D7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189FB-E444-4A6E-8DED-45BAE78F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B21EB-A9AE-4393-A554-51770A0E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CD8-99B3-4685-99B8-C646940B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260A3-87CE-4640-8EB9-4D3FDA80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8585A-6776-4D95-9152-9D7972D3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175ED-1BAE-4489-8433-F8A36863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54C18-4055-44D8-8F5E-39640106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3D581-4461-48A8-88DB-35CF2D83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F256C-BFF0-4CD5-8D46-81DE25F0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00ADA-EDD6-44F9-9BD9-BCD1B079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B17EC-4D16-4BE1-9A06-AA4BD2E2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5FBCD-7120-4EC7-9D5A-6A5A26E7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AEE-D981-43B9-B219-F32B3769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C49-DF91-452B-8FFE-12328B67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CE5-4273-445D-A11C-598E1648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0B0-94E4-45F9-B4C4-49831D19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4D9-0243-4DFD-B48C-5762ADE4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A5B3-4D7A-4264-B8B4-A66C659D2B3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33F5-BE48-476F-B898-BD35F622998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DDFF-2E02-4325-874C-7BBE2BDBCA7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DEF4-A785-44D1-930D-9FDBC028C62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s://www.allesvoorniks.nl/?p=gratis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763280" y="2997360"/>
            <a:ext cx="63248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Sellogram, Koopgedrag en marktaand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NE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220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kstvak 5"/>
          <p:cNvSpPr/>
          <p:nvPr/>
        </p:nvSpPr>
        <p:spPr>
          <a:xfrm>
            <a:off x="1332000" y="4869000"/>
            <a:ext cx="36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4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225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een kinder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Tijdelijke aanduiding voor inhoud 1" descr=""/>
          <p:cNvPicPr/>
          <p:nvPr/>
        </p:nvPicPr>
        <p:blipFill>
          <a:blip r:embed="rId1"/>
          <a:stretch/>
        </p:blipFill>
        <p:spPr>
          <a:xfrm>
            <a:off x="1332000" y="1568520"/>
            <a:ext cx="6840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4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Tekstvak 2"/>
          <p:cNvSpPr/>
          <p:nvPr/>
        </p:nvSpPr>
        <p:spPr>
          <a:xfrm>
            <a:off x="1258920" y="1893960"/>
            <a:ext cx="742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Sel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46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eugj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7" dur="1" fill="hold"/>
                                  <p:tgtEl>
                                    <p:spTgt spid="26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k opdracht 2c voor jouw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 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201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1411200" y="2095560"/>
            <a:ext cx="2759040" cy="1851120"/>
          </a:xfrm>
          <a:prstGeom prst="rect">
            <a:avLst/>
          </a:prstGeom>
          <a:ln w="0">
            <a:noFill/>
          </a:ln>
        </p:spPr>
      </p:pic>
      <p:sp>
        <p:nvSpPr>
          <p:cNvPr id="208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kstvak 2"/>
          <p:cNvSpPr/>
          <p:nvPr/>
        </p:nvSpPr>
        <p:spPr>
          <a:xfrm>
            <a:off x="1657440" y="907920"/>
            <a:ext cx="6521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kstvak 3"/>
          <p:cNvSpPr/>
          <p:nvPr/>
        </p:nvSpPr>
        <p:spPr>
          <a:xfrm>
            <a:off x="1258920" y="4349880"/>
            <a:ext cx="7316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215" name="Tekstvak 4"/>
          <p:cNvSpPr/>
          <p:nvPr/>
        </p:nvSpPr>
        <p:spPr>
          <a:xfrm>
            <a:off x="5010120" y="230040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Geraar de Jong</cp:lastModifiedBy>
  <dcterms:modified xsi:type="dcterms:W3CDTF">2018-12-09T23:59:36Z</dcterms:modified>
  <cp:revision>43</cp:revision>
  <dc:subject/>
  <dc:title>Marketing les 1</dc:title>
</cp:coreProperties>
</file>