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740D-24A0-45C7-8CEE-971E25C9DC8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4CD3-9765-439D-8B7B-1CEEC7D96BC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BA7F-0202-412C-A9AB-BE332F18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86A-E6AE-4DBE-BAEB-9E0D4E37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12D-6E14-4758-B5EB-15AA02F9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348-A448-43FF-8DF1-38894F4B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A898-9BAE-406B-96AE-2B361AFE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5F08-6AA9-45F3-910B-9ABD28B1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BF4C-CA6F-49FF-9A29-E1217F71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4B82-2BAC-4C86-9D0D-AC9F8FBB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AF4D-E24A-42E8-8B7B-5E33731E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25B3-B6AA-46EC-860A-5F8FDD86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5530-C828-4E0C-B100-94858953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565-8D2F-4160-9B8D-2F0B6F23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5E41-5A85-4857-BA71-4C1A6009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6FBF-01F8-4B07-9D59-EEE3B860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78AE-AE17-4AB4-A88E-52202717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7E01-5C73-4B22-B8DA-E9927517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2135-6D87-4722-9192-FCB2AFA5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ACBB8-617C-4B3C-B2C7-704D2350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679E2-0C6B-4B37-99BF-CB153D57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0E526-3F55-498F-BCFB-025318DC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6818A-FB3B-43CF-8127-AA46F620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E693E-D74C-4A5F-87DE-D12C25CB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B57-861D-445B-AD54-945A1AD6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EEB46-FF92-481C-A598-4B45E519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45F9-2D59-4E74-A73B-F685D0AF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33A48-6EFA-4454-8DAF-7E3AA0A8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D0306-6C20-4F60-8324-516EC76E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417B-5FFD-4E18-B652-5B1138D1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97714-FD70-428E-8B22-4D75FA6B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672E7-D58F-4B93-AEE2-40DD0D21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FA7E6-FF70-418D-AD0D-5175B5D1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C8CEC-E230-421A-BD8C-F2AC1234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F2050-092A-4E29-9178-B138923D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3AC-42CA-428A-B569-60B4380B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3B829-BFEB-4F6F-8177-42476355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270B8-7DF0-4926-B0D1-95B4F5D6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57CFD-D1AA-4C1E-87E0-7969F4C1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C82DF-3939-4AD7-B2F8-57585EF5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3961B-36C4-4116-861F-DDD6D44A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7D468-6B3A-4569-8A53-38481D03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AA721-D14F-439F-9B1F-EFEDC0FC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5B34F-9F3B-4FAB-973D-90961B24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96806-E228-45CF-B28F-455A81A1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077-27B0-4422-915C-0AFCC5EC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BE6-7E32-48A3-BE7D-FBBD91F8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4F9-05D4-41F4-AD85-5C38FFAD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50A-74E8-4042-913B-4CE21789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81C-FA03-4463-A4CB-4056183B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CC8E-5110-42F1-AFF2-FCB8980CC5A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A68D-DEA3-486F-8C52-6360C0E85F1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6969-622F-4D88-A081-BA26EC4D7B5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86BE-858D-4724-9B51-FBEA26745B2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://www.allesvoorniks.nl/?p=search&amp;zoekwoord=proefmonster&amp;gclid=CMzJlpXm_5YCFQL91AodjlNaWg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hyperlink" Target="https://www.youtube.com/watch?v=Z4M3sBQSwII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763280" y="2997360"/>
            <a:ext cx="63248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ellogram, Koopgedrag en marktaand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220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kstvak 5"/>
          <p:cNvSpPr/>
          <p:nvPr/>
        </p:nvSpPr>
        <p:spPr>
          <a:xfrm>
            <a:off x="1332000" y="4869000"/>
            <a:ext cx="36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4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225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een kinder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youtube.com/watch?v=68Vf53-nAiE&amp;feature=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332000" y="1568520"/>
            <a:ext cx="6840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4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46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eugje humor of d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7" dur="1" fill="hold"/>
                                  <p:tgtEl>
                                    <p:spTgt spid="2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k opdracht 2c voor jouw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201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1411200" y="2095560"/>
            <a:ext cx="2759040" cy="1851120"/>
          </a:xfrm>
          <a:prstGeom prst="rect">
            <a:avLst/>
          </a:prstGeom>
          <a:ln w="0">
            <a:noFill/>
          </a:ln>
        </p:spPr>
      </p:pic>
      <p:sp>
        <p:nvSpPr>
          <p:cNvPr id="208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kstvak 2"/>
          <p:cNvSpPr/>
          <p:nvPr/>
        </p:nvSpPr>
        <p:spPr>
          <a:xfrm>
            <a:off x="1657440" y="907920"/>
            <a:ext cx="6521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kstvak 3"/>
          <p:cNvSpPr/>
          <p:nvPr/>
        </p:nvSpPr>
        <p:spPr>
          <a:xfrm>
            <a:off x="1258920" y="4349880"/>
            <a:ext cx="7316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Tekstvak 4"/>
          <p:cNvSpPr/>
          <p:nvPr/>
        </p:nvSpPr>
        <p:spPr>
          <a:xfrm>
            <a:off x="5010120" y="230040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20-12-02T22:44:05Z</dcterms:modified>
  <cp:revision>41</cp:revision>
  <dc:subject/>
  <dc:title>Marketing les 1</dc:title>
</cp:coreProperties>
</file>