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405B-5446-4CAD-93D2-06BA522A42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8219-26EC-4216-AC03-951679E6BD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BF4-4359-46FE-A7F7-4DA33DC3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5DF-FEC8-430E-A4A0-48467868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755-261E-4E25-868C-4D0EB32F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644-C25A-4ED9-ABC4-B3B69D38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66A-CAF0-4615-A6B1-8E25238A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66E5-D6E1-46E2-BA56-B22B5188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CF73-99FB-4DEC-88DE-C4427D78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CAE5-518D-49E5-9A98-1EAF90ED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8131-D691-4D29-B968-F9242B67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A784-08FA-41F1-B330-5E1D56F9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0B74-E05E-4318-AFA1-3E80290C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A7B-F104-4823-BC8A-E9BB8DDD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9E59-CB4C-41B6-A627-45C0BB7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2C66-6C5E-47C3-AD5F-2E10E168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077A-5354-4E81-BEFC-A00E3C9A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1216-3FD7-4E52-83AF-85F6033E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39C7-60DA-4B57-A4E2-41CD5F42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C6604-084E-4454-A3D6-06EEB5AE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D3F1-A1F3-4935-B0F3-4C0599D9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36A1-8901-4C9C-8F94-D1958450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76AE-325D-4D73-AE6C-250A400D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68F0-948C-4610-8CCA-8AC0B3D9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816-0BA7-4517-86B7-FC26CA18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1E7B-306A-4505-AC2B-09CA8BB8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10CD-4F3E-49CF-A5F5-3BC1BA1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1126-9ACF-4C56-A750-F134D1AB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48F9-46B7-4479-A89F-119CD6F5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EF63-0CED-4F3E-9B3F-EC54CD81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A34AF-B936-4628-A3C8-A917724F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D598-516C-458D-9AAA-3D4133CC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DE05-57D2-408E-B578-D3522473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F12AE-8964-4B02-BD74-1322D941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A522F-F24D-4854-806B-19038CCC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DC2-16A1-4FE7-BD88-2CBFDF2F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98C2-E868-4395-94BA-A8FFA75F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96AC-C138-41F4-B440-EBADA27C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41691-4C81-4B25-A90C-F5595D70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3D028-AEE8-4035-991F-4333C290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17E47-A744-4FAE-AFD2-8458A507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0688D-C92F-4BBE-9119-F7D4E0A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7A4C-46D1-45A4-A26F-BE4C6DA7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FA03-168D-4157-AC71-CFE753DC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31929-30B0-461D-AE26-C930DCAF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0E9-35EB-4381-A8CC-A21D8DC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C48-3AEA-474D-B9B8-53E93B94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4E0-C973-4A74-8503-2EF8CCE2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8B6-F311-4E6E-A9D2-528F5534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C38-4275-4E6F-8296-5015E1D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834E-7893-4E0B-AA70-1320B918B6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F31E-5BD7-440A-92FE-4B097A9561B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D7F-B86F-4B9B-8643-220B769578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5DDC-1C69-4D1F-92BD-F768A64070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s://www.allesvoorniks.nl/?p=gratis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2-09T23:59:36Z</dcterms:modified>
  <cp:revision>43</cp:revision>
  <dc:subject/>
  <dc:title>Marketing les 1</dc:title>
</cp:coreProperties>
</file>