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5DE9-C5BA-42FF-8DE7-4B63205862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28DD4-C4DD-4FA0-B25F-19988A18F92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1129-9CD0-425E-9AF8-4959FA9655F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6C9E-C80C-41CE-A508-6C4B06C0F6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D039-F482-48A0-B879-54ABA6F6725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18942-622C-449E-A471-DA999A35D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6F96-424C-43F9-8620-135B19F2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73496-15CB-4B68-A873-910654CF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4119A-B947-4252-A705-6DD22FC62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B7963-02AC-413E-A0BA-673426464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5ED8D-CEA2-4580-804C-7C9EF93DC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0C86A-0E0D-4002-ABFE-6CC33283B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584C2-C4EE-45B9-BD61-C7A5FA61F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B10EC-6C70-4F07-9232-2524FBE52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4852E-5D43-4260-B565-480E02DCA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22E61-6B0D-4285-9584-B8F5F8118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C963C-E4EE-4D5E-9D3F-56B22320C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25110-3068-43F6-BF62-30D9C3BC0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8C3A4-6C59-477F-AE57-2547DC6B9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A559C-D5C6-4176-99CF-F1DF16B28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74CCA-3D19-42AF-BF22-9CB73C01A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724BC-41B3-4A4B-83CC-CFFEBBD6F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1A29C-62E1-427E-B2C8-01274CEE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F415B-F085-4959-9B52-A5F0D9F58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B06F-9975-4899-8EF8-3A9E73D42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27EA-1EF8-4115-895D-5AD3713D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180F-7EA5-449A-AF20-53BD609E6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5E470-A9D1-49E6-A750-42016625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95BE5-42E0-43E8-B176-D8170B9D1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E7AA-86B0-4F88-B7BD-3C4DAAD8376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5614-0C7F-4403-B070-000BCC5414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s://www.youtube.com/watch?v=riZRvGuXrcQ" TargetMode="External"/><Relationship Id="rId3" Type="http://schemas.openxmlformats.org/officeDocument/2006/relationships/hyperlink" Target="http://www.jumbosupermarkten.nl/Bedrijf/Over-Jumbo/Feiten-en-cijfers/"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1"/>
              </a:rPr>
              <a:t>vliegwiel van de glimlach</a:t>
            </a: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Times New Roman"/>
              </a:rPr>
              <a:t>→ </a:t>
            </a:r>
            <a:r>
              <a:rPr b="0" lang="nl-NL" sz="2800" spc="-1" strike="noStrike" u="sng">
                <a:solidFill>
                  <a:srgbClr val="660066"/>
                </a:solidFill>
                <a:uFillTx/>
                <a:latin typeface="Times New Roman"/>
                <a:ea typeface="Times New Roman"/>
                <a:hlinkClick r:id="rId2"/>
              </a:rPr>
              <a:t>Alles 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60066"/>
                </a:solidFill>
                <a:uFillTx/>
                <a:latin typeface="Times New Roman"/>
                <a:hlinkClick r:id="rId3"/>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eraar de Jong</cp:lastModifiedBy>
  <dcterms:modified xsi:type="dcterms:W3CDTF">2018-12-06T09:38:55Z</dcterms:modified>
  <cp:revision>79</cp:revision>
  <dc:subject/>
  <dc:title>Marketing les 1</dc:title>
</cp:coreProperties>
</file>