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FD71-A9CE-4F2A-B07B-FB490D610F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6F27-4375-4616-BF0F-DC252718D8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41F-ED4F-4DBD-9209-C21B2325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53F0-30C8-4B12-86A1-080E3332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CDBF-59BE-4826-8A8C-9D0FF8AB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F4F-692C-4AE4-837F-9F49EF39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9F7B-4B62-43E0-B8DA-8D3836BE1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1ADD-B5FD-4A6C-8BCF-6BBC9BF3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0779-85DE-4512-B955-36982723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A18C-F6F8-4D02-BCD0-ACCC51C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87A6-F44F-4A8C-B97B-6FBC18F3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DD97-B82D-4C65-89AC-7426E333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FBAA-026F-4370-8F6F-44B46695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666-482F-4F5C-9D6A-42A23354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6626-DA6D-4A2F-8BFF-0890364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31E7-5284-41A4-9B7D-9A96C82B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18A0-6EBA-460A-9FF8-3AEFC683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18C9-F5F0-4889-88A0-24AABF3B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D754-0CDC-4D4C-8141-7E7EF96A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47B5-8FF7-43EE-A91B-0BFAA17D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9429-88C8-42E6-9FD7-17B55F64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FED9-A228-4A52-9BCD-2590FAB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050B0-F8C5-49FE-88C3-96B70C99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69F0-A15F-4DD3-BC98-1BFC7578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4BB-3D8C-4334-A523-08EC99FF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43FFB-115E-45F7-B76A-B360971F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DCF49-64A8-4F3F-890B-3592529B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8067-F073-4F05-B167-F5D1676E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1873-149D-444A-A9DD-ABCB6380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5F15-DF1B-4ACD-874C-EB5DB276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C4B1-E58F-4781-8D96-021A3E2E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982D-FFB9-4CB4-8A36-08AC84D9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4362B-BE14-409C-A35D-EBCB3B7A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3E1C0-678C-40BB-8E8B-3260DB33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CABB-1CB1-4418-AC58-DC310EF9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0ED-2BAA-4555-9748-765A6A7E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5B1D-6DAE-4264-89DE-51F1B30E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17A11-3478-42DA-B643-CDC07312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2F641-5C4F-40F0-9D4E-67C3E9C3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D2218-579F-4BFE-B902-76DD8A6A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4BBD-AA4F-422E-9AF3-FCB526F6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C77B-5AF4-454E-8F2A-B35E2B7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1A4E-C53E-454C-B082-8F5CF42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7714-BF28-45F5-8A64-9602B58D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07CB-E3A1-490F-ACE6-13BB2CE1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D85-0AB6-4A03-9723-403662A4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452-1730-4602-8890-857FD90F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05F-504B-4C2D-B81B-3CDC678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39A-CBAC-4C78-9737-757D1B79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E59-23F7-4135-A9D1-023BA778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4F18-B6E6-443E-9CC5-35847F22130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F89D-2B41-4542-A4B1-2098B3CCF66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61E9-68E9-4F9C-8F76-671526DC31E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4FF0-643B-41E8-AEB9-D41F9087D22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hyperlink" Target="https://www.youtube.com/watch?v=Z4M3sBQSwII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763280" y="2997360"/>
            <a:ext cx="63248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ellogram, Koopgedrag en marktaand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220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kstvak 5"/>
          <p:cNvSpPr/>
          <p:nvPr/>
        </p:nvSpPr>
        <p:spPr>
          <a:xfrm>
            <a:off x="1332000" y="4869000"/>
            <a:ext cx="36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4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225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een kinder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332000" y="1568520"/>
            <a:ext cx="6840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nl-NL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eugje humor of d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k opdracht 2c voor jouw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201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1411200" y="2095560"/>
            <a:ext cx="2759040" cy="1851120"/>
          </a:xfrm>
          <a:prstGeom prst="rect">
            <a:avLst/>
          </a:prstGeom>
          <a:ln w="0">
            <a:noFill/>
          </a:ln>
        </p:spPr>
      </p:pic>
      <p:sp>
        <p:nvSpPr>
          <p:cNvPr id="208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kstvak 2"/>
          <p:cNvSpPr/>
          <p:nvPr/>
        </p:nvSpPr>
        <p:spPr>
          <a:xfrm>
            <a:off x="1657440" y="907920"/>
            <a:ext cx="6521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kstvak 3"/>
          <p:cNvSpPr/>
          <p:nvPr/>
        </p:nvSpPr>
        <p:spPr>
          <a:xfrm>
            <a:off x="1258920" y="4349880"/>
            <a:ext cx="7316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Tekstvak 4"/>
          <p:cNvSpPr/>
          <p:nvPr/>
        </p:nvSpPr>
        <p:spPr>
          <a:xfrm>
            <a:off x="5010120" y="230040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20-12-02T22:44:05Z</dcterms:modified>
  <cp:revision>41</cp:revision>
  <dc:subject/>
  <dc:title>Marketing les 1</dc:title>
</cp:coreProperties>
</file>