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E34D-BC82-46B2-83B2-E14E28C9747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F94C-D860-42D0-B5E6-DC9666F1BAC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B950-9CC0-4E6E-9B6C-3369620B310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1C18-122F-42FA-B349-122124B518C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00A6-9916-477B-82C7-0B7E1A8F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4555-73C4-4BD1-A9AB-F234BF93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102-9E27-4D60-A026-E2CFD53D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860C-7144-401D-AA72-2D780BBB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D2F2-37A7-42E5-BA81-1A81D1C6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6B5F-3822-4D4D-B2E4-B4AB29EA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8A7A-203B-4FA7-8991-6530CF04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BC42-76D6-45F7-8B61-3921FB29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775E-9489-4F6C-A751-F04DDF14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9204-2991-4AFB-949C-9A51470C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F83B-68A1-4CE8-B5AB-32C7F573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3746-1838-4B38-A18B-842684BF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6407-56CE-4837-A490-89598D0F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86F2-4B23-40F9-ACC5-637F90AD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C077-795E-4979-8620-318CA342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D574-9A94-4587-928F-261B3FA1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3645-4571-480A-BFB1-DBEB7FE8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DA5D2-33F2-4691-A5DD-3609C839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D0ACC-CF6D-4E5F-B3E9-04E8AE08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BC17C-4463-4804-B7C4-4A36948E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CDDAB-A666-4104-A42A-94EAEB0C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648DB-16D8-450A-A0F1-4950225E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217A-9297-4C58-9BB7-264F5431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7E00A-5693-4441-A429-EEBE3320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F78DB-7EDC-4638-AD78-DD04FD5B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C174E-04E7-4CDF-B871-DA561F3C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9F6C3-C04C-4C86-9EED-E644C4F3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9E63C-FAF2-4F31-A7F8-7E10FBC9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32583-5987-4EF6-8367-8CB25192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473AD-027C-4AC2-8289-7658306A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EE4BB-2717-4512-94B9-9FD9A5F4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FA9F9-027B-479F-BDD9-6FC25960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14705-19E0-4664-B756-4E22BA8A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0B7-5D3B-4E2C-B595-58E44509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33E38-7EE6-4683-A5BC-3DF226AF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04A9F-9962-4410-95DE-817F59D2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77802-F957-4EDE-947A-50B94059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5429D-3448-45BD-927A-BEB3F1CE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74645-337A-447A-964A-45C5A011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340C5-B256-4C1D-934F-DB84C733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731D0-5434-4529-AE02-48430A07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8DDA6-1746-4C27-9C4A-B0ED7876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C8BC2-E84B-48AB-B546-3DD971E1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7A2-2923-41DD-9CAA-FC32AC7C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EB3-CF85-442C-9E28-55A23B0B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5E9-D2EC-4A22-A27C-4FA087E0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C2B2-588F-4BA3-9112-1B767BE8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3628-F895-4750-912D-DEC5FF73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3F12-23F5-42FD-A019-237405883CA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0110-1099-4D8C-B907-8441C3AF736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047C-DA27-4A0B-97C9-2E5B5905C9D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D495-4243-483F-8717-6352DDB3285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l.wikipedia.org/wiki/Marketingmix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ingstrateg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ONE Col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sstrategie van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w toekomst hangt af van hoe goed je de wensen en behoeften van de klant begrij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angrijkste strategische ta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m goed na te denken over wat klanten nodig hebben en wat ze wen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denk een product of dienst waar klanten graag voor willen beta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ramide van Maslow (19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Maslow 2"/>
          <p:cNvPicPr/>
          <p:nvPr/>
        </p:nvPicPr>
        <p:blipFill>
          <a:blip r:embed="rId1"/>
          <a:stretch/>
        </p:blipFill>
        <p:spPr>
          <a:xfrm>
            <a:off x="4910040" y="2924280"/>
            <a:ext cx="3886200" cy="33624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1258920" y="2637000"/>
            <a:ext cx="502920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7. Zelfverwerkelijk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6. Schoonhe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5. Kennis en begri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4. Waarder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3. Liefde en genegenhe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2. Veilighe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1. Primaire levensbehoeft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ns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sen hebben meer wensen dan behoe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uit de behoefte aan afwisseling, wensen mensen verschillende manieren om basisbehoeften te bevred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ze wensen zijn onbeperkt: dat biedt marketeers veel ruimte voor creativ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vs. Wens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ls in een behoefte niet wordt voorzien, ontstaat een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unk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iefdesverdr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inderwaardigheids-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ls aan een wens niet kan worden voldaan, ontstaat een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andere wens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r is geen patat, dus wil ik een loempia, en als die er ook niet is, wil ik een boterham, en als die er ook niet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"/>
          <p:cNvSpPr/>
          <p:nvPr/>
        </p:nvSpPr>
        <p:spPr>
          <a:xfrm flipH="1" flipV="1">
            <a:off x="2971440" y="4114440"/>
            <a:ext cx="2514600" cy="762120"/>
          </a:xfrm>
          <a:prstGeom prst="line">
            <a:avLst/>
          </a:prstGeom>
          <a:ln w="76320">
            <a:solidFill>
              <a:srgbClr val="a1b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ISEN VAN EEN GOEDE MARKETING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Tekstvak 2"/>
          <p:cNvSpPr/>
          <p:nvPr/>
        </p:nvSpPr>
        <p:spPr>
          <a:xfrm>
            <a:off x="110952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rie eis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heldere keuze heb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ositie neem je in op j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goede aansluiting hebben op de omgevingssituatie en de omgevingsontwikke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nel gaan de ontwikkelingen op in je markt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.a.w. hoe flexibel moet je zij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positief worden ontvangen door de belangrijkste 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TAKEHOLD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Tekstvak 2"/>
          <p:cNvSpPr/>
          <p:nvPr/>
        </p:nvSpPr>
        <p:spPr>
          <a:xfrm>
            <a:off x="1476360" y="2133720"/>
            <a:ext cx="7210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keholders zijn díe partijen die direct dan wel indirect de activiteiten van een organisatie kunnen beïnvloeden of er door beïnvloed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nanc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f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De 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WOT staat voor Strengths, Weaknesses, Opportunities en Threa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gewoon Nederlands: sterkten, zwakten, kansen en bedreigingen onderzoek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6" name="Picture 2" descr="SWOT analyse"/>
          <p:cNvPicPr/>
          <p:nvPr/>
        </p:nvPicPr>
        <p:blipFill>
          <a:blip r:embed="rId1"/>
          <a:stretch/>
        </p:blipFill>
        <p:spPr>
          <a:xfrm>
            <a:off x="1332000" y="1773360"/>
            <a:ext cx="69850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22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Tekstvak 2"/>
          <p:cNvSpPr/>
          <p:nvPr/>
        </p:nvSpPr>
        <p:spPr>
          <a:xfrm>
            <a:off x="1066680" y="1523880"/>
            <a:ext cx="789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IN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direct invloed op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ster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oede prijs, niet te duur t.o.v. de concurr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oper op ICT 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productinnov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zwa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goede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gatief im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lechte klachtenaf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51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1" name="Tekstvak 2"/>
          <p:cNvSpPr/>
          <p:nvPr/>
        </p:nvSpPr>
        <p:spPr>
          <a:xfrm>
            <a:off x="1187280" y="162864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EX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geen directe invloed op; de kansen en bedreigingen voor de hele markt en bran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kans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blemen bij de 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ag naar specialistische dien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economie gro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bedreigi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ografische verand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delige verandering in de wet- en regel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inig vertrouwen in de b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kun je aan het eind van dez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7600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weet wat een PMC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marketingmix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ent de eisen van een goede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beschrij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Tekstvak 2"/>
          <p:cNvSpPr/>
          <p:nvPr/>
        </p:nvSpPr>
        <p:spPr>
          <a:xfrm>
            <a:off x="1066680" y="1700280"/>
            <a:ext cx="7826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Je sluit de SWOT-Analyse af met een conclusi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denk je met behulp van deze gegevens een plekje in de markt te kunnen verov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 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lgend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Tekstvak 2"/>
          <p:cNvSpPr/>
          <p:nvPr/>
        </p:nvSpPr>
        <p:spPr>
          <a:xfrm>
            <a:off x="1258920" y="1893960"/>
            <a:ext cx="7427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SEL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IE MAKEN.WIKIWIJS.NL/1338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Herhaling van vorig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doelgroep is een min of meer homogene klanten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 wordt zo nauw mogelijk omschreven aan de hand van 5 specifieke kenmerk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m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ciaal-econom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oop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rij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5410080" y="3962520"/>
            <a:ext cx="2514600" cy="1904760"/>
          </a:xfrm>
          <a:prstGeom prst="leftArrowCallout">
            <a:avLst>
              <a:gd name="adj1" fmla="val 25002"/>
              <a:gd name="adj2" fmla="val 25000"/>
              <a:gd name="adj3" fmla="val 22003"/>
              <a:gd name="adj4" fmla="val 6667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sch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ze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m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(Product-Markt-Combinatie) is een combinatie van één van je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or iedere PMC stel je een apart marketingplan 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Afbeeldingsresultaat voor kok die kookt"/>
          <p:cNvPicPr/>
          <p:nvPr/>
        </p:nvPicPr>
        <p:blipFill>
          <a:blip r:embed="rId1"/>
          <a:stretch/>
        </p:blipFill>
        <p:spPr>
          <a:xfrm>
            <a:off x="4876920" y="4149720"/>
            <a:ext cx="29937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McCarthy: de 4 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ats / Distrib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e extra P’s, z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Lauterbo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e 4 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ntenoplos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to the Custom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ijs/kwalite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ience / gema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a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romoti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Marketingmix 4 P's"/>
          <p:cNvPicPr/>
          <p:nvPr/>
        </p:nvPicPr>
        <p:blipFill>
          <a:blip r:embed="rId1"/>
          <a:stretch/>
        </p:blipFill>
        <p:spPr>
          <a:xfrm>
            <a:off x="1042920" y="450720"/>
            <a:ext cx="7705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Tekstvak 2"/>
          <p:cNvSpPr/>
          <p:nvPr/>
        </p:nvSpPr>
        <p:spPr>
          <a:xfrm>
            <a:off x="1187280" y="1773360"/>
            <a:ext cx="71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ERSONE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 het personeel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 doen om ons product te verkrij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de klant niet 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levertijden hebben we en wanneer communiceren we dit met de kl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; Maak een Marketing Mix voor Ike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05" name="Object 3"/>
          <p:cNvGraphicFramePr/>
          <p:nvPr/>
        </p:nvGraphicFramePr>
        <p:xfrm>
          <a:off x="1660680" y="1778040"/>
          <a:ext cx="643068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778040"/>
                    <a:ext cx="643068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Geraar de Jong</cp:lastModifiedBy>
  <dcterms:modified xsi:type="dcterms:W3CDTF">2018-11-11T23:02:12Z</dcterms:modified>
  <cp:revision>46</cp:revision>
  <dc:subject/>
  <dc:title>Marketing les 1</dc:title>
</cp:coreProperties>
</file>