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B45E-44C0-44F1-AE7A-5A094926AF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F040-A010-4B21-8E26-1F50A60DC9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7E3-E9E5-45C9-A5AE-ADA85350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02E-865A-49FB-9F97-59C3D542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41E-B53E-4C5E-957C-F84F0974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B77F-6E9A-4959-BF7C-868332B0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723-7D8A-424B-A89A-B9B41C45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A26-04B1-4DBA-93AC-130AE96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0BE-48A8-4436-8EE7-5353248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6830-9DA9-4638-8599-12AD997A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FA6-1987-42A1-991E-5AFB9C1C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053-E6F5-4AB4-A31C-F4756AA3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8186-85B0-4167-86A5-C5B1A39B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C16-29C1-45DE-96EB-95F1A2F1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360-7016-4529-95A9-43B91AC9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4861-71F4-4D58-9ECF-3528FB3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B6E-4061-49CF-8778-55E2C521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003-568B-47A1-B473-9DA0C861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DA5-36E8-4E66-9031-994B8189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7C90-D8FA-48CA-90FD-EEB779EE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FC89-CD11-4E5F-A0E1-D40875AA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25B2-B787-4E6F-BF64-0DEA6129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14E3-7CAF-44A8-8425-14D22FEA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9950-87AE-4621-99B3-7F445B9B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0B3-6E40-46B9-8A4F-1B2734EC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45F4-25F2-4A24-8AC9-13E841C3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5E22-F6C6-4BEE-93A4-99F83BC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B50B-0173-4D2C-B22D-7350EB0F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1A4A2-73C0-4053-A5DB-B9F3C24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4A15-DD5D-419E-A0ED-ADE58439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3228-7FEF-474E-8FC3-E84A7E69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1102-A087-4597-AB94-0AD8185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E02D-EBCD-4CE7-9D19-E1E3C27C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94C9C-45CD-48C7-8C2F-118690AB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36BB7-73AB-480E-81D1-9D7551D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FF2-B4E7-4884-9AFE-45DA105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42C9B-9870-4198-9E03-76AE2441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3447-C413-45FB-A22F-D675B16B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60E2-0E5A-455C-8AF8-D76D72A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B95B6-98BF-49B7-AABE-E9EF696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B64A-B11F-4AB8-AD74-8B1FAC8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32693-1B84-47F1-B6CF-6F1C626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A0A2-3F06-497C-8472-C5C0B571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B599-57D4-4A5A-8ABD-3349BE1E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124D-C6A8-4706-AABC-0CF7CFD0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537-A896-4361-9E09-3A30278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E60-1E20-429C-8D03-580723B6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991-DBA2-458E-B03B-5D75CC3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E37-1199-4E77-B811-18AEF73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0AD-7DAF-4FCA-833E-A21FE482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9CBE-9668-49F8-ADAD-37E2415743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B931-537C-4732-8146-9890FD6268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F9F-C92A-4420-866E-76CD2ED138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A1F6-CF38-4EFF-8A0C-00CA562C9E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s://www.allesvoorniks.nl/?p=gratis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2-09T23:59:36Z</dcterms:modified>
  <cp:revision>43</cp:revision>
  <dc:subject/>
  <dc:title>Marketing les 1</dc:title>
</cp:coreProperties>
</file>