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913A-049B-4A67-8FBF-1E83D98A09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5E47-C164-420D-8298-21223AA10D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D89E-8391-41EC-9D49-C401A9D620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3FA4-0786-4834-84A0-F2E9FD1E33B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6CD0-BCD8-457B-9056-1994611C8F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5246A-719F-43A1-9E6D-AF5055F5F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8413B-907D-4D50-B79A-B1AA4F67E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4A90E-886C-491A-8343-9EF0BB11D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1A020-5F72-4819-8972-08D2BB4F3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B9FC6-2926-4822-93D8-9A49EC072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FC342-51F7-4FB9-95C8-5557ABE21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770B0-ECC3-45AA-AA13-8F0483C43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F0B8E-30FD-44CB-B2EE-FD8EC0ECC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B034A-CB14-4AB7-A3FA-D2A537838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0BA2C-1BC5-4F8A-B9F4-7491CECB9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4302-632E-4ECA-8579-77DA1FF6C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DD6C-996A-47BD-AECE-1BFACD139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B4524-05FC-4E6F-93BA-E39082ECE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2BF09-418D-44FC-892C-2486925AA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DF0D9-027D-4214-B4FE-C42A0A0A2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C2B54-A983-4B12-97BA-002C0004F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43FC2-E4D8-4D22-A8D5-4A66B0AD4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AA768-A01A-4F14-823D-2E92EBF1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D4874-A090-42DD-AE6E-3F975DD19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17F90-B468-4328-9724-708A8124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FD5E8-A939-4043-BB64-A345866E2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0A89-CF79-4CBE-8759-8FE729F69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5DDB-1360-409E-AFD6-E1215A519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CAD19-ECF7-45E4-9B68-3DA50EA54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D520-D607-4050-B75D-F00C7B758DB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AAA2-FB15-4E40-81FF-587071A421C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s://www.youtube.com/watch?v=riZRvGuXrcQ" TargetMode="External"/><Relationship Id="rId3" Type="http://schemas.openxmlformats.org/officeDocument/2006/relationships/hyperlink" Target="http://www.jumbosupermarkten.nl/Bedrijf/Over-Jumbo/Feiten-en-cijfers/"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1"/>
              </a:rPr>
              <a:t>vliegwiel van de glimlach</a:t>
            </a: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2"/>
              </a:rPr>
              <a:t>Alles 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60066"/>
                </a:solidFill>
                <a:uFillTx/>
                <a:latin typeface="Times New Roman"/>
                <a:hlinkClick r:id="rId3"/>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eraar de Jong</cp:lastModifiedBy>
  <dcterms:modified xsi:type="dcterms:W3CDTF">2018-12-06T09:38:55Z</dcterms:modified>
  <cp:revision>79</cp:revision>
  <dc:subject/>
  <dc:title>Marketing les 1</dc:title>
</cp:coreProperties>
</file>