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BE2D-DC5C-411E-8F3D-C81C636D996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BF65-A322-48AC-B278-90767568549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7DD3-463F-490C-A5CA-96C6E577B5C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10A1-ED98-44E0-9515-EB78FDF4BE2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6A49-7967-45A3-922A-ADAB5EAE1D0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D3100-66A0-40AC-B247-566D9AD55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9C1A2-ABF0-4C0B-856E-B39C2198F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AF69D-6563-4CEA-AFC2-B0BE8E4B8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14E01-056F-4732-8258-B591C9C8D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9D8DE-6878-4AE5-9B87-D286C0D88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16C1B-4201-47FF-8043-644F7B08D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69D0E-7849-47B9-8652-3624C0169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9D554-336E-42FC-A281-38E3E0E5C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C0AF5-CDDF-415A-A494-6B42EAEE4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D2BBF-7998-4ACB-9685-13B6DB506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97A0D-A6F5-4262-A8E1-37C4E3A60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12FAD-36AB-43D2-AB9C-364885254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E0571-D77F-4C23-8C79-C5C8BA6B3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DAE58-8872-4C28-8934-314B56E5B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9440E-C322-49DA-88BE-1077AF5D9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F702C-D0EE-4A91-A05D-8042399CC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4AB7B-91D2-4C5B-9AB4-FE1889FA0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2666C-2769-4672-BEA4-AB714D6CD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36682-E038-4D7E-AA0F-6AE5F5504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D40AA-CBEE-4228-8790-4E1C2FB1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03711-8B98-4279-9238-F22AF1E4A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D8521-6F31-4873-BCE5-30BD57EDF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AF8B3-89F1-4A71-B2C6-231CC21A0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9D1A9-15B5-4C8F-BD07-98E596F20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30E3-1F08-4D2A-B785-0B17928CD1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5CF3-9CC7-4E4C-874C-95743B7E23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youtube.com/watch?v=DstESP8xBfM" TargetMode="External"/><Relationship Id="rId3" Type="http://schemas.openxmlformats.org/officeDocument/2006/relationships/hyperlink" Target="https://www.youtube.com/watch?v=riZRvGuXrcQ" TargetMode="External"/><Relationship Id="rId4" Type="http://schemas.openxmlformats.org/officeDocument/2006/relationships/hyperlink" Target="https://www.youtube.com/watch?v=riZRvGuXrcQ" TargetMode="External"/><Relationship Id="rId5" Type="http://schemas.openxmlformats.org/officeDocument/2006/relationships/hyperlink" Target="http://www.jumbosupermarkten.nl/Bedrijf/Over-Jumbo/Feiten-en-cijfers/"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a:t>
            </a:r>
            <a:r>
              <a:rPr b="0" lang="en-US" sz="2800" spc="-1" strike="noStrike" u="sng">
                <a:solidFill>
                  <a:srgbClr val="660066"/>
                </a:solidFill>
                <a:uFillTx/>
                <a:latin typeface="Times New Roman"/>
                <a:ea typeface="Times New Roman"/>
                <a:hlinkClick r:id="rId2"/>
              </a:rPr>
              <a:t>glimlac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3"/>
              </a:rPr>
              <a:t>Alles </a:t>
            </a:r>
            <a:r>
              <a:rPr b="0" lang="en-US" sz="2800" spc="-1" strike="noStrike" u="sng">
                <a:solidFill>
                  <a:srgbClr val="660066"/>
                </a:solidFill>
                <a:uFillTx/>
                <a:latin typeface="Times New Roman"/>
                <a:ea typeface="Times New Roman"/>
                <a:hlinkClick r:id="rId4"/>
              </a:rPr>
              <a:t>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5"/>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éraar de Jong</cp:lastModifiedBy>
  <dcterms:modified xsi:type="dcterms:W3CDTF">2019-02-06T22:55:05Z</dcterms:modified>
  <cp:revision>79</cp:revision>
  <dc:subject/>
  <dc:title>Marketing les 1</dc:title>
</cp:coreProperties>
</file>