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5ED6-0221-4F56-9F93-766F42FFE9E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2ACB-3A5B-47B9-BB82-0855F93D1C6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680-2469-47D1-B5D7-3B4375CA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C63-E73D-40C1-A268-E79622DD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80F-7A9F-4961-A12B-8EFBD100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667-69ED-4774-B5FF-93185286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FA1D-78D8-4B1A-ACB5-9FF3EC10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2CC0-56FD-40F8-B1BD-FE16306E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639B-A9E8-4CCA-A878-A45A8A87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7223-18AB-4461-AA81-F5505FE6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60BE-4EC6-469D-9A73-28B5AE62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B53D-7A10-44F3-B4C6-FE2CE133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A1C4-E1B2-4396-8274-9D73D413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D9B-95F9-4F5B-835C-E89D3AB4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4380-1B89-44D6-A974-5BEDA53C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D99E-34A8-4246-8AD7-9207E029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41DD-268A-408D-8744-2831B57D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FB14-FE5C-4925-AB2D-235E7D63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6987-5401-4195-BE1B-7D595966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E30C2-E6B1-473A-B4B5-9B2C15F8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FD911-AC6C-4675-B405-9C303DC2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1048E-F031-4D1D-9C65-979EA465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62719-8D33-47DE-A57D-E325FE60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01E37-CFE0-415F-AB0B-CFEDCD4B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4CE4-E5E8-4021-B9B4-46B5CCFF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5087D-7E1E-4703-AFDF-8371D708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0E7C4-0578-452C-B3B4-AF8D4344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CC184-80BF-4BC5-AA95-5F76069E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92581-7B99-4EB5-A21F-EEC50A55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BCF6F-3514-4A01-932F-22DF683D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8852E-02A2-4689-8C0D-FE068352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0F9DA-71B0-414E-A30D-FCFD87C3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19BE5-B12B-4D7F-90A4-24D3F0E9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50854-F12B-4987-8419-67D9D15C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F142F-91A6-48CF-B6E6-3A22A725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07B-4BFD-46DA-8ADA-915D51C0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624AD-1012-411E-A445-FF6583D5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0ED58-5B86-41FB-813B-ADD20282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9EDD-B27A-43E1-A908-31A282FE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DCBF5-538E-4503-A7C6-8AD5F258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B98CE-D70C-4C77-8AA4-4B900157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73983-58B2-4814-9CCE-D8597290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6718C-8EA9-46AE-9112-38EC1B51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192DF-0C4D-4C92-8240-73006E3D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5A2B8-D667-492C-91B0-0245499A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2F6-3CBE-4A7F-88AF-5F007E1B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570-52FB-47E0-A8A5-41392245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3F3-0F76-4DF5-B9DF-277A800C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E92-0971-467E-9323-9806DCAE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BF5-E5B7-4853-A7B7-705F35DC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E12F-AD89-415D-8733-5476671C076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FD04-D0D2-43F9-8C98-22EB989B1EF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0DCB-071A-4F56-8964-CBFB45F8C0C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1CC4-9039-4C95-8BF2-B7036C287F5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s://www.allesvoorniks.nl/?p=gratis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763280" y="2997360"/>
            <a:ext cx="6324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ellogram, Koopgedrag en marktaand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220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kstvak 5"/>
          <p:cNvSpPr/>
          <p:nvPr/>
        </p:nvSpPr>
        <p:spPr>
          <a:xfrm>
            <a:off x="1332000" y="4869000"/>
            <a:ext cx="36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4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225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een kinder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332000" y="1568520"/>
            <a:ext cx="6840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4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2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k opdracht 2c voor jouw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201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1411200" y="2095560"/>
            <a:ext cx="2759040" cy="1851120"/>
          </a:xfrm>
          <a:prstGeom prst="rect">
            <a:avLst/>
          </a:prstGeom>
          <a:ln w="0">
            <a:noFill/>
          </a:ln>
        </p:spPr>
      </p:pic>
      <p:sp>
        <p:nvSpPr>
          <p:cNvPr id="208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kstvak 2"/>
          <p:cNvSpPr/>
          <p:nvPr/>
        </p:nvSpPr>
        <p:spPr>
          <a:xfrm>
            <a:off x="1657440" y="907920"/>
            <a:ext cx="652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kstvak 3"/>
          <p:cNvSpPr/>
          <p:nvPr/>
        </p:nvSpPr>
        <p:spPr>
          <a:xfrm>
            <a:off x="1258920" y="4349880"/>
            <a:ext cx="7316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Tekstvak 4"/>
          <p:cNvSpPr/>
          <p:nvPr/>
        </p:nvSpPr>
        <p:spPr>
          <a:xfrm>
            <a:off x="5010120" y="230040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18-12-09T23:59:36Z</dcterms:modified>
  <cp:revision>43</cp:revision>
  <dc:subject/>
  <dc:title>Marketing les 1</dc:title>
</cp:coreProperties>
</file>