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png" ContentType="image/png"/>
  <Override PartName="/ppt/media/image17.wmf" ContentType="image/x-wmf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8DCA-BDBD-491B-B25C-D319669756C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5382-7F07-456E-9AC6-F7138F63B07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doelmarktsegment ontstaat door eerst te onderkennen dat verschillende groepen, of segmenten, van de markt verschillende behoeften en wensen heb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96E9-2987-4937-9828-7A030DEF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A34D-40C1-484F-81CA-1B5DEEBC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6D6F-C329-46CA-B882-88EB036F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A5EC-67DE-4E41-8D80-5F25491B7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7E80-660A-4E49-8299-50B5F37F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CDAA-3F2B-48FE-BFA1-C782EAFC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9443-4DC0-46C8-B91C-E01C76A1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2A21-4D80-4AD5-9F20-24A0A64A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B073-FE0A-42E3-80C6-BDF17FC2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6F1E-EE27-4D62-B267-5F7DAD87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AE98-3059-4DFD-B921-57E02F62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D5CB-36E9-484A-ADCE-25D39B77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F1DE-CF12-45AD-A7E9-5C349C46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EAE1-E74A-47C6-AB06-3247C3B2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A623-956C-479A-9C75-B4A97C77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C8AC-0D2E-44B7-8D0A-C548317E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F7CC-F0DF-4979-B3FC-0828A580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0FC8C-6B08-40CB-BBFF-EE39025C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B9C60-AAC6-44D9-AA0D-0CA5CA14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E7B96-FB26-4317-B80F-27C17025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27D33-C6C5-4B26-87F5-5E753DF7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E48EC-5421-4DCE-A832-FC9574A0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22F1-DEDF-4272-B38D-AF8D0FCC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F27B7-B402-40A6-B0A5-752C2ECC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C4124-82A2-4261-BE3E-C666E97F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F4B59-A526-4C14-B26A-F26D08DC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74AD5-EBB1-42C6-8EBA-3CDE9F46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0B670-3386-4C98-AB97-F11D5437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C79B6-E38E-4C09-9BE9-40E5AC41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B06CE-2C1E-41FC-8DBE-23C13CBD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18606-1914-4BA7-A262-A77D7F39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D1C16-91E1-4FD7-B8AD-CD384C14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CCA1D-CC04-4878-B8A3-F064FC23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5536-B15B-456B-8736-CE5283C3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837E2-33E9-4B89-B0F8-F6F6244D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0AE89-B957-4EA3-9F6F-4978E6C6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369DE-2E7F-4D70-A76C-FE23BF89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E5BB1-86DE-482A-8C56-7C8A4A27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96D54-19C3-4CB0-A8C7-F644DFA6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D9521-2082-4B4D-A5DF-10AC9A1B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C5F8F-FE08-4AEF-A94A-E54FA3D1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FC1FF-59B8-4A30-B415-90D2C956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5F68F-9C1E-4C95-BFA1-C8FDC831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DB59-0181-4717-9D0F-16278C40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D06E-EF6F-4A90-9D4E-5CB0FE46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1EE0-E5A3-42FE-8DDD-BD78D7F2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93B5-312F-4C45-A9B4-A1B13829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E3F5-B1E0-4228-B506-E746C745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547A-E284-4107-AE72-02312DFDF4B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C921-6062-4BDA-B970-DD7A63340C6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08F1-DCB8-4A88-B4BD-9AC2EF89BF0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DD83-9BD3-47E9-95A8-7624C658875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8Vf53-nAiE&amp;feature=related" TargetMode="External"/><Relationship Id="rId2" Type="http://schemas.openxmlformats.org/officeDocument/2006/relationships/hyperlink" Target="http://nl.wikipedia.org/wiki/Nichemarkt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z-to9_CJQQ&amp;feature=related" TargetMode="External"/><Relationship Id="rId2" Type="http://schemas.openxmlformats.org/officeDocument/2006/relationships/hyperlink" Target="http://www.allesvoorniks.nl/?p=search&amp;zoekwoord=proefmonster&amp;gclid=CMzJlpXm_5YCFQL91AodjlNaWg" TargetMode="External"/><Relationship Id="rId3" Type="http://schemas.openxmlformats.org/officeDocument/2006/relationships/hyperlink" Target="http://www.youtube.com/watch?v=LIBnvGavwWY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a33CFgh6qg&amp;feature=related" TargetMode="External"/><Relationship Id="rId2" Type="http://schemas.openxmlformats.org/officeDocument/2006/relationships/hyperlink" Target="https://www.youtube.com/watch?v=Z4M3sBQSwII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763280" y="2997360"/>
            <a:ext cx="632484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Sellogram, Koopgedrag en marktaand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ONE Col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68580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5200" y="1796760"/>
            <a:ext cx="75610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ff0000"/>
                </a:solidFill>
                <a:latin typeface="Lucida Sans"/>
              </a:rPr>
              <a:t>Amaliaplein Almel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Afbeeldingsresultaat voor amalia plein almelo"/>
          <p:cNvPicPr/>
          <p:nvPr/>
        </p:nvPicPr>
        <p:blipFill>
          <a:blip r:embed="rId1"/>
          <a:stretch/>
        </p:blipFill>
        <p:spPr>
          <a:xfrm>
            <a:off x="1143000" y="2546280"/>
            <a:ext cx="2916360" cy="1822680"/>
          </a:xfrm>
          <a:prstGeom prst="rect">
            <a:avLst/>
          </a:prstGeom>
          <a:ln w="0">
            <a:noFill/>
          </a:ln>
        </p:spPr>
      </p:pic>
      <p:sp>
        <p:nvSpPr>
          <p:cNvPr id="220" name="Tekstvak 3"/>
          <p:cNvSpPr/>
          <p:nvPr/>
        </p:nvSpPr>
        <p:spPr>
          <a:xfrm>
            <a:off x="4284720" y="2546280"/>
            <a:ext cx="40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Willem de Vier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‘</a:t>
            </a: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t Hookho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Shamro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kstvak 5"/>
          <p:cNvSpPr/>
          <p:nvPr/>
        </p:nvSpPr>
        <p:spPr>
          <a:xfrm>
            <a:off x="1332000" y="4869000"/>
            <a:ext cx="36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Veel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heterogene produ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kstvak 6"/>
          <p:cNvSpPr/>
          <p:nvPr/>
        </p:nvSpPr>
        <p:spPr>
          <a:xfrm>
            <a:off x="4624560" y="4165560"/>
            <a:ext cx="406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nl-NL" sz="3000" spc="-1" strike="noStrike">
                <a:solidFill>
                  <a:srgbClr val="ff0000"/>
                </a:solidFill>
                <a:latin typeface="Lucida Sans"/>
              </a:rPr>
              <a:t>Monopolistische concurrent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433080"/>
            <a:ext cx="68580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4" name="Picture 2" descr="Afbeeldingsresultaat voor ns"/>
          <p:cNvPicPr/>
          <p:nvPr/>
        </p:nvPicPr>
        <p:blipFill>
          <a:blip r:embed="rId1"/>
          <a:stretch/>
        </p:blipFill>
        <p:spPr>
          <a:xfrm>
            <a:off x="1143000" y="2290680"/>
            <a:ext cx="3297240" cy="1478160"/>
          </a:xfrm>
          <a:prstGeom prst="rect">
            <a:avLst/>
          </a:prstGeom>
          <a:ln w="0">
            <a:noFill/>
          </a:ln>
        </p:spPr>
      </p:pic>
      <p:sp>
        <p:nvSpPr>
          <p:cNvPr id="225" name="Tekstvak 3"/>
          <p:cNvSpPr/>
          <p:nvPr/>
        </p:nvSpPr>
        <p:spPr>
          <a:xfrm>
            <a:off x="4722840" y="2228760"/>
            <a:ext cx="3647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1 aanbie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Dit bedrijf kan veel winst mak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prijs wordt bepaald door dit bedrij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kstvak 4"/>
          <p:cNvSpPr/>
          <p:nvPr/>
        </p:nvSpPr>
        <p:spPr>
          <a:xfrm>
            <a:off x="2128680" y="4608360"/>
            <a:ext cx="587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Mon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Times New Roman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" name="Tekstvak 3"/>
          <p:cNvSpPr/>
          <p:nvPr/>
        </p:nvSpPr>
        <p:spPr>
          <a:xfrm>
            <a:off x="1476360" y="19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In welke van de vier marktvormen zit een kinderboerderij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 groot ben je in verhouding tot je concurren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t uitgerekend per productcatego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mzet in je verzorgingsgebied 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antal klanten </a:t>
            </a:r>
            <a:r>
              <a:rPr b="0" lang="en-US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middelde besteding per ja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1590840" y="3809880"/>
                <a:ext cx="66150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igen omz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e omzet in je verzorgingsgebied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oelen voor 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ter marktaandeel = voordelen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schaalvergr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://www.youtube.com/watch?v=68Vf53-nAiE&amp;feature=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tle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 de prijs bep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einer bedrijf (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ni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ak stabieler bij economische tegen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5" name="Tijdelijke aanduiding voor inhoud 1" descr=""/>
          <p:cNvPicPr/>
          <p:nvPr/>
        </p:nvPicPr>
        <p:blipFill>
          <a:blip r:embed="rId1"/>
          <a:stretch/>
        </p:blipFill>
        <p:spPr>
          <a:xfrm>
            <a:off x="1332000" y="1568520"/>
            <a:ext cx="684036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7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http://www.fractal.org/Bewustzijns-Besturings-Model/Pres-BBM-A/img055.GIF"/>
          <p:cNvPicPr/>
          <p:nvPr/>
        </p:nvPicPr>
        <p:blipFill>
          <a:blip r:embed="rId1"/>
          <a:stretch/>
        </p:blipFill>
        <p:spPr>
          <a:xfrm>
            <a:off x="395280" y="333360"/>
            <a:ext cx="813744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ortfolio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Sterren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Cash Cow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Melkkoeien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++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Dog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veel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Vraagteken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Sta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osten gel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Dog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rijgen nauwelijks aandacht en verdwijnen op den duu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of geen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levenscyclus en win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4" name="Picture 2" descr="http://www.percent.nl/onlineleren/onlinelerenfiles/encyclopedie/images/meno/CDM037.JPG"/>
          <p:cNvPicPr/>
          <p:nvPr/>
        </p:nvPicPr>
        <p:blipFill>
          <a:blip r:embed="rId1"/>
          <a:stretch/>
        </p:blipFill>
        <p:spPr>
          <a:xfrm>
            <a:off x="1547640" y="15796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gaan we doen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Tekstvak 2"/>
          <p:cNvSpPr/>
          <p:nvPr/>
        </p:nvSpPr>
        <p:spPr>
          <a:xfrm>
            <a:off x="1258920" y="1893960"/>
            <a:ext cx="742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iswerk bespr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Sel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46" name="Object 6"/>
          <p:cNvGraphicFramePr/>
          <p:nvPr/>
        </p:nvGraphicFramePr>
        <p:xfrm>
          <a:off x="1676520" y="2057400"/>
          <a:ext cx="5715000" cy="36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71500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7"/>
          <p:cNvSpPr/>
          <p:nvPr/>
        </p:nvSpPr>
        <p:spPr>
          <a:xfrm>
            <a:off x="2088720" y="4003560"/>
            <a:ext cx="144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1304"/>
                </a:solidFill>
                <a:latin typeface="Tahoma"/>
              </a:rPr>
              <a:t>Introduct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628440" y="32288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352040" y="22384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ahoma"/>
              </a:rPr>
              <a:t>Volwasse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6152040" y="322884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1bd69"/>
                </a:solidFill>
                <a:latin typeface="Tahoma"/>
              </a:rPr>
              <a:t>V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04920" y="5867280"/>
          <a:ext cx="7315200" cy="43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ateg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oni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hav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ioni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anten inform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Feiten opsom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Gratis proefmonsters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re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Demo’s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in wink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ijs is minder belangr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stributeurs 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nkelpersoneel informeren/instru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urr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druk op de </a:t>
            </a: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voordelen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.o.v. con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Kwa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j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sprekende merkident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leugje humor of de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rvice verbet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andhav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anten behou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latie met klant verstev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rinnerings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ductverbeteringen doorvo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novatietheorie van Rog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629400" y="3581280"/>
            <a:ext cx="2362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609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975"/>
                </a:solidFill>
                <a:latin typeface="Times New Roman"/>
              </a:rPr>
              <a:t>Om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b9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b921"/>
                </a:solidFill>
                <a:latin typeface="Times New Roman"/>
              </a:rPr>
              <a:t>Verzad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7" descr="File:Diffusionofideas.PNG"/>
          <p:cNvPicPr/>
          <p:nvPr/>
        </p:nvPicPr>
        <p:blipFill>
          <a:blip r:embed="rId1"/>
          <a:stretch/>
        </p:blipFill>
        <p:spPr>
          <a:xfrm>
            <a:off x="1116000" y="1700280"/>
            <a:ext cx="59436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sitionerings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laatsing van het product in de gedachten van de k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er je klantengro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rkt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werp je positioneringsstrate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ordelen voor de k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P. (unique selling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wijs en ondersch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of je klanten het sn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schrijf je positioneringsstrate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7" dur="1" fill="hold"/>
                                  <p:tgtEl>
                                    <p:spTgt spid="26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 voor volgend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k opdracht 2c voor jouw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mschrijf wat de volgende woorden beteken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koopcombin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rijwillig filiaalbedrij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cession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Franch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öpe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 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logr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54864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mee ontdek je waarop je de nadruk moet leggen in je promo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787" descr="C:\Documents and Settings\Robbert\Bureaublad\sellogram.bmp"/>
          <p:cNvPicPr/>
          <p:nvPr/>
        </p:nvPicPr>
        <p:blipFill>
          <a:blip r:embed="rId1"/>
          <a:stretch/>
        </p:blipFill>
        <p:spPr>
          <a:xfrm>
            <a:off x="1219320" y="1905120"/>
            <a:ext cx="7315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sen in het kooppro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Communicatie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ustwording van de behoef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eken naar inform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Koop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elijken van alternati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gebr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voelens na 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oopinspan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unsought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convenience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rgvuldig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hopp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een (prijs is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en (eigenschappen zijn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zonderlijk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pecialty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10"/>
          <p:cNvGrpSpPr/>
          <p:nvPr/>
        </p:nvGrpSpPr>
        <p:grpSpPr>
          <a:xfrm>
            <a:off x="1295280" y="5105520"/>
            <a:ext cx="7162920" cy="1428480"/>
            <a:chOff x="1295280" y="5105520"/>
            <a:chExt cx="7162920" cy="1428480"/>
          </a:xfrm>
        </p:grpSpPr>
        <p:pic>
          <p:nvPicPr>
            <p:cNvPr id="201" name="Picture 4" descr="rolex_masterpiece_watches01-face"/>
            <p:cNvPicPr/>
            <p:nvPr/>
          </p:nvPicPr>
          <p:blipFill>
            <a:blip r:embed="rId1"/>
            <a:stretch/>
          </p:blipFill>
          <p:spPr>
            <a:xfrm>
              <a:off x="6934320" y="525780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6" descr="pindakaas_116282d"/>
            <p:cNvPicPr/>
            <p:nvPr/>
          </p:nvPicPr>
          <p:blipFill>
            <a:blip r:embed="rId2"/>
            <a:stretch/>
          </p:blipFill>
          <p:spPr>
            <a:xfrm>
              <a:off x="3505320" y="5257800"/>
              <a:ext cx="95544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7" descr="Wasmachine"/>
            <p:cNvPicPr/>
            <p:nvPr/>
          </p:nvPicPr>
          <p:blipFill>
            <a:blip r:embed="rId3"/>
            <a:stretch/>
          </p:blipFill>
          <p:spPr>
            <a:xfrm>
              <a:off x="5105520" y="5181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9" descr="ballLollies-thumb"/>
            <p:cNvPicPr/>
            <p:nvPr/>
          </p:nvPicPr>
          <p:blipFill>
            <a:blip r:embed="rId4"/>
            <a:stretch/>
          </p:blipFill>
          <p:spPr>
            <a:xfrm>
              <a:off x="1295280" y="5105520"/>
              <a:ext cx="1352520" cy="142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vor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ktvorm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 u="sng">
                <a:solidFill>
                  <a:srgbClr val="a1bd69"/>
                </a:solidFill>
                <a:uFillTx/>
                <a:latin typeface="Times New Roman"/>
              </a:rPr>
              <a:t>Aantal aanbie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opol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ligopol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p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opolistische concurren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schillende wensen, dezelfde behoe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bijzondering o.b.v. kwaliteit, m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ledige concurren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= volledige mededi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vrijwel) identieke produc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Afbeeldingsresultaat voor bloemkool"/>
          <p:cNvPicPr/>
          <p:nvPr/>
        </p:nvPicPr>
        <p:blipFill>
          <a:blip r:embed="rId1"/>
          <a:stretch/>
        </p:blipFill>
        <p:spPr>
          <a:xfrm>
            <a:off x="1411200" y="2095560"/>
            <a:ext cx="2759040" cy="1851120"/>
          </a:xfrm>
          <a:prstGeom prst="rect">
            <a:avLst/>
          </a:prstGeom>
          <a:ln w="0">
            <a:noFill/>
          </a:ln>
        </p:spPr>
      </p:pic>
      <p:sp>
        <p:nvSpPr>
          <p:cNvPr id="208" name="Tekstvak 1"/>
          <p:cNvSpPr/>
          <p:nvPr/>
        </p:nvSpPr>
        <p:spPr>
          <a:xfrm>
            <a:off x="4157640" y="3022560"/>
            <a:ext cx="37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Veel aanbie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Homogeen produ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kstvak 2"/>
          <p:cNvSpPr/>
          <p:nvPr/>
        </p:nvSpPr>
        <p:spPr>
          <a:xfrm>
            <a:off x="1657440" y="907920"/>
            <a:ext cx="6521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kstvak 3"/>
          <p:cNvSpPr/>
          <p:nvPr/>
        </p:nvSpPr>
        <p:spPr>
          <a:xfrm>
            <a:off x="1258920" y="4349880"/>
            <a:ext cx="7316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Volkomen concurrent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758880"/>
            <a:ext cx="68580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85400" y="3541680"/>
            <a:ext cx="19018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" descr="Afbeeldingsresultaat voor spelcomputers"/>
          <p:cNvPicPr/>
          <p:nvPr/>
        </p:nvPicPr>
        <p:blipFill>
          <a:blip r:embed="rId1"/>
          <a:stretch/>
        </p:blipFill>
        <p:spPr>
          <a:xfrm>
            <a:off x="2050920" y="2133720"/>
            <a:ext cx="2638440" cy="1798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Afbeeldingsresultaat voor nintendo"/>
          <p:cNvPicPr/>
          <p:nvPr/>
        </p:nvPicPr>
        <p:blipFill>
          <a:blip r:embed="rId2"/>
          <a:stretch/>
        </p:blipFill>
        <p:spPr>
          <a:xfrm>
            <a:off x="2025720" y="4251240"/>
            <a:ext cx="2663640" cy="1498680"/>
          </a:xfrm>
          <a:prstGeom prst="rect">
            <a:avLst/>
          </a:prstGeom>
          <a:ln w="0">
            <a:noFill/>
          </a:ln>
        </p:spPr>
      </p:pic>
      <p:sp>
        <p:nvSpPr>
          <p:cNvPr id="215" name="Tekstvak 4"/>
          <p:cNvSpPr/>
          <p:nvPr/>
        </p:nvSpPr>
        <p:spPr>
          <a:xfrm>
            <a:off x="5010120" y="2300400"/>
            <a:ext cx="39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een paar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beheersen d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houden elkaar goed  in de g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kstvak 5"/>
          <p:cNvSpPr/>
          <p:nvPr/>
        </p:nvSpPr>
        <p:spPr>
          <a:xfrm>
            <a:off x="5212080" y="4802040"/>
            <a:ext cx="293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Olig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Geraar de Jong</cp:lastModifiedBy>
  <dcterms:modified xsi:type="dcterms:W3CDTF">2020-12-02T22:44:05Z</dcterms:modified>
  <cp:revision>41</cp:revision>
  <dc:subject/>
  <dc:title>Marketing les 1</dc:title>
</cp:coreProperties>
</file>