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06A2-0D3A-4E3D-85EF-E046C1215B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4CA4-44F5-43D9-A66C-7D6F9FC8DDC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2AB7-6B51-44B5-9536-8DAC6798F2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9A10-2396-4B9F-940C-26FC7849A35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FFD-FC15-4B9D-ACDA-46C133ED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659-AA99-48BC-AA3E-C8F319B9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A92-0FCD-430E-977A-A889C189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802-F390-4381-A17B-D014506A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0F2D-5B0E-48FF-B067-4BE47AC6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581F-3764-4761-8472-8BBD3FB4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119E-BA52-4A89-8993-1D9A3063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01C0-E55E-4735-A2BB-4A0E0612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1A3E-09F4-4726-821E-C564A139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4435-585C-4C15-A5D1-9FDF0EE4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9669-B50F-4D7A-918B-DE95AA2F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992-83DC-490B-9C9E-CAD0CFA1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62CF-495D-44F2-BE26-8A2DAE94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9E1E-C94F-4EA8-8454-F0F1A90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436E-DA9B-4B1F-AEE9-33E03F9A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8C19-5197-433A-AE1A-12520C7F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3D3B-B9CA-44C4-B86D-12FC81E4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0754-4320-490A-949D-C9AF8DCC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3062E-DEEE-40CD-B474-4935382F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8624-3154-411F-B26A-2C69A3A3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7CCF4-652F-4F63-943E-64BCFD3A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1F6C4-93AE-43A6-B56C-D5014EAC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17F-C1EE-4F04-8E63-E6E83BEB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DC69-FB75-4B3F-BD6D-3FF53769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D7FB-9230-4194-9680-888082C4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52EB-143B-4D0C-AE8C-7AB4058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DA73-F84B-4743-9389-7949F829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CD21-8B8F-40EC-9B65-DD4036B9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3197-6922-4766-9822-220C5CA8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08F98-3EA8-4809-BE00-8029C39C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9CF95-B5C6-436A-8E09-26D18ACE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50C0-F75C-494F-A871-D6EA8C6A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5E80-35CA-4767-85B6-F8BF4B7D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F06-479D-46C3-9002-C8328445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BC511-2B48-450C-AFB1-EB05A81E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EF3F-EBA4-4FAD-83E8-E1FC3050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FDBC-2DE2-4847-A799-7123DC54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FE75-BE7C-43A5-93A1-B342443D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5D68-83C6-4710-98A1-06C7CDCB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ED3C-BBC1-4B44-98A9-925AE360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9ACF-06B4-46CE-90E8-7F89ED34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30D7-240C-409F-ABFF-2F29F53B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FF83-0C6B-4000-819A-2CFEE19B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96B-F5CE-457F-AC2E-19ED9AC6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DB3-1226-48DC-B1E1-FD16818E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5F2-6D36-4957-8388-AB8C0CCA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BE5-EA53-44A6-B9DC-97632C74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B7C-1B2C-4370-99BE-FAD0662F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763-7CF9-4FD5-B2EC-5A18B58FA4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7CE0-E56C-4E45-9724-7536E230794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D391-D712-426A-8A31-31769C45F70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5B82-BF82-4538-8402-8BD0B23C19F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Marketingmix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Maslow 2"/>
          <p:cNvPicPr/>
          <p:nvPr/>
        </p:nvPicPr>
        <p:blipFill>
          <a:blip r:embed="rId1"/>
          <a:stretch/>
        </p:blipFill>
        <p:spPr>
          <a:xfrm>
            <a:off x="4910040" y="29242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258920" y="2637000"/>
            <a:ext cx="50292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Tekstvak 2"/>
          <p:cNvSpPr/>
          <p:nvPr/>
        </p:nvSpPr>
        <p:spPr>
          <a:xfrm>
            <a:off x="110952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.a.w.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6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.o.v.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MAKEN.WIKIWIJS.NL/1338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auterbo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 4 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ntenoplo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to the Custo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js/kwalite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ience / gem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mo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1-11T23:02:12Z</dcterms:modified>
  <cp:revision>46</cp:revision>
  <dc:subject/>
  <dc:title>Marketing les 1</dc:title>
</cp:coreProperties>
</file>