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81BC-8C67-42B1-8735-37208B9891A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7BEA-D283-4D28-A0F0-DD449B9B97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727-6304-4AC9-A1CE-5A739A21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E1C-0090-4DFE-A3D7-2A8A17F4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87F-3786-4B5C-9C92-149A4D91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ECB-74A9-4537-9835-8338D81A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E94E-067D-44F8-AE13-68A487F0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AB6F-DEC7-431B-805E-6D62F797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3E1E-065A-451E-8E81-A8D48F78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75A7-68F7-45C2-A66A-2D3010FE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B613-889B-4CC5-B04E-82F1880F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6C89-DED0-4015-9955-21A64F64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601F-4341-4668-AEAA-D86A34D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513-E75C-49E0-8919-89D2AB9F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ED83-62BE-4BBB-8522-CDB20686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C940-4455-466F-875C-847AD9D8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6D17-0572-47B8-B81D-2DD58406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5278-0D82-488F-8D5B-E33792BD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99A-77A1-4EF3-8988-C4C5641D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1E2B-DE52-4C15-9C6A-D151B69D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2582-3BE5-4B6C-B8A6-99ED2826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EED6-76D2-478B-B4A8-E1FAF171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8363-B153-4660-8AC9-084E3A23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BDD3-F4A7-40C1-8A26-F4D60BA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983-E802-4AB3-9840-4FDDE1B4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1D91-39EA-4377-BE8D-284588CA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C0CC-C504-4ED9-9BFF-B9B97693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BE5D-20D8-4D74-A3FD-BFD3B1A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B702-FB99-45AA-93D0-F2DDD13D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1028-DB53-4F96-901D-0D9FF217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998F-7240-45C4-A4BC-F9426913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2771-5832-4F32-9EF5-E934D25E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C6C10-9573-4D29-AA40-B8098FDA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29C1-0682-441A-8BD6-547EB70A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7B41-2180-4639-9373-B746D89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EE2-01CD-4B6F-9757-4CF96D05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F7200-A66D-420E-8F34-6E46D063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E9EE-70E8-44C6-947D-D7850E5E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4CAF9-B799-49AC-AFF5-91D5F15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8ACB-E270-4AC6-9B9D-89DE76B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F7157-5DD6-489B-AE99-A6BDB01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BA5D-85D0-488F-A52D-9F9E805A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AC60-52F1-48F0-925E-88F58D91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4E43-E76E-4346-8E14-7E71A8B3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06F5E-4363-4D74-8CBA-4F4416FC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79C-2CFF-47BD-B53B-7D26B0D8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09A-773B-4247-BD4D-8898DB39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1BC-6EB9-4E4E-9E95-68E6E51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0CE-C373-4721-B6D6-1A6A10B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70E-13CE-43C5-97E9-4CA17D38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AF21-5BBA-4309-B77C-CFF2E2ABA5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59E-6DDB-4AED-8387-AED611FC71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E23-B554-45C0-B759-E9097E07502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3DD3-E9FE-4CDF-A4C9-1B63984A503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s://www.allesvoorniks.nl/?p=gratis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2-09T23:59:36Z</dcterms:modified>
  <cp:revision>43</cp:revision>
  <dc:subject/>
  <dc:title>Marketing les 1</dc:title>
</cp:coreProperties>
</file>