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B76C-FED1-4443-947A-ED1508882D5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751F-5EEB-47E8-AC8E-F54589497F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13D1-3209-492A-8B0C-009F463FF9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E333-5C82-4589-BF0A-6EC7802524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7C9-804C-4AE8-923B-9738FB56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15A-9520-4D9A-B8BD-4547C33C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521-5374-41A7-8E81-AE2BC22F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7E9-32BE-457F-ADC8-3C70D032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5872-3AB7-4C0A-9E6B-3FB63C12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FCF3-0C73-45CD-B7FB-A61862B0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A22B-9359-4C24-A0D2-EBA4E4D0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E3AC-49E2-43AA-843D-756D1AAD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A569-CC1E-4265-864A-274AF9C3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4C9E-858E-4214-800F-172AE28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808F-0198-4E7B-9B12-AEEBCF1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84A-B467-43ED-B590-EEF33798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4932-7E49-4792-AEB9-B7B44BF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FC29-55A6-4C7B-94B4-D6094AE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7E9D-2186-4C82-9D7F-4F7A73A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15B7-E78B-4DE3-957F-86BFE518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3ABC-D67E-42E0-A6DF-360180CA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EC827-83C8-42E5-A7AF-085B7692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FA97-498C-4DBD-AF6A-8894D554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9665-BB03-4DFD-8438-F9698DD5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8A170-DB5A-4B78-83D2-D49D3A32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63BB-E82B-44D7-B9C3-459BD848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353-6EB5-4AE2-B72C-8E863850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A0ED-82A5-4992-A3D3-2C969E0F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1DED-074F-4757-B995-7D640C1E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F566-A4F1-484B-927F-7B66BCD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1091-E3BA-4DA3-B082-8D0DFFE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E15B-438B-4763-B3A7-E9F32741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1150A-BAC8-4E4A-A1C7-8BEB763F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D5EF-347C-4FDE-94EE-852E98C2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5DF8-0EE3-419C-80AC-AFFA9B9B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B5E6-AD4E-4CAF-AC8A-4AF6C3D4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9B73-30A3-40C7-A46E-71EAE174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1CE-F791-4629-BC48-64990AA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1C25-130D-49FC-B6ED-D16DDB47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83F07-EDCA-4291-AA1A-181E017D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0AF5-740F-4914-8E9A-2F654AC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04A8-9178-4B23-B2C5-53B8A972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DCD4-8F87-42F2-94C6-0F2663C9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EA78-D989-497A-A9BD-F809A66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1DF5-CAC5-4BE7-BDF7-0119F027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729A4-E2FF-41ED-8227-934D1B1B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7DFB-8439-4258-B818-3C58D679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1ED-4721-4CCC-94EC-FE6A051F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FAB-686E-40A7-A54B-298CCD84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4B7-4498-47BF-84C9-3E56832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5B8-F5AA-4FB9-A21E-5CEEEAE6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162-8771-45BD-9F09-67C5CBB9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2D09-07A5-44F2-B585-16BA4E5EF3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A5DB-65D3-4956-A8D1-C51347E1618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C1B-E2E5-4732-99DD-6C4A0A86B8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F004-6525-47AC-8942-C081E99DDA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Marketingmix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Maslow 2"/>
          <p:cNvPicPr/>
          <p:nvPr/>
        </p:nvPicPr>
        <p:blipFill>
          <a:blip r:embed="rId1"/>
          <a:stretch/>
        </p:blipFill>
        <p:spPr>
          <a:xfrm>
            <a:off x="4910040" y="29242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58920" y="2637000"/>
            <a:ext cx="50292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Tekstvak 2"/>
          <p:cNvSpPr/>
          <p:nvPr/>
        </p:nvSpPr>
        <p:spPr>
          <a:xfrm>
            <a:off x="110952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.a.w.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6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.o.v.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MAKEN.WIKIWIJS.NL/1338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auter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 4 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ntenoplo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to the Custo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js/kwalit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ce / gem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mo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1-11T23:02:12Z</dcterms:modified>
  <cp:revision>46</cp:revision>
  <dc:subject/>
  <dc:title>Marketing les 1</dc:title>
</cp:coreProperties>
</file>