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8.png" ContentType="image/png"/>
  <Override PartName="/ppt/media/image17.wmf" ContentType="image/x-wmf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FF264-9CE4-4E8A-BBBA-21EDC61D957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7071F-2A95-4089-AD58-057FB5EA673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en doelmarktsegment ontstaat door eerst te onderkennen dat verschillende groepen, of segmenten, van de markt verschillende behoeften en wensen hebb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3877-3D31-463C-9F37-1397D5EC1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DD33-A12E-4421-8309-965DFF06C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0523-62D9-4032-A260-23FD76208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D838-667B-4E68-A171-C36B6B3D8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BD04B-F0C5-4D90-8E0F-1E3540847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22257-F8F7-49E1-9DDE-D94EFC1EF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4E89C-425A-45B8-9152-945D64DF6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F39D0-3015-4AE6-B456-8F96A0759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38170-7256-4CA4-81A8-2ADF54A05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EBC13-2A8F-4586-AA17-AE75CBBFD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36172-B96B-4CF1-AD72-436488A1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6537-A5A1-4ACF-B6E9-2F35BF111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C3996-58E2-4E9C-972F-92068B3B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267AB-86EC-49B6-AA9B-21339853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5553C-C378-48A3-942B-FD41D8AA0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1CBB1-08BA-4085-B69E-9007B8DE1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D4B6F-9B75-484B-9050-9C751FA59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31051-9BBE-4B43-B4F7-442C38B3B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1FFD4-E351-406A-A485-462C5E402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A6814-C0F7-4384-97E1-BFAC427E3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4D356-E41B-40F2-B2EC-CABB25BD3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CC61F-E1B0-409D-B139-CEEA100F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3BF9-407B-4A38-9C02-27DFC467D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5E786-1051-44C0-A62A-E44D92F3E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94E3C-D094-4425-8D98-25F4A9C5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958AC-83A5-4D03-97D6-5F1CD0DA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E4AB1-1393-4AA0-AE2F-C003D418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CCC2A-25E6-4FCE-862E-098F584A4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CF307-D528-4A0C-8B9C-EFDB14105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DA463-6A5A-496B-B1B1-E6859C9C2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83F9E-7C68-40B2-8173-D81D3D78B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941C9-29AD-4C5F-890C-2221AF876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3D109-81E8-45FC-98BF-4BE4D9E7F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A21C-B1BA-4886-B77F-82143DE8B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9AB1A-8BB6-4104-9C03-A77A9F286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A74E0-53E2-4E06-94D0-952DEDBDD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DBF87-9E16-41F8-B9B4-FE6B05740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E20E8-98AC-4CE7-9F51-00CC25FE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E5143-E3C7-4F1A-95DC-357FDD12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12362-3B7F-4DA9-8D0C-FF08CD11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C0941-A979-4813-8EF4-0C1227D56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07BEC-C080-4C63-B265-63B631D0C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3ED3B-B482-4A6F-B299-48C32033D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1897-FA50-4995-AF7B-C44A375E2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9DCE-9442-4EA7-BC87-3CB8E8EA5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A333-97CF-46C2-A466-870C1D4B1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982B-1162-427A-9B6C-DEAF97BE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FD81-1987-465D-87F4-DC134393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ACDEA-244C-4A0D-87B8-548EAC3055F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42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3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8BA91-02D5-4537-9719-D9F5F648469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452FE-41FC-4C08-A6FD-234887C8DA9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5F928-2B87-471A-8D69-14E652F5C3A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68Vf53-nAiE&amp;feature=related" TargetMode="External"/><Relationship Id="rId2" Type="http://schemas.openxmlformats.org/officeDocument/2006/relationships/hyperlink" Target="http://nl.wikipedia.org/wiki/Nichemarkt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joule4jou.blogspot.com/2015/03/quest-3-swot-met-verwerking-van-feedback.html" TargetMode="External"/><Relationship Id="rId2" Type="http://schemas.openxmlformats.org/officeDocument/2006/relationships/hyperlink" Target="https://creativecommons.org/licenses/by-sa/4.0/" TargetMode="Externa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xz-to9_CJQQ&amp;feature=related" TargetMode="External"/><Relationship Id="rId2" Type="http://schemas.openxmlformats.org/officeDocument/2006/relationships/hyperlink" Target="http://www.allesvoorniks.nl/?p=search&amp;zoekwoord=proefmonster&amp;gclid=CMzJlpXm_5YCFQL91AodjlNaWg" TargetMode="External"/><Relationship Id="rId3" Type="http://schemas.openxmlformats.org/officeDocument/2006/relationships/hyperlink" Target="http://www.youtube.com/watch?v=LIBnvGavwWY" TargetMode="Externa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Qa33CFgh6qg&amp;feature=related" TargetMode="External"/><Relationship Id="rId2" Type="http://schemas.openxmlformats.org/officeDocument/2006/relationships/hyperlink" Target="https://www.youtube.com/watch?v=Z4M3sBQSwII" TargetMode="Externa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eting les 4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763280" y="2997360"/>
            <a:ext cx="632484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Sellogram, Koopgedrag en marktaand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Product-levens-cycl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ZONE Colle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43000" y="928800"/>
            <a:ext cx="68580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25200" y="1796760"/>
            <a:ext cx="756108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ff0000"/>
                </a:solidFill>
                <a:latin typeface="Lucida Sans"/>
              </a:rPr>
              <a:t>Amaliaplein Almelo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2" descr="Afbeeldingsresultaat voor amalia plein almelo"/>
          <p:cNvPicPr/>
          <p:nvPr/>
        </p:nvPicPr>
        <p:blipFill>
          <a:blip r:embed="rId1"/>
          <a:stretch/>
        </p:blipFill>
        <p:spPr>
          <a:xfrm>
            <a:off x="1143000" y="2546280"/>
            <a:ext cx="2916360" cy="1822680"/>
          </a:xfrm>
          <a:prstGeom prst="rect">
            <a:avLst/>
          </a:prstGeom>
          <a:ln w="0">
            <a:noFill/>
          </a:ln>
        </p:spPr>
      </p:pic>
      <p:sp>
        <p:nvSpPr>
          <p:cNvPr id="220" name="Tekstvak 3"/>
          <p:cNvSpPr/>
          <p:nvPr/>
        </p:nvSpPr>
        <p:spPr>
          <a:xfrm>
            <a:off x="4284720" y="2546280"/>
            <a:ext cx="4064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Willem de Vierd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‘</a:t>
            </a: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t Hookho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Shamroc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kstvak 5"/>
          <p:cNvSpPr/>
          <p:nvPr/>
        </p:nvSpPr>
        <p:spPr>
          <a:xfrm>
            <a:off x="1332000" y="4869000"/>
            <a:ext cx="366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Veel aanbie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heterogene produc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kstvak 6"/>
          <p:cNvSpPr/>
          <p:nvPr/>
        </p:nvSpPr>
        <p:spPr>
          <a:xfrm>
            <a:off x="4624560" y="4165560"/>
            <a:ext cx="4063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nl-NL" sz="3000" spc="-1" strike="noStrike">
                <a:solidFill>
                  <a:srgbClr val="ff0000"/>
                </a:solidFill>
                <a:latin typeface="Lucida Sans"/>
              </a:rPr>
              <a:t>Monopolistische concurrenti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3000" y="433080"/>
            <a:ext cx="6858000" cy="15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24" name="Picture 2" descr="Afbeeldingsresultaat voor ns"/>
          <p:cNvPicPr/>
          <p:nvPr/>
        </p:nvPicPr>
        <p:blipFill>
          <a:blip r:embed="rId1"/>
          <a:stretch/>
        </p:blipFill>
        <p:spPr>
          <a:xfrm>
            <a:off x="1143000" y="2290680"/>
            <a:ext cx="3297240" cy="1478160"/>
          </a:xfrm>
          <a:prstGeom prst="rect">
            <a:avLst/>
          </a:prstGeom>
          <a:ln w="0">
            <a:noFill/>
          </a:ln>
        </p:spPr>
      </p:pic>
      <p:sp>
        <p:nvSpPr>
          <p:cNvPr id="225" name="Tekstvak 3"/>
          <p:cNvSpPr/>
          <p:nvPr/>
        </p:nvSpPr>
        <p:spPr>
          <a:xfrm>
            <a:off x="4722840" y="2228760"/>
            <a:ext cx="36478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-1 aanbied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-Dit bedrijf kan veel winst make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-prijs wordt bepaald door dit bedrij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kstvak 4"/>
          <p:cNvSpPr/>
          <p:nvPr/>
        </p:nvSpPr>
        <p:spPr>
          <a:xfrm>
            <a:off x="2128680" y="4608360"/>
            <a:ext cx="5872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Monopoli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Times New Roman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8" name="Tekstvak 3"/>
          <p:cNvSpPr/>
          <p:nvPr/>
        </p:nvSpPr>
        <p:spPr>
          <a:xfrm>
            <a:off x="1476360" y="1989000"/>
            <a:ext cx="71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In welke van de vier marktvormen zit een kinderboerderij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taandeel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e groot ben je in verhouding tot je concurrent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t uitgerekend per productcategori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mzet in je verzorgingsgebied =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antal klanten </a:t>
            </a:r>
            <a:r>
              <a:rPr b="0" lang="en-US" sz="2600" spc="-1" strike="noStrike">
                <a:solidFill>
                  <a:srgbClr val="000000"/>
                </a:solidFill>
                <a:latin typeface="Wingdings 2"/>
                <a:ea typeface="Wingdings 2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gemiddelde besteding per ja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4"/>
              <p:cNvSpPr txBox="1"/>
              <p:nvPr/>
            </p:nvSpPr>
            <p:spPr>
              <a:xfrm>
                <a:off x="1590840" y="3809880"/>
                <a:ext cx="661500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igen omze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e omzet in je verzorgingsgebied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Doelen voor marktaandeel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ter marktaandeel = voordelen van 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schaalvergro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s://www.youtube.com/watch?v=68Vf53-nAiE&amp;feature=rel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tlei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n de prijs bepa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einer bedrijf (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nic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ak stabieler bij economische tegenw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PRODUCT-LEVENS-CYCLU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35" name="Tijdelijke aanduiding voor inhoud 1" descr=""/>
          <p:cNvPicPr/>
          <p:nvPr/>
        </p:nvPicPr>
        <p:blipFill>
          <a:blip r:embed="rId1"/>
          <a:stretch/>
        </p:blipFill>
        <p:spPr>
          <a:xfrm>
            <a:off x="1332000" y="1568520"/>
            <a:ext cx="6840360" cy="43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Boston-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7" name="Tekstvak 5"/>
          <p:cNvSpPr/>
          <p:nvPr/>
        </p:nvSpPr>
        <p:spPr>
          <a:xfrm>
            <a:off x="1692360" y="5867280"/>
            <a:ext cx="640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Deze foto</a:t>
            </a:r>
            <a:r>
              <a:rPr b="0" lang="nl-NL" sz="900" spc="-1" strike="noStrike">
                <a:solidFill>
                  <a:srgbClr val="000000"/>
                </a:solidFill>
                <a:latin typeface="Times New Roman"/>
              </a:rPr>
              <a:t> van Onbekende auteur is gelicentieerd onder </a:t>
            </a:r>
            <a:r>
              <a:rPr b="0" lang="nl-NL" sz="9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CC BY-S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2" descr="http://gtwebmarque.com/wikis/gtwm/images/9/9d/Boston_Matrix.gif"/>
          <p:cNvPicPr/>
          <p:nvPr/>
        </p:nvPicPr>
        <p:blipFill>
          <a:blip r:embed="rId3"/>
          <a:stretch/>
        </p:blipFill>
        <p:spPr>
          <a:xfrm>
            <a:off x="1258920" y="1401840"/>
            <a:ext cx="698508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http://www.fractal.org/Bewustzijns-Besturings-Model/Pres-BBM-A/img055.GIF"/>
          <p:cNvPicPr/>
          <p:nvPr/>
        </p:nvPicPr>
        <p:blipFill>
          <a:blip r:embed="rId1"/>
          <a:stretch/>
        </p:blipFill>
        <p:spPr>
          <a:xfrm>
            <a:off x="395280" y="333360"/>
            <a:ext cx="8137440" cy="61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Portfolio matrix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Sterren</a:t>
            </a: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ontwikkelen zich tot Cash Cow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leveren weinig geld 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Melkkoeien  </a:t>
            </a:r>
            <a:r>
              <a:rPr b="0" lang="nl-NL" sz="2900" spc="-1" strike="noStrike">
                <a:solidFill>
                  <a:srgbClr val="ff0000"/>
                </a:solidFill>
                <a:latin typeface="Times New Roman"/>
              </a:rPr>
              <a:t>+++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ontwikkelen zich tot Dog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leveren veel geld 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00240" y="1904760"/>
            <a:ext cx="380988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Vraagtekens</a:t>
            </a: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900" spc="-1" strike="noStrike">
                <a:solidFill>
                  <a:srgbClr val="ff0000"/>
                </a:solidFill>
                <a:latin typeface="Times New Roman"/>
              </a:rPr>
              <a:t>–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ontwikkelen zich tot Star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kosten gel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Dogs</a:t>
            </a: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krijgen nauwelijks aandacht en verdwijnen op den duu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leveren weinig of geen geld 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Productlevenscyclus en wins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44" name="Picture 2" descr="http://www.percent.nl/onlineleren/onlinelerenfiles/encyclopedie/images/meno/CDM037.JPG"/>
          <p:cNvPicPr/>
          <p:nvPr/>
        </p:nvPicPr>
        <p:blipFill>
          <a:blip r:embed="rId1"/>
          <a:stretch/>
        </p:blipFill>
        <p:spPr>
          <a:xfrm>
            <a:off x="1547640" y="1579680"/>
            <a:ext cx="684072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Wat gaan we doen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0" name="Tekstvak 2"/>
          <p:cNvSpPr/>
          <p:nvPr/>
        </p:nvSpPr>
        <p:spPr>
          <a:xfrm>
            <a:off x="1258920" y="1893960"/>
            <a:ext cx="7427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uiswerk bespr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et Sell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oopgedrag en marktaand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RODUCT-LEVENS-CYC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roduct-levens-cyclu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246" name="Object 6"/>
          <p:cNvGraphicFramePr/>
          <p:nvPr/>
        </p:nvGraphicFramePr>
        <p:xfrm>
          <a:off x="1676520" y="2057400"/>
          <a:ext cx="5715000" cy="361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057400"/>
                    <a:ext cx="571500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Text Box 7"/>
          <p:cNvSpPr/>
          <p:nvPr/>
        </p:nvSpPr>
        <p:spPr>
          <a:xfrm>
            <a:off x="2088720" y="4003560"/>
            <a:ext cx="14425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21304"/>
                </a:solidFill>
                <a:latin typeface="Tahoma"/>
              </a:rPr>
              <a:t>Introducti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3628440" y="3228840"/>
            <a:ext cx="83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o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4352040" y="223848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Tahoma"/>
              </a:rPr>
              <a:t>Volwassenhe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6152040" y="3228840"/>
            <a:ext cx="91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1bd69"/>
                </a:solidFill>
                <a:latin typeface="Tahoma"/>
              </a:rPr>
              <a:t>Ver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304920" y="5867280"/>
          <a:ext cx="7315200" cy="4320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rategi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ionier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currer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ndhav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ionierende marke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lanten inform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Feiten opsom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Gratis proefmonsters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strek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660066"/>
                </a:solidFill>
                <a:uFillTx/>
                <a:latin typeface="Times New Roman"/>
                <a:hlinkClick r:id="rId3"/>
              </a:rPr>
              <a:t>Demo’s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in wink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rijs is minder belangrij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istributeurs zoe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inkelpersoneel informeren/instru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oncurrerende marke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adruk op de </a:t>
            </a:r>
            <a:r>
              <a:rPr b="0" lang="nl-NL" sz="32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voordelen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.o.v. concur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Kwalit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rij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ansprekende merkidentit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leugje humor of de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ervice verbet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Handhavende marke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lanten behou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Relatie met klant verstev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erinneringsmark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roductverbeteringen doorvo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Innovatietheorie van Roger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629400" y="3581280"/>
            <a:ext cx="236232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6097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975"/>
                </a:solidFill>
                <a:latin typeface="Times New Roman"/>
              </a:rPr>
              <a:t>Omz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db9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b921"/>
                </a:solidFill>
                <a:latin typeface="Times New Roman"/>
              </a:rPr>
              <a:t>Verzadi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Picture 7" descr="File:Diffusionofideas.PNG"/>
          <p:cNvPicPr/>
          <p:nvPr/>
        </p:nvPicPr>
        <p:blipFill>
          <a:blip r:embed="rId1"/>
          <a:stretch/>
        </p:blipFill>
        <p:spPr>
          <a:xfrm>
            <a:off x="1116000" y="1700280"/>
            <a:ext cx="594360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ositioneringsstrateg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77300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plaatsing van het product in de gedachten van de kl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eer je klantengro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lmarktse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twerp je positioneringsstrateg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ordelen voor de k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.S.P. (unique selling po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wijs en ondersch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of je klanten het sna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schrijf je positioneringsstrate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7" dur="1" fill="hold"/>
                                  <p:tgtEl>
                                    <p:spTgt spid="263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pdracht voor volgende l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aak opdracht 2c voor jouw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mschrijf wat de volgende woorden beteken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Inkoopcombin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rijwillig filiaalbedrij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Concession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Franchi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Coöper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OPDRACH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2" name="Tekstvak 2"/>
          <p:cNvSpPr/>
          <p:nvPr/>
        </p:nvSpPr>
        <p:spPr>
          <a:xfrm>
            <a:off x="1066680" y="1989000"/>
            <a:ext cx="73929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Opdracht 3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 welke behoefte wordt voorzien met het product dat je in je opdracht hebt gebruik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ar staat het product in de behoeften piramide van Masl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oor welk product kan de wens naar jouw product worden vervan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aak een SWOT-Analyse van jouw product (kan dus je stagebedrijf zij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ellogra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320" y="54864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ermee ontdek je waarop je de nadruk moet leggen in je promo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787" descr="C:\Documents and Settings\Robbert\Bureaublad\sellogram.bmp"/>
          <p:cNvPicPr/>
          <p:nvPr/>
        </p:nvPicPr>
        <p:blipFill>
          <a:blip r:embed="rId1"/>
          <a:stretch/>
        </p:blipFill>
        <p:spPr>
          <a:xfrm>
            <a:off x="1219320" y="1905120"/>
            <a:ext cx="731520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asen in het koopproc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Communicatiegedra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wustwording van de behoef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oeken naar inform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Koopgedra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gelijken van alternatie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aanko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t gebru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voelens na de aanko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Koopinspann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uls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unsought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ine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convenience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orgvuldige 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shopping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ogeen (prijs is belangrijk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terogeen (eigenschappen zijn belangrijk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itzonderlijke 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specialty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Group 10"/>
          <p:cNvGrpSpPr/>
          <p:nvPr/>
        </p:nvGrpSpPr>
        <p:grpSpPr>
          <a:xfrm>
            <a:off x="1295280" y="5105520"/>
            <a:ext cx="7162920" cy="1428480"/>
            <a:chOff x="1295280" y="5105520"/>
            <a:chExt cx="7162920" cy="1428480"/>
          </a:xfrm>
        </p:grpSpPr>
        <p:pic>
          <p:nvPicPr>
            <p:cNvPr id="201" name="Picture 4" descr="rolex_masterpiece_watches01-face"/>
            <p:cNvPicPr/>
            <p:nvPr/>
          </p:nvPicPr>
          <p:blipFill>
            <a:blip r:embed="rId1"/>
            <a:stretch/>
          </p:blipFill>
          <p:spPr>
            <a:xfrm>
              <a:off x="6934320" y="5257800"/>
              <a:ext cx="152388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6" descr="pindakaas_116282d"/>
            <p:cNvPicPr/>
            <p:nvPr/>
          </p:nvPicPr>
          <p:blipFill>
            <a:blip r:embed="rId2"/>
            <a:stretch/>
          </p:blipFill>
          <p:spPr>
            <a:xfrm>
              <a:off x="3505320" y="5257800"/>
              <a:ext cx="955440" cy="120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7" descr="Wasmachine"/>
            <p:cNvPicPr/>
            <p:nvPr/>
          </p:nvPicPr>
          <p:blipFill>
            <a:blip r:embed="rId3"/>
            <a:stretch/>
          </p:blipFill>
          <p:spPr>
            <a:xfrm>
              <a:off x="5105520" y="5181480"/>
              <a:ext cx="129528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9" descr="ballLollies-thumb"/>
            <p:cNvPicPr/>
            <p:nvPr/>
          </p:nvPicPr>
          <p:blipFill>
            <a:blip r:embed="rId4"/>
            <a:stretch/>
          </p:blipFill>
          <p:spPr>
            <a:xfrm>
              <a:off x="1295280" y="5105520"/>
              <a:ext cx="1352520" cy="1428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tvorm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rktvorm: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 u="sng">
                <a:solidFill>
                  <a:srgbClr val="a1bd69"/>
                </a:solidFill>
                <a:uFillTx/>
                <a:latin typeface="Times New Roman"/>
              </a:rPr>
              <a:t>Aantal aanbied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onopoli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a1bd6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ligopoli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a1bd69"/>
                </a:solidFill>
                <a:latin typeface="Times New Roman"/>
              </a:rPr>
              <a:t>pa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onopolistische concurrenti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a1bd69"/>
                </a:solidFill>
                <a:latin typeface="Times New Roman"/>
              </a:rPr>
              <a:t>v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erschillende wensen, dezelfde behoef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erbijzondering o.b.v. kwaliteit, me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lledige concurrenti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a1bd69"/>
                </a:solidFill>
                <a:latin typeface="Times New Roman"/>
              </a:rPr>
              <a:t>v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0">
              <a:spcBef>
                <a:spcPts val="499"/>
              </a:spcBef>
              <a:buNone/>
              <a:tabLst>
                <a:tab algn="l" pos="0"/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= volledige mededin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(vrijwel) identieke produc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Afbeeldingsresultaat voor bloemkool"/>
          <p:cNvPicPr/>
          <p:nvPr/>
        </p:nvPicPr>
        <p:blipFill>
          <a:blip r:embed="rId1"/>
          <a:stretch/>
        </p:blipFill>
        <p:spPr>
          <a:xfrm>
            <a:off x="1411200" y="2095560"/>
            <a:ext cx="2759040" cy="1851120"/>
          </a:xfrm>
          <a:prstGeom prst="rect">
            <a:avLst/>
          </a:prstGeom>
          <a:ln w="0">
            <a:noFill/>
          </a:ln>
        </p:spPr>
      </p:pic>
      <p:sp>
        <p:nvSpPr>
          <p:cNvPr id="208" name="Tekstvak 1"/>
          <p:cNvSpPr/>
          <p:nvPr/>
        </p:nvSpPr>
        <p:spPr>
          <a:xfrm>
            <a:off x="4157640" y="3022560"/>
            <a:ext cx="371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00000"/>
              </a:lnSpc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Veel aanbied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14200" indent="-214200">
              <a:lnSpc>
                <a:spcPct val="100000"/>
              </a:lnSpc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Homogeen produc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kstvak 2"/>
          <p:cNvSpPr/>
          <p:nvPr/>
        </p:nvSpPr>
        <p:spPr>
          <a:xfrm>
            <a:off x="1657440" y="907920"/>
            <a:ext cx="6521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kstvak 3"/>
          <p:cNvSpPr/>
          <p:nvPr/>
        </p:nvSpPr>
        <p:spPr>
          <a:xfrm>
            <a:off x="1258920" y="4349880"/>
            <a:ext cx="73166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Volkomen concurrenti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43000" y="758880"/>
            <a:ext cx="6858000" cy="15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085400" y="3541680"/>
            <a:ext cx="190188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4" descr="Afbeeldingsresultaat voor spelcomputers"/>
          <p:cNvPicPr/>
          <p:nvPr/>
        </p:nvPicPr>
        <p:blipFill>
          <a:blip r:embed="rId1"/>
          <a:stretch/>
        </p:blipFill>
        <p:spPr>
          <a:xfrm>
            <a:off x="2050920" y="2133720"/>
            <a:ext cx="2638440" cy="17985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Afbeeldingsresultaat voor nintendo"/>
          <p:cNvPicPr/>
          <p:nvPr/>
        </p:nvPicPr>
        <p:blipFill>
          <a:blip r:embed="rId2"/>
          <a:stretch/>
        </p:blipFill>
        <p:spPr>
          <a:xfrm>
            <a:off x="2025720" y="4251240"/>
            <a:ext cx="2663640" cy="1498680"/>
          </a:xfrm>
          <a:prstGeom prst="rect">
            <a:avLst/>
          </a:prstGeom>
          <a:ln w="0">
            <a:noFill/>
          </a:ln>
        </p:spPr>
      </p:pic>
      <p:sp>
        <p:nvSpPr>
          <p:cNvPr id="215" name="Tekstvak 4"/>
          <p:cNvSpPr/>
          <p:nvPr/>
        </p:nvSpPr>
        <p:spPr>
          <a:xfrm>
            <a:off x="5010120" y="2300400"/>
            <a:ext cx="39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een paar aanbie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ze beheersen de mar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ze houden elkaar goed  in de ga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kstvak 5"/>
          <p:cNvSpPr/>
          <p:nvPr/>
        </p:nvSpPr>
        <p:spPr>
          <a:xfrm>
            <a:off x="5212080" y="4802040"/>
            <a:ext cx="29376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Oligopoli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4:05:46Z</dcterms:created>
  <dc:creator>Robbert Oosterom</dc:creator>
  <dc:description/>
  <dc:language>en-US</dc:language>
  <cp:lastModifiedBy>Geraar de Jong</cp:lastModifiedBy>
  <dcterms:modified xsi:type="dcterms:W3CDTF">2020-12-02T22:44:05Z</dcterms:modified>
  <cp:revision>41</cp:revision>
  <dc:subject/>
  <dc:title>Marketing les 1</dc:title>
</cp:coreProperties>
</file>