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F6A2-3E0F-42DC-8D1D-5E118DD7FA1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1F82-BCAA-4695-B30B-FBB999E37E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3659-9086-482A-ABDF-354BED8CBB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3AEB-3F51-4A63-B980-F7B290A9AC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F7B7-A0E3-43C2-9164-031D820E1B6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83495-D659-45B9-81B0-8F8B398F5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153D3-B00D-436A-AF25-B8FE4523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00EEC-76EE-4C37-8C37-E32661A6A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1A5DA-998D-4453-BFBF-8917C4724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EDB1D-E101-4E85-B004-57325CBE6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318EB-043C-4690-BF18-0BE4E3CF8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D881D-4174-41EE-83CD-62AB75C61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510D-1F5B-43A5-B0D8-8913548C1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C51DA-D742-4B0C-9F4F-DFAB00D16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DCCED-2D73-4C8C-B9AC-2CAC2CDAA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22871-03C5-45C8-B832-FAF6608B6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AF61-1C66-4409-95AA-CBEAB358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C190-425E-4E26-9A88-5EF2BC0EF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D33B3-827D-4FD0-A2AD-B77264F2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06502-9A38-4EFC-A39A-204947D01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4CFC1-8F21-4B46-B787-5BC54E0FA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1355B-5A7B-4D4B-9B5A-FB97FE791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654F-3BA5-4DB1-8887-A8F5197F4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97176-7A5D-42D6-B114-0A8BB294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009C-2EDD-437D-919D-927A3A4AE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11BA0-92E1-43D0-9091-C68AFE4A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B46A-41AB-4EF2-B06D-E38966F99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F660-3370-4564-A046-4E73CC44A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D1C0-7831-41ED-B7DB-DF9CB070F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4748-9095-4260-82C7-B5C1509922A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50D9-E1FA-4B1E-B7E7-C6E80E64145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youtube.com/watch?v=DstESP8xBfM" TargetMode="External"/><Relationship Id="rId3" Type="http://schemas.openxmlformats.org/officeDocument/2006/relationships/hyperlink" Target="https://www.youtube.com/watch?v=riZRvGuXrcQ" TargetMode="External"/><Relationship Id="rId4" Type="http://schemas.openxmlformats.org/officeDocument/2006/relationships/hyperlink" Target="https://www.youtube.com/watch?v=riZRvGuXrcQ" TargetMode="External"/><Relationship Id="rId5" Type="http://schemas.openxmlformats.org/officeDocument/2006/relationships/hyperlink" Target="http://www.jumbosupermarkten.nl/Bedrijf/Over-Jumbo/Feiten-en-cijfers/"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a:t>
            </a:r>
            <a:r>
              <a:rPr b="0" lang="en-US" sz="2800" spc="-1" strike="noStrike" u="sng">
                <a:solidFill>
                  <a:srgbClr val="660066"/>
                </a:solidFill>
                <a:uFillTx/>
                <a:latin typeface="Times New Roman"/>
                <a:ea typeface="Times New Roman"/>
                <a:hlinkClick r:id="rId2"/>
              </a:rPr>
              <a:t>glimla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3"/>
              </a:rPr>
              <a:t>Alles </a:t>
            </a:r>
            <a:r>
              <a:rPr b="0" lang="en-US" sz="2800" spc="-1" strike="noStrike" u="sng">
                <a:solidFill>
                  <a:srgbClr val="660066"/>
                </a:solidFill>
                <a:uFillTx/>
                <a:latin typeface="Times New Roman"/>
                <a:ea typeface="Times New Roman"/>
                <a:hlinkClick r:id="rId4"/>
              </a:rPr>
              <a:t>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5"/>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éraar de Jong</cp:lastModifiedBy>
  <dcterms:modified xsi:type="dcterms:W3CDTF">2019-02-06T22:55:05Z</dcterms:modified>
  <cp:revision>79</cp:revision>
  <dc:subject/>
  <dc:title>Marketing les 1</dc:title>
</cp:coreProperties>
</file>