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270-77F3-4299-8E26-C47884B8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2A5-2DB5-43B1-AA8F-9686F28D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4E3C-FD5A-4D08-8014-D414AFF7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8C2-1FC7-465E-AF4E-2ECB9AC3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9A51-AF9F-4D8F-9C13-662561C0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7433-E93A-4582-B458-421AC0D9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E02F-80EA-46C1-B96B-1E6C26F2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EFDE-39AD-4BB1-ABE8-05AB2190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2FF1-A2D0-4EAB-B7CE-DD830EE4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6A22-0FA7-47E0-9AAD-384DCAB5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13F1-F24B-450D-833A-54ECBB54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6265-DDDA-462D-A49D-FF8C9FB0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F1C8-3327-4ADE-B7AC-974B6CF0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56D2-1BB2-49D9-875C-D00611DA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840E-88EC-41FF-A580-8C97CFB3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C5CE-7543-4CB6-8715-211CDBEF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C422-AC88-45E3-9A83-5D61A032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A4D9-38F5-414A-BE5D-5FA6D1DB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DED0-A820-4EFB-8C80-9CA7C91E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381B-A1BC-4405-9E01-26883D72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9AE7-0D98-4A85-B657-40DAFC0C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EC9-48B9-4E3B-8C9D-9B265A87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08C2-F2AA-4D54-878B-7A60A14E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FB7-A554-4FA4-B82A-C6D51CC7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E1D8-5E2A-45D6-B298-5510383336D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8E8E-0AA3-4ADF-907E-D39EF55AC49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8D0F-1015-432D-983D-2DFD7CF1C10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346A-F2C4-4647-81B7-8FF91FDB2E0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next.com/fic/000/004/667/46673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l4n5EnVzEI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5EBC-C73C-4FE1-9A9D-09F3BC996BF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0786-8AD6-4B6F-9F29-550542FB8C7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V en NV: kapita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atschappelijk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mogen volgens de statuten maximaal worden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plaats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er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betaa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943600" y="2286000"/>
            <a:ext cx="2286000" cy="365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tschapp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5880" y="3733920"/>
            <a:ext cx="198144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plaa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4648320"/>
            <a:ext cx="1676160" cy="99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719B-75F4-4F2A-B15C-43DF856778F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02EC-7687-4598-8E43-4E2A1324B05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inale waarde van het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at op het aandeel en in de stat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e waar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antal volgestorte aandelen = aandelenkapitaal =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boven nominale waar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io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onder nominale waarde = verb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Verlaging nominale waarde toege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de uitgifte: weinig praktisch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0483-D79C-42E9-A81A-E26021589ED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8685-F1CC-4365-A65E-7FB233A3118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rkelijke waarde v/h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ers (alleen bij 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ls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belegg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 belangrij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eke wa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kwaarde of theoretische 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, inclusief alle reserves (winst, agi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eke waarde per aand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je terugbetaalt als je zou liqui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é Kamphuis</dc:creator>
  <dc:description/>
  <dc:language>en-US</dc:language>
  <cp:lastModifiedBy>José Kamphuis</cp:lastModifiedBy>
  <dcterms:modified xsi:type="dcterms:W3CDTF">2018-01-29T22:38:00Z</dcterms:modified>
  <cp:revision>13</cp:revision>
  <dc:subject/>
  <dc:title>PowerPoint-presentatie</dc:title>
</cp:coreProperties>
</file>