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42C-2CC8-4C13-9989-8140E37C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E63-2928-4472-A4AB-7043656F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DDA-EDC3-432B-A63B-D878618D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331-1143-4AAA-B666-4473BB26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E324-6EFE-4560-A05B-0679CBEC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9C89-65BD-45DA-9547-5A4EDDB3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4FF5-0C98-4758-AD2E-9DCEE017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40B8-B2A2-4CE5-8DDC-B3C66EF2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380D-6A96-42CA-9D77-5543D865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FF90-6A05-41C7-8DB9-46BC1589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9C88-C52D-4590-9D5A-F6ED4147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7F02-9124-4265-8886-63B2EFF6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6196-3EEC-4B9C-962E-2FD2442F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6C3F-403D-4A39-835A-9E7895B3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678A-1478-4837-ACCE-88EC6CCB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C035-6818-4C8A-B172-56B5A4F3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3E15-AC56-42F1-A0E0-76EFB203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283-D0E5-49FC-85AC-DEAC2ECA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1697-7D81-4F98-A1FA-5F78815B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8777-BAC6-44FA-BD90-8CDEF9C1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906F-7E1D-4C8E-A06D-ABE12D29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3467-6500-4CE0-AF4D-7793772B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8635-02B7-424F-B64A-1735395F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DB0-DFB4-4A0F-89A0-8AF454C4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9448-3C06-4C0E-8FB8-972D5E8B177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0BA0-2ED8-4287-BA6F-7332CD8FA32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D388-5864-42E6-817D-11933B508E9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4F95-7A82-4267-AC0B-B31EDEE6ED3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next.com/fic/000/004/667/46673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l4n5EnVzEI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8B27-FFB6-42FB-9E12-93CE616CF62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6D8B-FCC5-4EBA-B673-EAF1BAB7419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V en NV: kapita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atschappelijk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mogen volgens de statuten maximaal worden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plaats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er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betaa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943600" y="2286000"/>
            <a:ext cx="2286000" cy="365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tschapp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5880" y="3733920"/>
            <a:ext cx="198144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plaa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4648320"/>
            <a:ext cx="1676160" cy="99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EED0-1423-48CF-8C80-B6F67F22D90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AA54-2FAA-4A56-86C8-59D2579BAD0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inale waarde van het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at op het aandeel en in de stat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e waar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antal volgestorte aandelen = aandelenkapitaal =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boven nominale waar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gio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onder nominale waarde = verb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Verlaging nominale waarde toege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de uitgifte: weinig praktisch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A418-B455-4F4A-AD29-46DEEF76FF1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703F-5288-4DED-A50E-42D70239CA3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rkelijke waarde v/h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ers (alleen bij 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els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belegg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 belangrij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eke wa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kwaarde of theoretische 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, inclusief alle reserves (winst, agi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eke waarde per aand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 je terugbetaalt als je zou liqui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é Kamphuis</dc:creator>
  <dc:description/>
  <dc:language>en-US</dc:language>
  <cp:lastModifiedBy>José Kamphuis</cp:lastModifiedBy>
  <dcterms:modified xsi:type="dcterms:W3CDTF">2018-01-29T22:38:00Z</dcterms:modified>
  <cp:revision>13</cp:revision>
  <dc:subject/>
  <dc:title>PowerPoint-presentatie</dc:title>
</cp:coreProperties>
</file>