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CCC-A6BA-4513-ADC3-A3080F6C39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B19-9A9B-4311-B29C-075B7002B2F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E407-BCCA-47BE-B2DD-73B4F496B40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6BC-F5E7-4B18-B454-4D361CE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C4B-FBAE-419C-AA4E-D73E80B8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02B-463B-4691-B309-A73AF54C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729-AF1A-4F25-B5B0-716D55C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4E4-F792-445E-AFBB-FABC44A9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4C82-A8BE-4BF3-B05D-A2387738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A46-8172-4048-AF22-62D9032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FF2-DE4C-4C45-8778-C4E52648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FA7-01EC-47BE-BE3C-D7A000E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C77-BC91-4857-A4F1-81E6724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03A7-29EF-4C01-9190-08E589C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588-42EB-4F97-9F34-1D19BF5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04C-1E53-4309-88CD-71F9514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650-518D-499E-BC53-86A5030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DFAE-213B-46FC-9473-1CD2182B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F51-D689-414F-AE46-EB2C3AA6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E17F-AF63-46B7-984E-D1940765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DB347-9A48-404B-BC2A-E0A7D6AC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591B8-D759-4F4B-9C09-151F83DC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FBD21-646D-4C3C-B4B5-EF7D5CB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2595D-3589-4B64-986C-BF140C2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DF9A2-133F-4EB4-AAD1-4534917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E1E-6F4E-437C-AA62-24D389F7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206C2-2D2B-45A3-B912-4446BE7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35DF2-337A-4704-A15B-3A9753C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FD9EF-B3BC-4396-B380-3E97119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AC99F-194B-48D4-9151-1AA8FB0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D1459-C0A3-41F8-9D8B-BBECF28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0264F-5F1F-440E-8045-B0A22DED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9724D-C3BA-4336-BD17-A2C631E8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4AA0-4AEB-4308-988A-81F1FBB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6D39-8CE2-4551-8ED2-4F48554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FE67-8619-465C-A0CA-08B349F8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80F-0B09-4B3C-A466-84E16EC4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89F0-CA62-468F-92B1-722C574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0892-3DB0-447D-920E-BBF61873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8850-15F5-4D37-AA7E-052DF2A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008D-44D3-4118-A045-8256522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8A91-389B-479C-A5C4-DCFED60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94A8-87A7-4BAE-BCCD-BDEFB81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2AFA-1510-478F-977E-EF435F69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4663-8E46-48A9-9661-F3D1242B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DE67-4C45-4E08-A383-F6F057E9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D81-CB10-4048-A8F2-1E11AF1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747-DFAB-4289-91D5-A98ADFD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2F9-6F1E-4631-9C62-B70189B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1A6-C7AE-4FAA-8982-8FE1D10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A19-80A7-4D04-A53F-7ED81CE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D10F-9EC7-4EA5-AD33-82F0E30FD2F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hoe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hthoe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hthoe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hthoe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hthoe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Afgeronde rechthoe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Afgeronde rechthoe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Rechthoe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Rechthoe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Rechthoe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Rechthoe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C585-BB77-4BF2-AEDE-3F8E038CE80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5396-C86A-4725-BFF1-B7F7704CBE8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E22-8D45-4048-BA5A-726DF1D6CEC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1YJgudGEjw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hooltv.nl/video/stikstofkringloop-het-vastleggen-van-stikstof-uit-de-lucht/#q=scheikun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rebuchet MS"/>
              </a:rPr>
              <a:t>Scheikund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MBO veehouderij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Niveau 4 leerjaar 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Periode 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00200" y="476280"/>
            <a:ext cx="7772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De invloed van de pH op de bodemvruchtbaarheid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s een maat voor de concentratie aan vri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stofionen (H</a:t>
            </a:r>
            <a:r>
              <a:rPr b="0" lang="nl-NL" sz="44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 (aq)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meer van deze ionen, hoe zuurder iets i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lager de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H-schaal : 0 – 7 – 14     ;   7 is neutra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et oplosbaarheid van de voedingsstoffen in de bodem is afhankelijk van de pH-waar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Lage p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en te grote oplosbaarheid van bepaalde elementen, zoals Fe, Al en Mn (vergiftiging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en te geringe oplosbaarheid van bepaalde elementen, zoals Mg en M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ierdoor kunnen gebreksverschijnselen ontstaa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en een te geringe bodemleven activite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gebrek aan fosfaat wat de groei rem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meer uitspoeling van K en M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Hoge p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sommige elementen, zoals Mn, Fe, Zn en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groter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fbraak van organische sto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85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59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rganische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680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unst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osfor (P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alium (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gnesium (M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Calcium (C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6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voorkomen (16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groene kleur wordt door N bevorderd, waardo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ssimilatie beter verloo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verlengt de groeiperio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noodzakelijk bij de aanleg van bloemknopp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or het uitgroeien van vru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opnam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N-br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norganisch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anis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itraat (direct)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•ure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mmoni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N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ammonsalpeter, kalisalpeter, zwavelzure ammoni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salpeter, chilisalp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19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nderwerp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oleculen, atomen, elektro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eriodieksyste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Zuren en B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eorgia"/>
              </a:rPr>
              <a:t>Beme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voorkom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werkt gunstig op de wortel-groei van pla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bloei en de rijping van za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rgt voor de energiehuishouding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P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uperfosfaat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2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ertifos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ipelsuper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5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g niet wanneer men mee doet met Derogati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productie van koolhydra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koolhydratenhuishou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ansport van water + opgeloste 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ermindert de gevoeligheid van de plant voor droogte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u en schimm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planten worden stevi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kwaliteit van de vruchten wordt b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houden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zout, Nakam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arm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salpeter, patent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Opbouw bij bladgro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Bladgroenkorrels zijn nodig voor de fotosynthe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Magnesiumovermaat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pname van Mn – K – N wordt gerem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Mg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ieseriet MgSO4, magnesamon (MAS) , bitterzout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. 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Calc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tevigheid voor de plant, celw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wortelgroe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regelt de wateropna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nschadelijk maken van giftige stoff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eutraliseren van zu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eeft invloed op de opname van andere voedings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Calciu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alkopname: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b kal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nder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mergel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landbouwk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magnesia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magnesiakalk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olomiet, dolok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chuimaarde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ma kenc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Gebrek aan macro elemen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 veel aan Ca leidt tot kali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osfaat leidt tot Zn 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kali leidt tot Mg gebrek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opziek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e en Al leidt tot fosfaat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heeft een slechte structuur, storende lagen in de gr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is te nat of te dro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kunstmest (fertilize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s://www.youtube.com/watch?v=n1YJgudGEj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Wat gaan we doen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selementen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nvloed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unstmeststoffen (macro-elemente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pooreleme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Functie van spoorelement bij plantengroei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talysator bij fysiologische processen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rmen een bestanddeel van enzy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ormonen en vitami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Voorbeelden spoorelement -meststoffen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perslakkenbloem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ngaansulfaat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rax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porumi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249640"/>
            <a:ext cx="82184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Is een product dat 2 of meer van de hoofdvoedingselementen N, P en K bev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Voorbeel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N-P-K –meststoffen: 12-10-18, 17-17-1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faatammonsalpeter,Thomasmeel-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Voor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arbeids- &amp; tijdsbespa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verkrijgbaar in vele samenstellin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oed strooiba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minder balla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geschikt voor basis- en overbemes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Na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duurder dan enkelvoudige me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e verhouding in samenstelling voor de gr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e werken verzu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geen spoorelement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opdrach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ees de bodemkr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ak de bijbehorende opdra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Voedingselementen voor een plant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Hoofdvoedings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a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grot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 – C – H – N – P – K – S – Mg – C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Spoor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i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klein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Fe – As – B – Zn – Cu – Mn – F – Co – Mo – S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Niet-noodzakelijke elementen </a:t>
            </a: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(Neven-elementen of ballast-elem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l – Na – Al – Br – I – Se</a:t>
            </a:r>
            <a:r>
              <a:rPr b="0" lang="nl-NL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ilm stikstofkringloo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schooltv.nl/video/stikstofkringloop-het-vastleggen-van-stikstof-uit-de-lucht/#q=scheikun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pla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914480" y="2119320"/>
            <a:ext cx="5681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1:54:55Z</dcterms:created>
  <dc:creator>gmeekers</dc:creator>
  <dc:description/>
  <dc:language>en-US</dc:language>
  <cp:lastModifiedBy>Leny Janssen</cp:lastModifiedBy>
  <dcterms:modified xsi:type="dcterms:W3CDTF">2018-01-10T11:01:55Z</dcterms:modified>
  <cp:revision>29</cp:revision>
  <dc:subject/>
  <dc:title>Dia 1</dc:title>
</cp:coreProperties>
</file>