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048-ECF3-42F6-BDE2-18470C13E0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E4B-7D6C-4D26-ADCA-DEEFDBEBD42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CBD-13C3-49C5-B328-F4EDBAEFEB8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015-7607-4489-AA20-EDBBD5A1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5A9-EDC5-4369-A05F-2409E95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B79-DA7B-4D66-921A-FFE6F105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83C-DDE2-4F9A-A0D9-202F611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9CE-3069-453D-87EA-71D4D862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3BEF-A422-465A-AA58-E73538D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589C-EB50-46C1-82A5-69280DC7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F1B-F84D-44CA-8A2A-7C3E9559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5060-52C6-4699-ADA7-83719BAC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4A2-4AA6-4A67-89AA-E1A8E6AB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B2A-A525-49DA-8AF3-DB697BC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7E5-1C09-45BF-9C1C-08564B7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0AB-746E-4F3E-9051-12BC29B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4A9A-48D8-454A-921A-9E09A77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B48-4372-4618-8DF6-0CF2101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DD3-5414-4575-ADA2-ABD63035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D7C9-B75A-4BB9-8039-51BBF19E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AEFAA-BECB-40F0-94F5-2CD2547E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90C7-0A5B-4F62-B68A-F164723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E9D9B-8A5D-44C0-B450-813B99F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5C368-A01F-45A0-8F51-889C7745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A5E26-59E2-481C-948C-59551BB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1E4-D925-41AB-B41E-C8DE176A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69158-CB74-40F7-A8FC-4D173ED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70327-9193-4351-824B-E5395E7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C91CE-1957-46F9-8003-4B64A48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E6C60-09A8-4ECB-B19D-35F31C1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EB21B-A4C4-4FF2-B538-30C8C3B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969C7-2CD3-4C70-B4C4-7E61249D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3743-DB0B-4BA7-9847-01404A29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2AC4-5583-479D-B5E1-E2F2D0C7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B3817-7693-40D8-9B42-D1460B6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5777-BAFE-44F0-90B9-9FAC527D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490-3ED1-43C0-8BAE-9B7BDE42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B516-11C8-43F3-948A-116CF11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3937-10FC-46D8-AE40-24D97DC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0745-BE02-4032-A12C-439C9B9C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9BEB-83AA-4422-9B8D-4264DEE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6E74-0CCC-41F3-A25F-E805B89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899D-0EF2-4137-81C7-82CF472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2CEB-143B-4661-B237-4495C4C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92EE-5160-4E68-9312-D6175D51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028C-6D16-4008-A051-6E436C16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A97-E84B-4B83-8A48-72EF30B4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088-5AB8-4CD1-887F-2AF3C8C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41D-7B4E-47F6-824C-9E0F2904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8E1-DFF9-471A-885C-3C546A8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92D-B3D7-4221-8B30-0F5281B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D1A-E70A-46FB-91E0-0DA37FE6180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hoe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hthoe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hthoe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hthoe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hthoe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Afgeronde rechthoe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Afgeronde rechthoe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Rechthoe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Rechthoe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Rechthoe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Rechthoe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59EA-9B22-4D17-B743-9442D029928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F89-4534-4804-BA3D-3B33D8546EC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5800-DA8C-4435-B179-C783026E14C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1YJgudGEjw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ooltv.nl/video/stikstofkringloop-het-vastleggen-van-stikstof-uit-de-lucht/#q=scheikun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rebuchet MS"/>
              </a:rPr>
              <a:t>Scheikund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MBO veehouderij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Niveau 4 leerjaar 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Periode 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00200" y="476280"/>
            <a:ext cx="7772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De invloed van de pH op de bodemvruchtbaarheid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s een maat voor de concentratie aan vri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stofionen (H</a:t>
            </a:r>
            <a:r>
              <a:rPr b="0" lang="nl-NL" sz="44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 (aq)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meer van deze ionen, hoe zuurder iets i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lager de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H-schaal : 0 – 7 – 14     ;   7 is neutra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et oplosbaarheid van de voedingsstoffen in de bodem is afhankelijk van de pH-waar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Lage p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en te grote oplosbaarheid van bepaalde elementen, zoals Fe, Al en Mn (vergiftiging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en te geringe oplosbaarheid van bepaalde elementen, zoals Mg en M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ierdoor kunnen gebreksverschijnselen ontstaa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n een te geringe bodemleven activite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gebrek aan fosfaat wat de groei rem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meer uitspoeling van K en M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Hoge p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sommige elementen, zoals Mn, Fe, Zn en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groter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fbraak van organische sto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85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59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rganische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680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unst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osfor (P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alium (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gnesium (M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Calcium (C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6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voorkomen (16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groene kleur wordt door N bevorderd, waardo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ssimilatie beter verloo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verlengt de groeiperio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noodzakelijk bij de aanleg van bloemknopp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or het uitgroeien van vru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opnam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N-br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norganisch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anis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itraat (direct)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•ure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mmoni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N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ammonsalpeter, kalisalpeter, zwavelzure ammoni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salpeter, chilisalp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19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nderwerp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oleculen, atomen, elektro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eriodieksyste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Zuren en B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eorgia"/>
              </a:rPr>
              <a:t>Beme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voorkom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werkt gunstig op de wortel-groei van pla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bloei en de rijping van za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rgt voor de energiehuishouding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P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uperfosfaat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2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ertifos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ipelsuper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5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g niet wanneer men mee doet met Derogati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productie van koolhydra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koolhydratenhuishou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ansport van water + opgeloste 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ermindert de gevoeligheid van de plant voor droogte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u en schimm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planten worden stevi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kwaliteit van de vruchten wordt b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houden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zout, Nakam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arm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salpeter, patent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Opbouw bij bladgro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Bladgroenkorrels zijn nodig voor de fotosynthe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Magnesiumovermaat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pname van Mn – K – N wordt gerem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Mg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ieseriet MgSO4, magnesamon (MAS) , bitterzout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. 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Calc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tevigheid voor de plant, celw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wortelgroe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regelt de wateropna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nschadelijk maken van giftige stoff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eutraliseren van zu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eeft invloed op de opname van andere voedings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Calciu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alkopname: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b kal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nder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mergel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landbouwk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magnesia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magnesiakalk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olomiet, dolok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chuimaarde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ma kenc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Gebrek aan macro elemen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 veel aan Ca leidt tot kali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osfaat leidt tot Zn 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kali leidt tot Mg gebrek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opziek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e en Al leidt tot fosfaat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heeft een slechte structuur, storende lagen in de gr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is te nat of te dro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kunstmest (fertilize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s://www.youtube.com/watch?v=n1YJgudGEj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Wat gaan we doen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selementen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nvloed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unstmeststoffen (macro-elemente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pooreleme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Functie van spoorelement bij plantengroei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talysator bij fysiologische processen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rmen een bestanddeel van enzy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ormonen en vitami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Voorbeelden spoorelement -meststoffen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perslakkenbloem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ngaansulfaat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rax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porumi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249640"/>
            <a:ext cx="82184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Is een product dat 2 of meer van de hoofdvoedingselementen N, P en K bev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Voorbeel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N-P-K –meststoffen: 12-10-18, 17-17-1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faatammonsalpeter,Thomasmeel-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Voor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arbeids- &amp; tijdsbespa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verkrijgbaar in vele samenstellin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oed strooiba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minder balla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geschikt voor basis- en overbemes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Na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duurder dan enkelvoudige me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e verhouding in samenstelling voor de gr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e werken verzu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geen spoorelement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opdrach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ees de bodemkr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ak de bijbehorende opdra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Voedingselementen voor een plant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Hoofdvoedings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a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grot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 – C – H – N – P – K – S – Mg – C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Spoor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i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klein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Fe – As – B – Zn – Cu – Mn – F – Co – Mo – S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Niet-noodzakelijke elementen </a:t>
            </a: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(Neven-elementen of ballast-elem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l – Na – Al – Br – I – Se</a:t>
            </a:r>
            <a:r>
              <a:rPr b="0" lang="nl-NL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ilm stikstofkringloo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schooltv.nl/video/stikstofkringloop-het-vastleggen-van-stikstof-uit-de-lucht/#q=scheikun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pla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914480" y="2119320"/>
            <a:ext cx="5681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1:54:55Z</dcterms:created>
  <dc:creator>gmeekers</dc:creator>
  <dc:description/>
  <dc:language>en-US</dc:language>
  <cp:lastModifiedBy>Leny Janssen</cp:lastModifiedBy>
  <dcterms:modified xsi:type="dcterms:W3CDTF">2018-01-10T11:01:55Z</dcterms:modified>
  <cp:revision>29</cp:revision>
  <dc:subject/>
  <dc:title>Dia 1</dc:title>
</cp:coreProperties>
</file>