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F00D-A9E8-4BFD-BA24-6DF8108F7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F65B-FC41-49A5-8DFF-5DF9EDC42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0DB9-4026-4D3C-90D8-B5DDBB4C8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0797-AF3A-42BB-A158-8CAFDD09C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3F77-3385-4E5A-851E-34EC0FB4E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90AF-68BF-4439-A753-7950FFC52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14C9-67E6-48B5-9ACB-4B47A99D0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7CA3-0345-47D8-823A-C870D3C49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DB95-840C-44B6-B307-6A8938D8B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2A41-D4C9-448F-8591-89420017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6C20-6F68-411B-BB8B-B27EF98D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B58E-E1BD-4419-8803-7623FAF6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A268B-4EA5-4D33-812B-D792E3C76A0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ascisme en 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ationaal-socialis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amenvatting 4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itl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33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itler wordt rijkskanse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34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 dood van president  Von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indenburg wordt Hitler Führ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hitler460"/>
          <p:cNvPicPr/>
          <p:nvPr/>
        </p:nvPicPr>
        <p:blipFill>
          <a:blip r:embed="rId1"/>
          <a:stretch/>
        </p:blipFill>
        <p:spPr>
          <a:xfrm>
            <a:off x="1258920" y="3573360"/>
            <a:ext cx="4381560" cy="28576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5867280" y="5157720"/>
            <a:ext cx="25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Der F</a:t>
            </a:r>
            <a:r>
              <a:rPr b="0" i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ührer (de leider): Adolf Hitl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olitiek van Hit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rreur = tegenstanders met geweld te lijf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(S.A. en concentratiekamp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schaffing democratie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Duitsland wordt totalitaire dictatu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lijkschakeling dmv indoctrinatie, censuur en propaga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ntisemitisme = Jodenvervol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schaffing van Verdrag van Versai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Uitvoering van Lebensraum en Heim ins Re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lijkschak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litiek van Hitler in Duitsland = gelijkschakeling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Alle organisaties en media zijn in handen van de Nazi”s, zodat zij de Nazi-ideeën overal kunnen overbreng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 parti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 vak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leen Nazi-jeugdbeweg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ensuu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wijs volgens Nazi-ideeën = indoctrin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Fascisme/nationaal-socialisme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in Neder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xtreemrechts in NL geen grote aanhang omd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nsen hun eigen zuil trouw blev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in NL tijdens het interbellum rustig w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Anton%20Mussert"/>
          <p:cNvPicPr/>
          <p:nvPr/>
        </p:nvPicPr>
        <p:blipFill>
          <a:blip r:embed="rId1"/>
          <a:stretch/>
        </p:blipFill>
        <p:spPr>
          <a:xfrm>
            <a:off x="1332000" y="3860640"/>
            <a:ext cx="2952720" cy="26384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4643280" y="5300640"/>
            <a:ext cx="273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Leider van de N.S.B. : Anton Mus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Nederland en de 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economische cri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35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500.000 werklozen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 x per dag stemp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geringsmaatregel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verschaffingsprojec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passingspolitiek van regering Colijn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bezuinigingspolitiek: niet meer geld uitgeven dan er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hendrik-colijn"/>
          <p:cNvPicPr/>
          <p:nvPr/>
        </p:nvPicPr>
        <p:blipFill>
          <a:blip r:embed="rId1"/>
          <a:stretch/>
        </p:blipFill>
        <p:spPr>
          <a:xfrm>
            <a:off x="6372360" y="1413000"/>
            <a:ext cx="2590560" cy="26654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7093080" y="4292640"/>
            <a:ext cx="143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Hendrik Colij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.S.B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tionaal Socialistische Beweging olv Anton Mussert was geen succes omdat: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na 1936 met de economie beter 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lijn als sterke leider gezien werd door het volk; dus geen behoefte aan Muss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el mensen de ideeën van de NSB gevaarlijk vo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zui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ederland wil in naderende oorlog weer neutraal blij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ascis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ascisme = politieke str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staan in Italië na 1</a:t>
            </a:r>
            <a:r>
              <a:rPr b="0" lang="nl-NL" sz="24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Wereldoorlog olv Benito Mussoli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rzaken ontstaan Fascisme: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conomische 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evredenheid over Vrede van Versai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opulair bij rijken en christelijken (anticommunistis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enmerken fascis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tionalis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-leiderprinci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fschaffing democr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mmunisme = aartsvij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eld toegestaan om doel te bere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ussoli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2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ussolini premier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fschaffing democr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ussolini moet macht delen met koning en pa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mussolini"/>
          <p:cNvPicPr/>
          <p:nvPr/>
        </p:nvPicPr>
        <p:blipFill>
          <a:blip r:embed="rId1"/>
          <a:stretch/>
        </p:blipFill>
        <p:spPr>
          <a:xfrm>
            <a:off x="5724360" y="4076640"/>
            <a:ext cx="2095560" cy="23050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2700360" y="5373720"/>
            <a:ext cx="26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Il Duce (de leider): Benito Mussol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Economische crisis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19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risis begint in VS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elen op Wall Street bijna niets meer waard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bedrijven failliet en mensen werklo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rzaken crisis zij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productie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productieverlaging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ntslagen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werklozen minder geld om te kopen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nog minder productie en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ol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ijven failli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nsen werklo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nsen zijn spaargeld kwij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risis slaat over naar Europa en 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Nationaal-Socialisme in Duits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litieke partij = NSDAP (Naziparti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ascisme plus rassenl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tstaan in Duitsland na 1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ereldoorlog olv Adolf Hit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orzaken ontstaan Fascisme: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conomische cr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tevredenheid over Vrede van Versai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Kenmerken nationaal-socialism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tionalis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-leiderprinci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fschaffing democr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mmunisme = aartsvij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eld toegestaan om doel te bere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assenleer: Duitse volk is superieur aan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andere volk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tisemitis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Programmapunten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NSD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fschaffing Vrede van Versai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fschaffing parlementaire democratie van de Weimarrepubliek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Nazi’s willen 1 leider = Hit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tisemitisme: Joden uit Duitse maatschappij verwijd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bensra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im ins Re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mmunisme verniet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Verklaringen voor Hitler’s groeiende popularite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loftes om economische crisis van 1929 op te lo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lofte om vernederende Vrede van Versailles af te schaff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oede sprek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12:47:51Z</dcterms:created>
  <dc:creator>OTTJ</dc:creator>
  <dc:description/>
  <dc:language>en-US</dc:language>
  <cp:lastModifiedBy>ottj</cp:lastModifiedBy>
  <cp:lastPrinted>2011-09-27T11:55:14Z</cp:lastPrinted>
  <dcterms:modified xsi:type="dcterms:W3CDTF">2013-09-18T08:47:04Z</dcterms:modified>
  <cp:revision>8</cp:revision>
  <dc:subject/>
  <dc:title>Fascisme en  Nationaal-socialisme</dc:title>
</cp:coreProperties>
</file>