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9A25-676E-4FAD-87D1-84982D35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71E1-4135-4A3A-980F-01AA318A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E4E0-0E5B-4569-BBA5-35BF4FD6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9FCC-BDF3-413D-9594-3D68127C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244E-AAAB-43CD-9502-CE6538FA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3C9-7BB2-482C-9874-99943D73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C248-A1C6-4BDA-B617-DAEECA2E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825-AD6D-4A44-B389-CB7666FD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840-A02C-4C44-912A-7A16A5CE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64C-B8A2-4C9B-8698-FCAC5D3A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E3B-77A7-403F-BF7B-F5B5ECC9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640-98A5-481C-91E8-5C1134C0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68D4-316B-45D5-B2D8-70185B36AD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ionaalsocia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.3  samenv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ascisme = politieke str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in Italië na 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ereldoorlog olv Benito Mussol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ontstaan Fascisme: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pulair bij middenklasse (kleine zelfstandigen) en christelijken (anticommunisti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 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ationaal-socialisme in Duit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e partij = NSDAP (Naziparti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scisme plus rassenl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taan in Duitsland na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 olv Adolf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zaken ontstaan nationaalsocialisme: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Kenmerken nationaalsocialis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leer: Duitse volk is superieur a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andere volk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punte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SD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isemitisme: Joden uit Duitse maatschappij verwij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bensra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im ins 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vernie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erklaringen voor Hitler’s groeiende popular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s om economische crisis van 1929 op te 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 om vernederende Vrede van Versailles af te scha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spre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tl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tler wordt rijkskanse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4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dood van president wordt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tler Füh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lijkschak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van Hitler in Duitsland = gelijkschakeling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Alle organisaties en media zijn in handen van de Nazi”s, zodat zij de nazi-ideeën overal kunnen overbre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part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vak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zi-jeugdbewe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ensu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wijs volgens nazi-idee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08:29:44Z</dcterms:created>
  <dc:creator>OTTJ</dc:creator>
  <dc:description/>
  <dc:language>en-US</dc:language>
  <cp:lastModifiedBy>ottj</cp:lastModifiedBy>
  <dcterms:modified xsi:type="dcterms:W3CDTF">2012-09-12T11:43:46Z</dcterms:modified>
  <cp:revision>4</cp:revision>
  <dc:subject/>
  <dc:title>Fascisme en  Nationaal-socialisme</dc:title>
</cp:coreProperties>
</file>