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1E8B-D7DD-4081-BE29-4C3F1C5DBA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318C-CDB0-4FFB-BD33-F501EF8934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AE7F-10F4-4D30-AEC7-6035D31760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0F1A-F18C-4420-AB83-D6EFEB8501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44EB-F98E-493C-A667-55F9037570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F752-DC8D-429F-89A8-EA4199B223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BCDD-36BF-4D01-ACB5-52678F3051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8B11-2A6C-4F14-9F45-474484AAC9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F91B-03E6-475C-963E-91507CB7D7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994-F5D6-4FE1-9220-73CA9E60C6F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6040-74F8-408B-A7F8-9D89207DF8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5DC-8A93-45D7-8893-69465B4A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F76-2F3F-45F5-A7C4-28D27C4A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BA1-D285-41AE-89F3-0528D830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B6D-B8B3-4DBD-9A6E-49EA1CD5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B2B-4065-449A-97F3-F1237D70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97C-682B-4608-86CA-1FCBC513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83E-D244-4EEC-A0C7-E19FCB96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1AE-8F91-4F24-A4C2-E78DD7A2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7B1-DE7A-48E2-998E-D6E57C98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134-A103-4837-B621-55498AF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73A-59E2-418C-8F20-4ABE7A50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A77-1F1F-4DD4-BF31-788C080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7CA-8E77-4D9A-9417-E1077EAAA0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r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lin = paranoia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erdenkt vele mensen om hem te willen vermoorden, ook commun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eime politie op mensenj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zuiveringen via showprocess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lagen en arresta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fkampen in Siberië (Goelagarchi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leiders van CP en leger zijn dup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ovjet Unie verzw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miljoenen d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k heeft politiek niets te ver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standers van de Tsaar onderdru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aan verliezende hand in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olutie = snelle, totale vera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Rusland in 1917  twee revol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bruari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saar  Nicolaas II treedt af, Liberalen aan de m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ktober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ommunisten olv Lenin grijpen de ma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Tsaar%20Nicolaas%20II"/>
          <p:cNvPicPr/>
          <p:nvPr/>
        </p:nvPicPr>
        <p:blipFill>
          <a:blip r:embed="rId1"/>
          <a:stretch/>
        </p:blipFill>
        <p:spPr>
          <a:xfrm>
            <a:off x="4716360" y="3068640"/>
            <a:ext cx="2686320" cy="212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76360" y="407664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Tsaar Nicolaas II en zijn gez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arbeiders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 = revolutie en geen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communistische partij bepaalt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alles in het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amer_en_sikkel"/>
          <p:cNvPicPr/>
          <p:nvPr/>
        </p:nvPicPr>
        <p:blipFill>
          <a:blip r:embed="rId1"/>
          <a:stretch/>
        </p:blipFill>
        <p:spPr>
          <a:xfrm>
            <a:off x="3564000" y="3933720"/>
            <a:ext cx="1817640" cy="178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348000" y="5805360"/>
            <a:ext cx="23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e hamer en de sikkel staan symbool voor de arbeiders en bo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atregelen van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bedrijven en grond in handen van de staa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r is geen prive-bezit toege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andere politieke partijen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geheime pol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lige vrede met Duits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Lenin moet zich concentreren                         op burgeroor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enin"/>
          <p:cNvPicPr/>
          <p:nvPr/>
        </p:nvPicPr>
        <p:blipFill>
          <a:blip r:embed="rId1"/>
          <a:stretch/>
        </p:blipFill>
        <p:spPr>
          <a:xfrm>
            <a:off x="6659640" y="3213000"/>
            <a:ext cx="2190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nin verandert naam in 1922 in:                   Unie van Socialistische Sovjet Republieken =  Sovjet –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= raad van en/of arbeiders en/of boeren en/of soldat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In theorie besturen zij steden, fabrieken, boerderijen en leg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In praktijk niet het volk, maar                             Communistische Partij de baa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nieuwe e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tali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talitaire dictatu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24 Stalin volgt Leni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alitaire dictatuur = CP bepaalt leven van de burger volled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cht geheime politie (ang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sverheerlijking (grote beelden Sta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paganda voor St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ctr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talin"/>
          <p:cNvPicPr/>
          <p:nvPr/>
        </p:nvPicPr>
        <p:blipFill>
          <a:blip r:embed="rId1"/>
          <a:stretch/>
        </p:blipFill>
        <p:spPr>
          <a:xfrm>
            <a:off x="6300720" y="4653000"/>
            <a:ext cx="1762200" cy="1923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356000" y="595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= regering bepaalt alles op economisch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werkt met 5-jarenplann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Wat er elke 5 jaar gepresteerd moe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ovjet Unie in 10 jaar grote industrie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eiders uitgeknepen en vele gevangenen ingezet als dwangarbeider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ectiev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 gedwongen om op gemeenschappelijke boerderijen (kolchozen) of staatsboerderijen (sovchozen) te wer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ogere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verzet van boer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illen eigen stuk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tandige boeren verm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fe53ed347ca14702bf64ca7ceaaba709"/>
          <p:cNvPicPr/>
          <p:nvPr/>
        </p:nvPicPr>
        <p:blipFill>
          <a:blip r:embed="rId1"/>
          <a:stretch/>
        </p:blipFill>
        <p:spPr>
          <a:xfrm>
            <a:off x="6300720" y="3213000"/>
            <a:ext cx="142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8:31:46Z</dcterms:created>
  <dc:creator>OTTJ</dc:creator>
  <dc:description/>
  <dc:language>en-US</dc:language>
  <cp:lastModifiedBy>ottj</cp:lastModifiedBy>
  <cp:lastPrinted>2011-09-27T11:53:09Z</cp:lastPrinted>
  <dcterms:modified xsi:type="dcterms:W3CDTF">2011-09-27T11:53:58Z</dcterms:modified>
  <cp:revision>9</cp:revision>
  <dc:subject/>
  <dc:title>De Russische Revolutie</dc:title>
</cp:coreProperties>
</file>