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A6D-702A-463D-9C93-FD1343FA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67C-D199-4735-863B-5A148E4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691-A3F4-4CBB-AC20-F5B4D5D5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52D-27AC-40EB-BC90-4117C416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90C-709B-4DAA-AD43-814F3A51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746-6BFC-40B3-A2C4-5AF29445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496-287D-4D1B-99C9-15F60CD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E7E-2BE6-4CDD-B134-2484EAE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D2F-61DF-4673-98ED-9283F44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4B2-0CFE-4E29-A655-DD41774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E55-689C-447C-97DF-071DCCE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699-5921-4B39-B07C-DE0F2C6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12D9-3656-457B-BB0B-A3D616B157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-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 Vo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denburg wordt 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itler460"/>
          <p:cNvPicPr/>
          <p:nvPr/>
        </p:nvPicPr>
        <p:blipFill>
          <a:blip r:embed="rId1"/>
          <a:stretch/>
        </p:blipFill>
        <p:spPr>
          <a:xfrm>
            <a:off x="1258920" y="357336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867280" y="5157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r F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ührer (de leider): Adolf Hit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ek van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rreur = tegenstanders met geweld te lij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(S.A. en concentratiekam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Duitsland wordt totalitaire dict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ijkschakeling dmv indoctrinatie, censuur en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emitisme = Jodenvervol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van Verdrag van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voering van Lebensraum en Heim ins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an Hitler in Duitsland = gelijkscha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 organisaties en media zijn in handen van de Nazi”s, zodat zij de Nazi-ideeën overal kunnen overbre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Nazi-jeugdbewe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wijs volgens Nazi-ideeën = indoctr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scisme/nationaal-socialism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eemrechts in NL geen grote aanhang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sen hun eigen zuil trouw ble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in NL tijdens het interbellum rustig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ton%20Mussert"/>
          <p:cNvPicPr/>
          <p:nvPr/>
        </p:nvPicPr>
        <p:blipFill>
          <a:blip r:embed="rId1"/>
          <a:stretch/>
        </p:blipFill>
        <p:spPr>
          <a:xfrm>
            <a:off x="1332000" y="386064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43280" y="530064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ider van de N.S.B. : Anton Mu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e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0.000 werkloz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x per dag 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verschaffings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ssingspolitiek van regering Colij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zuinigingspolitiek: niet meer geld uitgeven dan 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ndrik-colijn"/>
          <p:cNvPicPr/>
          <p:nvPr/>
        </p:nvPicPr>
        <p:blipFill>
          <a:blip r:embed="rId1"/>
          <a:stretch/>
        </p:blipFill>
        <p:spPr>
          <a:xfrm>
            <a:off x="6372360" y="1413000"/>
            <a:ext cx="259056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7093080" y="4292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Hendrik Co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.S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al Socialistische Beweging olv Anton Mussert was geen succes omdat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na 1936 met de economie beter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ijn als sterke leider gezien werd door het volk; dus geen behoefte aan Mu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mensen de ideeën van de NSB gevaarlijk vo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wil in naderende oorlog weer neutraal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rijken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premi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moet macht delen met koning en pa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solini"/>
          <p:cNvPicPr/>
          <p:nvPr/>
        </p:nvPicPr>
        <p:blipFill>
          <a:blip r:embed="rId1"/>
          <a:stretch/>
        </p:blipFill>
        <p:spPr>
          <a:xfrm>
            <a:off x="5724360" y="4076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700360" y="537372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Il Duce (de leider): Benito Mussol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begint in V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elen op Wall Street bijna niets meer waa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drijven failliet en mensen werklo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crisis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producti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ductieverlag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la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klozen minder geld om te kop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og minder productie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werk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zijn spaargeld kwi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slaat over naar Europa e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-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parlementaire democratie van de Weimarrepublie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azi’s willen 1 leider =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47:51Z</dcterms:created>
  <dc:creator>OTTJ</dc:creator>
  <dc:description/>
  <dc:language>en-US</dc:language>
  <cp:lastModifiedBy>ottj</cp:lastModifiedBy>
  <cp:lastPrinted>2011-09-27T11:55:14Z</cp:lastPrinted>
  <dcterms:modified xsi:type="dcterms:W3CDTF">2013-09-18T08:47:04Z</dcterms:modified>
  <cp:revision>8</cp:revision>
  <dc:subject/>
  <dc:title>Fascisme en  Nationaal-socialisme</dc:title>
</cp:coreProperties>
</file>