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2358-E302-4E28-B673-FAEB5CD539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BA63-93A4-4FA4-9AC8-619102D17D2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9F6C-C09E-4FEB-876A-F81113C1A7F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F62B-1243-40FC-A8FC-F490E8A54AB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D819-BE0B-4E73-9FB5-FC9DFD0FA61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8666-F1FF-410E-81D5-3A8C6046C1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8815-900A-4799-AD89-328DA8BC40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89AA-BE7C-4615-98E1-4264C6CFBDF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D11-7785-4EE0-8FD3-8477919374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9BF0-1A76-49A8-8225-3AE54B5722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65EC-574D-46B1-89FB-652A2035AD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10E-EA3B-44F3-A85B-A7E44660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CD3-0520-4EF9-8C7B-4AD87F16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859-BA43-48E4-B302-2CFE2DF8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7E6-0F78-470F-BA7F-11BA5281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509-8973-4463-8C63-531DB7BF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AD1-B824-4966-A35E-3832B214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17F-BBE0-4097-B123-D3BCFBE7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E58-A8A6-4007-8015-3BEE6FD9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2A5-71BD-48B9-B1CB-F3BDF9FE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C49-4969-4A5C-85D2-FC64B7C9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074-E71E-4898-A809-57481D27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D89-F635-48B2-AB9E-12634544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4B41-F6E3-4CE2-B209-CE1601E318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r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lin = paranoia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erdenkt vele mensen om hem te willen vermoorden, ook commun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eime politie op mensenj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zuiveringen via showprocess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slagen en arresta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afkampen in Siberië (Goelagarchi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leiders van CP en leger zijn dup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ovjet Unie verzw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miljoenen d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k heeft politiek niets te ver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standers van de Tsaar onderdru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rm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sland aan verliezende hand in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olutie = snelle, totale vera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Rusland in 1917  twee revol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bruari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saar  Nicolaas II treedt af, Liberalen aan de m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ktober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ommunisten olv Lenin grijpen de mac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Tsaar%20Nicolaas%20II"/>
          <p:cNvPicPr/>
          <p:nvPr/>
        </p:nvPicPr>
        <p:blipFill>
          <a:blip r:embed="rId1"/>
          <a:stretch/>
        </p:blipFill>
        <p:spPr>
          <a:xfrm>
            <a:off x="4716360" y="3068640"/>
            <a:ext cx="2686320" cy="212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76360" y="407664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Tsaar Nicolaas II en zijn gez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arbeiders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 = revolutie en geen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communistische partij bepaalt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alles in het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amer_en_sikkel"/>
          <p:cNvPicPr/>
          <p:nvPr/>
        </p:nvPicPr>
        <p:blipFill>
          <a:blip r:embed="rId1"/>
          <a:stretch/>
        </p:blipFill>
        <p:spPr>
          <a:xfrm>
            <a:off x="3564000" y="3933720"/>
            <a:ext cx="1817640" cy="1781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348000" y="5805360"/>
            <a:ext cx="230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De hamer en de sikkel staan symbool voor de arbeiders en bo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atregelen van 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bedrijven en grond in handen van de staa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r is geen prive-bezit toege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andere politieke partijen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geheime poli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elige vrede met Duits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Lenin moet zich concentreren                         op burgeroorl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enin"/>
          <p:cNvPicPr/>
          <p:nvPr/>
        </p:nvPicPr>
        <p:blipFill>
          <a:blip r:embed="rId1"/>
          <a:stretch/>
        </p:blipFill>
        <p:spPr>
          <a:xfrm>
            <a:off x="6659640" y="3213000"/>
            <a:ext cx="2190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nin verandert naam in 1922 in:                   Unie van Socialistische Sovjet Republieken =  Sovjet –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= raad van en/of arbeiders en/of boeren en/of soldat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In theorie besturen zij steden, fabrieken, boerderijen en leg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In praktijk niet het volk, maar                             Communistische Partij de baa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nieuwe el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tali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otalitaire dictatu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24 Stalin volgt Leni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alitaire dictatuur = CP bepaalt leven van de burger volled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cht geheime politie (ang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sverheerlijking (grote beelden Stal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paganda voor Sta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ctr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talin"/>
          <p:cNvPicPr/>
          <p:nvPr/>
        </p:nvPicPr>
        <p:blipFill>
          <a:blip r:embed="rId1"/>
          <a:stretch/>
        </p:blipFill>
        <p:spPr>
          <a:xfrm>
            <a:off x="6300720" y="4653000"/>
            <a:ext cx="1762200" cy="1923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356000" y="595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Jozef Sta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= regering bepaalt alles op economisch 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werkt met 5-jarenplann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Wat er elke 5 jaar gepresteerd moe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ovjet Unie in 10 jaar grote industrie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eiders uitgeknepen en vele gevangenen ingezet als dwangarbeider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ectiev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 gedwongen om op gemeenschappelijke boerderijen (kolchozen) of staatsboerderijen (sovchozen) te wer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hogere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verzet van boer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illen eigen stuk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tandige boeren verm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fe53ed347ca14702bf64ca7ceaaba709"/>
          <p:cNvPicPr/>
          <p:nvPr/>
        </p:nvPicPr>
        <p:blipFill>
          <a:blip r:embed="rId1"/>
          <a:stretch/>
        </p:blipFill>
        <p:spPr>
          <a:xfrm>
            <a:off x="6300720" y="3213000"/>
            <a:ext cx="1428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8:31:46Z</dcterms:created>
  <dc:creator>OTTJ</dc:creator>
  <dc:description/>
  <dc:language>en-US</dc:language>
  <cp:lastModifiedBy>ottj</cp:lastModifiedBy>
  <cp:lastPrinted>2011-09-27T11:53:09Z</cp:lastPrinted>
  <dcterms:modified xsi:type="dcterms:W3CDTF">2011-09-27T11:53:58Z</dcterms:modified>
  <cp:revision>9</cp:revision>
  <dc:subject/>
  <dc:title>De Russische Revolutie</dc:title>
</cp:coreProperties>
</file>