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75E-FC1C-48B9-82FC-AC20903D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2640-9EC8-4808-9688-8ECC144D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FF7-C006-4538-91BF-93C6BCD0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836-D3E6-4AB8-99D9-900F1F6A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291-39DB-4372-8CB7-6ED22E1A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5A9-D8F7-431E-A315-49809D5B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185-3B3E-4A4E-B0A8-723EF048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7EF-9D36-4CC0-98F1-8D04C99B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070-4D02-4DB6-91CE-D933A09E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F5F-B03F-45B4-A900-05BA846D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03A-DF10-4554-9A24-A1A534F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BE18-1E5C-4139-8221-D2B7D20F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3804-2C22-43CD-946D-246A5E4DEA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ionaal-soci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itl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ler wordt rijkskanse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4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dood van president  Vo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ndenburg wordt Hitler Füh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itler460"/>
          <p:cNvPicPr/>
          <p:nvPr/>
        </p:nvPicPr>
        <p:blipFill>
          <a:blip r:embed="rId1"/>
          <a:stretch/>
        </p:blipFill>
        <p:spPr>
          <a:xfrm>
            <a:off x="1258920" y="3573360"/>
            <a:ext cx="438156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5867280" y="5157720"/>
            <a:ext cx="252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Der F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ührer (de leider): Adolf Hit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litiek van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rreur = tegenstanders met geweld te lij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(S.A. en concentratiekamp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democrati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Duitsland wordt totalitaire dictat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ijkschakeling dmv indoctrinatie, censuur en propa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tisemitisme = Jodenvervol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chaffing van Verdrag van Versai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Uitvoering van Lebensraum en Heim ins R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lijkscha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an Hitler in Duitsland = gelijkschakeling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 organisaties en media zijn in handen van de Nazi”s, zodat zij de Nazi-ideeën overal kunnen overbren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part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vak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en Nazi-jeugdbeweg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su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wijs volgens Nazi-ideeën = indoctr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Fascisme/nationaal-socialism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Ned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treemrechts in NL geen grote aanhang omd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nsen hun eigen zuil trouw blev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in NL tijdens het interbellum rustig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nton%20Mussert"/>
          <p:cNvPicPr/>
          <p:nvPr/>
        </p:nvPicPr>
        <p:blipFill>
          <a:blip r:embed="rId1"/>
          <a:stretch/>
        </p:blipFill>
        <p:spPr>
          <a:xfrm>
            <a:off x="1332000" y="3860640"/>
            <a:ext cx="2952720" cy="2638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643280" y="530064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Leider van de N.S.B. : Anton Mus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ederland en de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3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00.000 werkloz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x per dag stemp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maatreg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verschaffingspro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ssingspolitiek van regering Colij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ezuinigingspolitiek: niet meer geld uitgeven dan 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hendrik-colijn"/>
          <p:cNvPicPr/>
          <p:nvPr/>
        </p:nvPicPr>
        <p:blipFill>
          <a:blip r:embed="rId1"/>
          <a:stretch/>
        </p:blipFill>
        <p:spPr>
          <a:xfrm>
            <a:off x="6372360" y="1413000"/>
            <a:ext cx="2590560" cy="2665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7093080" y="429264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Hendrik Colij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.S.B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tionaal Socialistische Beweging olv Anton Mussert was geen succes omdat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na 1936 met de economie beter 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lijn als sterke leider gezien werd door het volk; dus geen behoefte aan Mu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mensen de ideeën van de NSB gevaarlijk vo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u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derland wil in naderende oorlog weer neutraal blij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ascisme = politieke str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staan in Italië na 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eldoorlog olv Benito Mussol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pulair bij rijken en christelijken (anticommunistis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 fasc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ussol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92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premi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ussolini moet macht delen met koning en pa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ussolini"/>
          <p:cNvPicPr/>
          <p:nvPr/>
        </p:nvPicPr>
        <p:blipFill>
          <a:blip r:embed="rId1"/>
          <a:stretch/>
        </p:blipFill>
        <p:spPr>
          <a:xfrm>
            <a:off x="5724360" y="407664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700360" y="537372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Il Duce (de leider): Benito Mussol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begint in V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elen op Wall Street bijna niets meer waard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drijven failliet en mensen werklo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 crisis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productie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roductieverlagin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tslag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werklozen minder geld om te kop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og minder productie en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 faill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werklo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zijn spaargeld kwi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isis slaat over naar Europa e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ationaal-Socialisme in Duits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e partij = NSDAP (Nazipartij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ascisme plus rassenl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in Duitsland na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ereldoorlog olv Adolf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orzaken ontstaan Fascisme: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onomisc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evredenheid over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Kenmerken nationaal-socialis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-leider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democ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= aartsvij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 toegestaan om doel te bere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leer: Duitse volk is superieur aa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andere volk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pun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NSD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Vrede van Versa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chaffing parlementaire democratie van de Weimarrepublie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Nazi’s willen 1 leider = Hit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isemitisme: Joden uit Duitse maatschappij verwij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bensr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im ins Re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sme vernie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rklaringen voor Hitler’s groeiende popular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s om economische crisis van 1929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ofte om vernederende Vrede van Versailles af te schaf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e spre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2:47:51Z</dcterms:created>
  <dc:creator>OTTJ</dc:creator>
  <dc:description/>
  <dc:language>en-US</dc:language>
  <cp:lastModifiedBy>ottj</cp:lastModifiedBy>
  <cp:lastPrinted>2011-09-27T11:55:14Z</cp:lastPrinted>
  <dcterms:modified xsi:type="dcterms:W3CDTF">2013-09-18T08:47:04Z</dcterms:modified>
  <cp:revision>8</cp:revision>
  <dc:subject/>
  <dc:title>Fascisme en  Nationaal-socialisme</dc:title>
</cp:coreProperties>
</file>