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45E3-E0C8-4A82-B203-265E3BA5841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15C8-B15E-4E2E-B08B-2484FEB4FDC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BBC2-8E4B-48C8-8135-1EB6A619EDC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B95F-D19C-4480-912C-6352C9C3D27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09FF-A384-4DF4-8886-1315BC69B56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FDAA-BDDC-41B7-BCFB-D2548613C88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5BC8-A8DF-450F-BBEF-1408D55C8E5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4270-963D-4231-A856-8052192ACBF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6F4F-8860-4377-B396-3A609C32D58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1A30-5031-46E6-BEEE-0AF19C3C460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85B5-C655-4AA4-A834-B18E2D455F7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EBF8-7315-424D-92C9-5E2E202E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17D-70F6-4501-B80B-DB7B6E2B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C8F1-CB5A-4BF6-85BD-2AA3593A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87D6-3E44-4EF1-940E-30A544FA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4DF-E958-4C18-A29E-4D3BFED3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D8D0-3E1B-47ED-BF2F-42B98E8D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F596-0BCA-4167-B68F-51BE265F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F322-3D94-40DE-A3B6-4DAC7C97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10D1-6991-48AD-B328-AB7321CF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588-D5F7-4AA0-95A9-44394C65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D733-418B-4A49-A2C8-8278E885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6F9-D6D0-43AF-A10F-B4A96FF8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B282-5CC4-49AF-8E0B-D98DC4A78B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Russische Revol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vatting 4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rr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lin = paranoia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erdenkt vele mensen om hem te willen vermoorden, ook commun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heime politie op mensenj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aat = zuiveringen via showprocess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tslagen en arresta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rafkampen in Siberië (Goelagarchip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leiders van CP en leger zijn dupe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ovjet Unie verzw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sultaat = miljoenen do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Russische Revol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lk heeft politiek niets te ver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genstanders van de Tsaar onderdru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armoe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sland aan verliezende hand in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volu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volutie = snelle, totale veran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Rusland in 1917  twee revol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ebruarirevolutie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Tsaar  Nicolaas II treedt af, Liberalen aan de m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ktoberrevolutie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Communisten olv Lenin grijpen de mac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Tsaar%20Nicolaas%20II"/>
          <p:cNvPicPr/>
          <p:nvPr/>
        </p:nvPicPr>
        <p:blipFill>
          <a:blip r:embed="rId1"/>
          <a:stretch/>
        </p:blipFill>
        <p:spPr>
          <a:xfrm>
            <a:off x="4716360" y="3068640"/>
            <a:ext cx="2686320" cy="2124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476360" y="4076640"/>
            <a:ext cx="295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Tsaar Nicolaas II en zijn gez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mmun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= arbeiders aan de m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ddel = revolutie en geen verkiez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communistische partij bepaalt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alles in het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hamer_en_sikkel"/>
          <p:cNvPicPr/>
          <p:nvPr/>
        </p:nvPicPr>
        <p:blipFill>
          <a:blip r:embed="rId1"/>
          <a:stretch/>
        </p:blipFill>
        <p:spPr>
          <a:xfrm>
            <a:off x="3564000" y="3933720"/>
            <a:ext cx="1817640" cy="1781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348000" y="5805360"/>
            <a:ext cx="230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Arial"/>
              </a:rPr>
              <a:t>De hamer en de sikkel staan symbool voor de arbeiders en boe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" dur="1" fill="hold"/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atregelen van Len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bedrijven en grond in handen van de staa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r is geen prive-bezit toeges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andere politieke partijen verb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uwe geheime poli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delige vrede met Duitsland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Lenin moet zich concentreren                         op burgeroorl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lenin"/>
          <p:cNvPicPr/>
          <p:nvPr/>
        </p:nvPicPr>
        <p:blipFill>
          <a:blip r:embed="rId1"/>
          <a:stretch/>
        </p:blipFill>
        <p:spPr>
          <a:xfrm>
            <a:off x="6659640" y="3213000"/>
            <a:ext cx="21906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US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nin verandert naam in 1922 in:                   Unie van Socialistische Sovjet Republieken =  Sovjet –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vjet = raad van en/of arbeiders en/of boeren en/of soldat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                In theorie besturen zij steden, fabrieken, boerderijen en leger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                In praktijk niet het volk, maar                             Communistische Partij de baa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            nieuwe el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tali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otalitaire dictatu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924 Stalin volgt Lenin 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talitaire dictatuur = CP bepaalt leven van de burger volled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ote macht geheime politie (ang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soonsverheerlijking (grote beelden Stal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paganda voor Sta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ensu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ctrin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stalin"/>
          <p:cNvPicPr/>
          <p:nvPr/>
        </p:nvPicPr>
        <p:blipFill>
          <a:blip r:embed="rId1"/>
          <a:stretch/>
        </p:blipFill>
        <p:spPr>
          <a:xfrm>
            <a:off x="6300720" y="4653000"/>
            <a:ext cx="1762200" cy="19238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356000" y="595008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Jozef Sta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econo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P = regering bepaalt alles op economisch geb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P werkt met 5-jarenplanne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Wat er elke 5 jaar gepresteerd moet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cces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Sovjet Unie in 10 jaar grote industrie, m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rbeiders uitgeknepen en vele gevangenen ingezet als dwangarbeider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ectiev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ren gedwongen om op gemeenschappelijke boerderijen (kolchozen) of staatsboerderijen (sovchozen) te werk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= hogere prod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l verzet van boeren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illen eigen stuk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standige boeren vermo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fe53ed347ca14702bf64ca7ceaaba709"/>
          <p:cNvPicPr/>
          <p:nvPr/>
        </p:nvPicPr>
        <p:blipFill>
          <a:blip r:embed="rId1"/>
          <a:stretch/>
        </p:blipFill>
        <p:spPr>
          <a:xfrm>
            <a:off x="6300720" y="3213000"/>
            <a:ext cx="1428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8:31:46Z</dcterms:created>
  <dc:creator>OTTJ</dc:creator>
  <dc:description/>
  <dc:language>en-US</dc:language>
  <cp:lastModifiedBy>ottj</cp:lastModifiedBy>
  <cp:lastPrinted>2011-09-27T11:53:09Z</cp:lastPrinted>
  <dcterms:modified xsi:type="dcterms:W3CDTF">2011-09-27T11:53:58Z</dcterms:modified>
  <cp:revision>9</cp:revision>
  <dc:subject/>
  <dc:title>De Russische Revolutie</dc:title>
</cp:coreProperties>
</file>