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4DC-C2BB-4660-AB41-1D99AC1D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36A-408E-4035-AD39-76DDB9AB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144-8F61-4249-81AA-506970CF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A20-35FA-4E50-97A2-C3A95F1F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117-74F1-470E-A84A-4C81B543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333-EA3C-429E-B16A-F5ADDDB9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752B-40EE-45CF-A557-3634E180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8BA-C882-4157-9BEE-2ED4811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2C8-38F6-41AA-8E13-EBC08F05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53C-2886-4752-8233-A8F85441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360-8BD2-47DF-B4DA-778E86B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124-67A5-4CFF-9CCC-77B71304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831-80D0-4920-8113-E5F0AA5E6F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.3  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middenklasse (kleine zelfstandigen)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nationaalsocial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word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olitiek van Hitler in Duitsland = gelijkschakeling 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Alle organisaties en media zijn in handen van de Nazi”s, zodat zij de nazi-ideeën overal kunnen overbre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zi-jeugd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olgens nazi-ide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08:29:44Z</dcterms:created>
  <dc:creator>OTTJ</dc:creator>
  <dc:description/>
  <dc:language>en-US</dc:language>
  <cp:lastModifiedBy>ottj</cp:lastModifiedBy>
  <dcterms:modified xsi:type="dcterms:W3CDTF">2012-09-12T11:43:46Z</dcterms:modified>
  <cp:revision>4</cp:revision>
  <dc:subject/>
  <dc:title>Fascisme en  Nationaal-socialisme</dc:title>
</cp:coreProperties>
</file>