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804F0-8592-47EE-81A9-D3C5295E5538}"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34EE-EB65-4B3F-A95A-0FEC353549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E50645-634F-45B7-B691-AACC28C95B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8C282-B2BE-4DBA-B34F-912F19965A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29E405-31DD-4EDE-9005-247AFF400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946EC-CE0F-4580-8433-7AC9F2C43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DE036-50DD-4D36-9A1D-3795DECB79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11798-1800-47B8-81D5-A1DA5BBF14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ABABBF-069C-4ADE-8C62-754F71088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AD220-F13F-42A1-8F76-79F643A9A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1AFAA-500B-484F-A829-31E7E9408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FC45E-91CD-45EF-A579-D65AC211AD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32A95-C2E6-4AA0-AC63-2ADD0E0FD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A2469D-2E19-48A7-93A3-1CBCD454E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0800D-4586-4684-8072-E219C43537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A0A1C-88D5-48CB-A3ED-749944F50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0F1DA-C689-45DE-89D0-C0F44C915A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57F0A-893E-40C9-A836-346F973421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C6CE03-ED06-4046-BEF3-6F0972833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0B7268-B43D-4F45-8789-352C62B4EF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F3F188-4685-45AC-B3BD-3067F345FD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8D9B76-F3F2-43B2-8834-97F2046C62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05289F-DD99-4C9F-919D-0369A730B6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4437C8-2758-4B3F-A2DE-F2DA47916D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1CFD1-260E-4062-ABE9-BA7259F6F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00684B-624B-4FBD-8FBD-1AA30FD64D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82ED8A-09AC-4550-9EE3-5CA0EFF84E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4226EC-A0A7-4692-9E0A-DAD63DF2F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34FFE-31E0-4E7F-A7D2-0B25498E1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DD0ED4-E51F-4B6A-B8EC-EA0D0C1A7F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694C3D-CDBE-42F3-9CC3-E8B3CDFCC5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8976F2-4F07-40FB-BF2A-042BC60195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C3E014B-7315-41EE-A12C-0484832486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65A44-52D2-4D53-B640-301A9DD15E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3ECA3B-0147-403A-8AB5-992DC8B00D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8E4C4D-B1F9-4BE0-A881-F58B475E5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D4B28B-ED52-4929-A072-C1AC92E01F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4C6767C-2B42-4A7C-8430-D596A7EEFD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D07E58-D60A-4796-A86A-A69E0A979E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CA0482-31E7-4F38-8466-F9EA18210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FFBAC-8F12-439D-B719-CD75F8C39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0B8222-A45E-4217-A777-CD4AB1D09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AB9276-6431-4BB5-A91A-4DFFE43C1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806CC5-8CF3-4629-B2A4-DE5031B43B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C1EC7A-679A-4767-9F4C-1C9D85F1C9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3FB81F-75BF-4947-B282-485F705F93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2B429-92EE-425D-8041-7E46DA81A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674FA-2BA6-4E6F-B60C-E25A0B4109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D6C155-FD5D-452F-823B-AA510B456C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3C760E-08B2-467C-A0B0-4B903CED94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969562-0ECE-4FF6-B0D0-C8F776C984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F536E5-8AB4-4B6A-8303-DC9E1DABCF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28E19F-FC35-43E5-BFAF-D038D88204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44FCE-3E1D-4351-8AC7-C046B15B10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C6A080-37B6-48AF-B018-521AEE1189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3B9005-791A-4D90-B91B-EF15FB6A3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658723-9F02-4F6F-9295-90B6CC72E3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F8021-540B-4A01-9EEE-E6F9673E9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E27DDB-5C61-483F-9BBE-3B4CBD4BC2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C20A3-23F6-49FB-B8B4-FADD8DA6B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84430-AC09-47C1-88B4-C80DBA6DD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4FAF-71CD-4083-9036-6E18A67C8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835B9-0134-49F8-AF03-4A8B15A8B9BE}"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4F06-6DA7-47A1-8C8F-9F420FEBDE82}"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851D-D710-47C4-BDEC-630A6ABF2035}"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5AE48-6CF9-40EB-8F67-0532EEC4900D}"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DFC1-0431-4C72-8EA8-6A315B2701B6}"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tom</cp:lastModifiedBy>
  <dcterms:modified xsi:type="dcterms:W3CDTF">2017-08-07T11:52:53Z</dcterms:modified>
  <cp:revision>52</cp:revision>
  <dc:subject/>
  <dc:title>Kinderarbeid</dc:title>
</cp:coreProperties>
</file>