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6DDE-434A-425D-8FF6-7A606E6035C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DC28C-EEB2-4AD4-BF0F-8D932B6216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2B0F6E-99A5-4D84-83D9-7F49ED738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D73D8-818C-42A7-9906-F698FF0A8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584BA-5CAC-46AE-8D55-19BD6E939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D564D-D1C5-4B9D-A33F-7D8B58ED7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695D26-6155-47FE-9E9C-A9978CB9E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35BF3-D2F8-4DA6-AC76-FAFB775B4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E6167-9E5C-4EBD-8240-0C324D0EB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341E2-108D-45BA-9C96-81AF57BEB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C836B-80C2-4C20-84EA-03491F880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F375F-F1CE-409D-942A-49AC035CD7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AD81F-7C0A-488A-895C-1099518D3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0B7C-9327-43A8-B980-38EC643A3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84AE9D-08A8-4C43-8612-66F67F4EB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FD92F-970E-4516-9E83-8C9FB5D13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63C19-F4C9-4189-B8B3-C90982AF2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EF16B2-A12B-47EC-8C72-120DE81EF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70838F-C59F-4899-ADDC-A6EF515E1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DB1832-1E43-4E4A-A0EC-F7C29C68E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0DAC4-6276-45FC-8FD2-5C182F2C56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9444B3-8B5D-4267-BAE4-A5E220BACE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117FF-87E1-41B8-8DB0-F4ECF5B47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3FF50F-0468-45C9-8C1B-D2B212292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BB57D-8DB2-4311-B92E-557C9D0BE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03C3CF-235C-4F69-AFDB-A441C53CFC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676479-D8C4-4557-ABC4-83F223ECF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E7E4EB-7B2F-4C29-A552-8E33BB26A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F8651-0DD3-4F1D-A3D9-4BDE64EC38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FF19D3-659E-4240-A1A3-CA9C6BEFAE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9F4F26-3F78-482C-8D53-0225CD4F74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089C9E-8271-4773-B5DB-9342A83FDD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462713-F170-4A16-B53C-5569EB66F1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A637AA-2853-48A2-B6D5-71EC57DF66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DC8B92-95AB-45D0-BC79-0AEB0020E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BD681-F20B-45F9-941A-23ACA7F3C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20AD0E-2F34-4D96-A390-6A12FED8D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5B2B34-7F71-4EA6-8DFE-9CEC50BC9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F88B85-AF68-4430-8A79-8C55C654A9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3BAEA-AAB8-479D-A847-FC5D37960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1EB14-5DCF-4394-95AC-64BE6092D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138115-1DB1-4F9B-83A7-7E302EE46B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87A65-92B4-4D8C-859C-2D8BABF48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9144E-E002-4281-AF8E-733CF96B81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8410FF-20EE-4A22-B4D3-53A1A283C4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41EBAC-1512-4A4B-8595-C0982076BE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BFBB9-89A4-4C30-9FF5-C126391A3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62BDB2-4AE8-4EAF-A77B-96648C22F1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EC5AD-0C00-4357-9CE6-D928AA7525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AD6ABD-EAC6-4258-8988-38D71D7B94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F6E08-13B4-40A9-B871-D65E3D097B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0802C6-B6A8-42D5-BB0A-C1026DA166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D69C3F-B998-4745-A283-524A97DEC3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70A6EF-EF3C-4992-8CA9-62067E070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494B5C-9DCC-4E3E-9829-D460F671A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4CE0E7-AA25-41D3-9AF1-2A5078945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B6E182-836F-446C-927A-60E70CF2DF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69C7-5A4D-4463-84EB-DD5467640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A14941-821F-443E-A682-26D6C52E83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F6672-5647-42FA-93E3-EE9663148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F7C50-8559-42BF-8A08-48F0A829B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BFA91-9835-46DB-97A7-BCDA7DF7D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F0C1B-99D4-40F9-B669-7046986446F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8336-A5C3-45FA-93A7-3B9B7EA67008}"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BE529-7DA6-48A4-A911-112E4C762952}"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7A837-47DD-4AA4-B727-FB51A30C7829}"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C8DD-0B1D-4A15-A12C-7B8014160D01}"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tom</cp:lastModifiedBy>
  <dcterms:modified xsi:type="dcterms:W3CDTF">2017-08-07T11:52:53Z</dcterms:modified>
  <cp:revision>52</cp:revision>
  <dc:subject/>
  <dc:title>Kinderarbeid</dc:title>
</cp:coreProperties>
</file>