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7F92C-0602-41D6-B670-FC24E8A076BD}"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EE6AC-B6AD-4312-BDD3-AC82EAEC62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9355F-C67A-43B2-BDB6-F57873590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7BFB6-B33B-4D7A-B83E-D7FD1DBD6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18DCF-C02F-45EA-9C18-4BB7DB8CB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5DEF4-3A94-4739-8B12-C8A7C67AF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DF45A-D3A7-4167-B89B-0739839DE9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0867A-46E7-419F-850E-78AFBDA36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B5DA9-C7B8-45F9-AAB4-17491E9F8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7C7F6-ADC2-4ABD-9777-483B911D0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98314-C36E-4DEF-8DFC-D828A702C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BC75E-2FC4-4A0A-A554-8927A8F3E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773F3-7975-4268-894D-3DC776E6B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6EF6C-428F-4D0B-A1B6-3B13DD634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04787-8632-4B2F-B694-47D486CCB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908323-62BD-4922-BD8C-BB9E52DC9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39AC8-D741-45B9-A502-ECA1C493E7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66CCA-F14C-44E7-A24C-027EAC9F0A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3F06C-DCEE-46BD-A983-AF2FDC9AD6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C2FC8D-3DA7-492F-89BA-AF70A4FCA1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9F4297-7AA5-490D-A764-0B51B7F06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161E88-94D9-4D75-BEB0-BD30D1DAEC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428BEB-D2A0-44B8-AA0F-1ED8F0825B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109D3C-F3D5-49AF-AB83-2FEFDA22AD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58C0B-84F4-4446-95D1-9ABA158F2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75F75D-4A3A-40E7-A20B-03229864CC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8DB5A3-E37B-4696-9101-F7F7F9AE3E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CD581C-5B6F-4285-BA32-4BE7D57B2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409EE1-350B-4941-A0FA-106258C09D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98F8D8-62C6-47B1-951F-3FA963F6D8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879474-3150-41AD-861F-D578E4F1B3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54A219-7A3B-430E-ADC8-42E50B37E0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6C9BFF-AF48-44B6-B551-55AEFDD236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A4EE78-8589-4170-9780-805BD0A5D4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DA1E0D-EE85-4FD1-A12B-A59A01733F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76FE3-4C49-4B4A-9AA5-0C273A56A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603AE4-88CB-4643-A536-8220C137B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5BD413-405F-4B53-8415-02FCD75522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0ADC9F-1249-48D8-8AA5-4342B2B06C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69C67F-3DCE-490B-92F9-028324BDF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101C0A-32B5-4F5C-A4A6-2561DB8DA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64C32E-D689-46DA-BCE1-D566BF8B0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99AB51-B0BC-4BF9-A917-4E07C721C3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86A209-D19C-4D84-BB7E-E4978B4D75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32D088-27F3-471E-A4B5-0593F87237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F3E613-434C-4DDE-8452-17D77ADE03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69AF1-63F8-4AA6-91A4-3FEF7FA90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8E2F33-E68A-45F8-80EF-EF6EFCBAB4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AB3552-B73A-4A38-B7CE-5C0B3C5F41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E62DB7-F672-4B20-8E39-6AF9E86C72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71781C-3B09-4B87-B2C5-7A3502658C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B4052C-4E49-4A04-A916-F696DCC5CA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8428C4-5762-4AB9-9AB7-943B601A09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49F565-49B7-42D2-8E79-914203DD06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04C493-5B50-4D95-9433-7F5527DDE9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0AD642-74FB-4068-B6F7-FFBF6B1023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357082-FB45-46D0-A238-2721921C70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C6DC4-A1D7-476A-8432-6B6D8B849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0CB94F-4B1A-4310-B423-7D48FF90E7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203E5-AB98-4909-AB8D-BABAEA5CB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2623F-9634-410A-9E3B-5519B5781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F4547-B6DA-4E40-9B15-7D40D795B3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6520" y="0"/>
            <a:ext cx="987480" cy="6858000"/>
            <a:chOff x="8156520" y="0"/>
            <a:chExt cx="987480" cy="6858000"/>
          </a:xfrm>
        </p:grpSpPr>
        <p:pic>
          <p:nvPicPr>
            <p:cNvPr id="1" name="Rechthoek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C4F71-0D7D-42C5-AC2D-892CFCB8CEAC}"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70120" y="0"/>
            <a:ext cx="6473880" cy="6858000"/>
            <a:chOff x="2670120" y="0"/>
            <a:chExt cx="6473880" cy="6858000"/>
          </a:xfrm>
        </p:grpSpPr>
        <p:pic>
          <p:nvPicPr>
            <p:cNvPr id="45" name="Rechthoek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2A75-63B2-4955-B995-A346D868F99E}"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6520" y="0"/>
            <a:ext cx="987480" cy="6858000"/>
            <a:chOff x="8156520" y="0"/>
            <a:chExt cx="987480" cy="6858000"/>
          </a:xfrm>
        </p:grpSpPr>
        <p:pic>
          <p:nvPicPr>
            <p:cNvPr id="90" name="Rechthoek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9063-80DB-4D2E-A2EB-DD2454B59435}"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EF2EF-7068-41D8-BA77-002F398D2926}"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6520" y="0"/>
            <a:ext cx="987480" cy="6858000"/>
            <a:chOff x="8156520" y="0"/>
            <a:chExt cx="987480" cy="6858000"/>
          </a:xfrm>
        </p:grpSpPr>
        <p:pic>
          <p:nvPicPr>
            <p:cNvPr id="177" name="Rechthoek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FCC3-53BF-40B3-8748-B45FB44A6F91}"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9040" y="360360"/>
            <a:ext cx="8315280" cy="32418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457200" y="324000"/>
            <a:ext cx="7242120" cy="1139760"/>
          </a:xfrm>
          <a:prstGeom prst="rect">
            <a:avLst/>
          </a:prstGeom>
          <a:ln w="0">
            <a:noFill/>
          </a:ln>
        </p:spPr>
      </p:pic>
      <p:pic>
        <p:nvPicPr>
          <p:cNvPr id="266" name="Tijdelijke aanduiding voor inhoud 2" descr=""/>
          <p:cNvPicPr/>
          <p:nvPr/>
        </p:nvPicPr>
        <p:blipFill>
          <a:blip r:embed="rId2"/>
          <a:stretch/>
        </p:blipFill>
        <p:spPr>
          <a:xfrm>
            <a:off x="457200" y="1554120"/>
            <a:ext cx="7334280" cy="490212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457200" y="324000"/>
            <a:ext cx="7242120" cy="113976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457200" y="324000"/>
            <a:ext cx="7242120" cy="113976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457200" y="639720"/>
            <a:ext cx="7242120" cy="82404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212760" y="858960"/>
            <a:ext cx="8645400" cy="424332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457200" y="139680"/>
            <a:ext cx="7242120" cy="107316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457200" y="324000"/>
            <a:ext cx="7242120" cy="1139760"/>
          </a:xfrm>
          <a:prstGeom prst="rect">
            <a:avLst/>
          </a:prstGeom>
          <a:ln w="0">
            <a:noFill/>
          </a:ln>
        </p:spPr>
      </p:pic>
      <p:pic>
        <p:nvPicPr>
          <p:cNvPr id="253" name="Tijdelijke aanduiding voor inhoud 2" descr=""/>
          <p:cNvPicPr/>
          <p:nvPr/>
        </p:nvPicPr>
        <p:blipFill>
          <a:blip r:embed="rId3"/>
          <a:stretch/>
        </p:blipFill>
        <p:spPr>
          <a:xfrm>
            <a:off x="328680" y="1603440"/>
            <a:ext cx="7377120" cy="48578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457200" y="324000"/>
            <a:ext cx="7242120" cy="113976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457200" y="324000"/>
            <a:ext cx="7242120" cy="1139760"/>
          </a:xfrm>
          <a:prstGeom prst="rect">
            <a:avLst/>
          </a:prstGeom>
          <a:ln w="0">
            <a:noFill/>
          </a:ln>
        </p:spPr>
      </p:pic>
      <p:pic>
        <p:nvPicPr>
          <p:cNvPr id="258" name="Tijdelijke aanduiding voor inhoud 2" descr=""/>
          <p:cNvPicPr/>
          <p:nvPr/>
        </p:nvPicPr>
        <p:blipFill>
          <a:blip r:embed="rId2"/>
          <a:stretch/>
        </p:blipFill>
        <p:spPr>
          <a:xfrm>
            <a:off x="347760" y="1609560"/>
            <a:ext cx="7351560" cy="484668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457200" y="324000"/>
            <a:ext cx="7242120" cy="1139760"/>
          </a:xfrm>
          <a:prstGeom prst="rect">
            <a:avLst/>
          </a:prstGeom>
          <a:ln w="0">
            <a:noFill/>
          </a:ln>
        </p:spPr>
      </p:pic>
      <p:pic>
        <p:nvPicPr>
          <p:cNvPr id="261" name="Tijdelijke aanduiding voor inhoud 2" descr=""/>
          <p:cNvPicPr/>
          <p:nvPr/>
        </p:nvPicPr>
        <p:blipFill>
          <a:blip r:embed="rId2"/>
          <a:stretch/>
        </p:blipFill>
        <p:spPr>
          <a:xfrm>
            <a:off x="347760" y="1554120"/>
            <a:ext cx="7375320" cy="492588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457200" y="324000"/>
            <a:ext cx="7242120" cy="1139760"/>
          </a:xfrm>
          <a:prstGeom prst="rect">
            <a:avLst/>
          </a:prstGeom>
          <a:ln w="0">
            <a:noFill/>
          </a:ln>
        </p:spPr>
      </p:pic>
      <p:pic>
        <p:nvPicPr>
          <p:cNvPr id="264" name="Tijdelijke aanduiding voor inhoud 2" descr=""/>
          <p:cNvPicPr/>
          <p:nvPr/>
        </p:nvPicPr>
        <p:blipFill>
          <a:blip r:embed="rId2"/>
          <a:stretch/>
        </p:blipFill>
        <p:spPr>
          <a:xfrm>
            <a:off x="420840" y="1554120"/>
            <a:ext cx="7345080" cy="490212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Leontine de Jong</cp:lastModifiedBy>
  <dcterms:modified xsi:type="dcterms:W3CDTF">2017-08-07T13:46:36Z</dcterms:modified>
  <cp:revision>53</cp:revision>
  <dc:subject/>
  <dc:title>Kinderarbeid</dc:title>
</cp:coreProperties>
</file>