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E78B5-9A8F-4EE3-9987-45933E20707B}"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97BF-91D8-4FD7-A89E-507249D061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AD771-46E0-49E1-91ED-66AEA6453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06D86-1546-45E9-A37E-54A45229E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6F252-24D4-41C2-99CF-6810C0578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8A311-CE38-4C02-B53C-0187CBD764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35C32-1FB2-472C-9AEB-C15CC8F2DE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F8A4E-F114-4772-A4DD-35EAFF4E0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EE70C-197F-457F-B97F-D07D5C30A8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C7D75-99A1-42DE-A2D2-DCFEDFC20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67CFA-C8E0-49FB-AA34-8A7B7A25B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789BEA-F048-447E-B2F3-9817108C0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B2E1B2-1970-4073-95D5-582299AE9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628CE-C902-4DD3-9318-9C488DD7A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A495C-6B07-43D0-A001-EC1FC10978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75329-8014-4532-AD2C-6A6B7A57B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90C28A-B98F-4DF1-8777-3137FBAE98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62574-8200-4F45-AE9F-622566365C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472C9B-5076-41BF-83A2-8A5EC47E7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BC9FD1-6D42-43BF-842A-30C52EC035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CA308E-575F-4AAB-9279-EC4F911B9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19D983-4E60-45E1-B01C-89E3FDEA1B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75A0A6F-71C7-498B-9DE4-8A0A269567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5CD2AC-F69D-4CCC-9B7A-F8CD4F866A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22C51-B4EB-4074-894B-AF3E8066B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351C66-094D-4F02-A158-BABD025257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60D594-5CCA-4196-BC91-859A1C0BB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1E8A1-A6D5-4CF4-A10C-DC7D2BC0EB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BE8E56-FD3E-4A66-9747-ECED6F936D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54CB5E-CADC-4066-87B0-EF62120B834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991022-2EE3-41FE-8B42-5520FA2568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87D203-F9B9-41B4-88EB-B901FA9075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A44F7B-05B6-4A90-9162-0D1EB556F3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5DC3A3-7894-49E9-AFFE-75EE440C90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434E4E-FC71-45AD-95F5-BA098486E0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9133EC-B3FE-4419-8766-41F84CDC36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893474F-5DE7-4261-A05E-C2F28AF80C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8D87CE-C225-4EE2-A05B-CB318CCBFD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B028E8-08BF-4A6A-98A4-3988871A8E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F422FC-704A-497F-8592-AB2E0104F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D81935-0132-49C7-B543-907D292B8E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3AC746-3893-4009-8395-7D4F5B919E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ED5314-FAF7-4BD6-8FB2-076A67AF6D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895524-015B-4C28-8999-9B1A82CAD7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2D922C-B8FE-4060-AF93-292B4809F1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13DD5F-F348-4B88-BE61-3334CE4FDD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2CB9B-9A2D-402A-B01F-BE8F67A3E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CFC68D-5D36-4399-BD77-58047B86DA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D2AEBF-9B15-4A25-89F2-AA929B16808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9EEE2D-D682-4BE2-BA12-3EB6668A56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7B41CB-03ED-460D-93C9-55E6582B52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5CF451-3046-489C-887C-195FBF2F0E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1905F9-EC82-42B8-9375-0298610025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30EC42-CAAC-4456-91A2-509EE32A4E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15BE29-965D-4052-84D4-B155984BDA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27B189-0D8F-41F2-8895-9E79C657F3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1885C7-C15D-4017-BBCD-7D69A25FEC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F180E-E1AF-4E9B-A726-3A652748F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776E842-CCE4-4868-8B80-A751A7FCA1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65895-BD1B-43B2-83A2-397184281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EBCA4-86AE-46AE-B940-5BE536A7A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BB8E1-34E6-4E08-AB19-A723F5E53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6520" y="0"/>
            <a:ext cx="987480" cy="6858000"/>
            <a:chOff x="8156520" y="0"/>
            <a:chExt cx="987480" cy="6858000"/>
          </a:xfrm>
        </p:grpSpPr>
        <p:pic>
          <p:nvPicPr>
            <p:cNvPr id="1" name="Rechthoek 8" descr=""/>
            <p:cNvPicPr/>
            <p:nvPr/>
          </p:nvPicPr>
          <p:blipFill>
            <a:blip r:embed="rId2"/>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3836-BB65-466E-B3B2-E67842C7AB0B}"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70120" y="0"/>
            <a:ext cx="6473880" cy="6858000"/>
            <a:chOff x="2670120" y="0"/>
            <a:chExt cx="6473880" cy="6858000"/>
          </a:xfrm>
        </p:grpSpPr>
        <p:pic>
          <p:nvPicPr>
            <p:cNvPr id="45" name="Rechthoek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A93D-3A63-4EAB-856C-D93D233ABF57}"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6520" y="0"/>
            <a:ext cx="987480" cy="6858000"/>
            <a:chOff x="8156520" y="0"/>
            <a:chExt cx="987480" cy="6858000"/>
          </a:xfrm>
        </p:grpSpPr>
        <p:pic>
          <p:nvPicPr>
            <p:cNvPr id="90" name="Rechthoek 8" descr=""/>
            <p:cNvPicPr/>
            <p:nvPr/>
          </p:nvPicPr>
          <p:blipFill>
            <a:blip r:embed="rId2"/>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3D17F-ADAE-42BD-96DF-9CDA0CA92968}"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40658-4E8C-4A89-911F-4D13B500F53B}"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6520" y="0"/>
            <a:ext cx="987480" cy="6858000"/>
            <a:chOff x="8156520" y="0"/>
            <a:chExt cx="987480" cy="6858000"/>
          </a:xfrm>
        </p:grpSpPr>
        <p:pic>
          <p:nvPicPr>
            <p:cNvPr id="177" name="Rechthoek 8" descr=""/>
            <p:cNvPicPr/>
            <p:nvPr/>
          </p:nvPicPr>
          <p:blipFill>
            <a:blip r:embed="rId2"/>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BB8EB-4FF2-4625-A41F-25F544EEC389}"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9040" y="360360"/>
            <a:ext cx="8315280" cy="32418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457200" y="324000"/>
            <a:ext cx="7242120" cy="1139760"/>
          </a:xfrm>
          <a:prstGeom prst="rect">
            <a:avLst/>
          </a:prstGeom>
          <a:ln w="0">
            <a:noFill/>
          </a:ln>
        </p:spPr>
      </p:pic>
      <p:pic>
        <p:nvPicPr>
          <p:cNvPr id="266" name="Tijdelijke aanduiding voor inhoud 2" descr=""/>
          <p:cNvPicPr/>
          <p:nvPr/>
        </p:nvPicPr>
        <p:blipFill>
          <a:blip r:embed="rId2"/>
          <a:stretch/>
        </p:blipFill>
        <p:spPr>
          <a:xfrm>
            <a:off x="457200" y="1554120"/>
            <a:ext cx="7334280" cy="490212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457200" y="324000"/>
            <a:ext cx="7242120" cy="113976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457200" y="324000"/>
            <a:ext cx="7242120" cy="113976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457200" y="639720"/>
            <a:ext cx="7242120" cy="82404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212760" y="858960"/>
            <a:ext cx="8645400" cy="424332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457200" y="139680"/>
            <a:ext cx="7242120" cy="107316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457200" y="324000"/>
            <a:ext cx="7242120" cy="1139760"/>
          </a:xfrm>
          <a:prstGeom prst="rect">
            <a:avLst/>
          </a:prstGeom>
          <a:ln w="0">
            <a:noFill/>
          </a:ln>
        </p:spPr>
      </p:pic>
      <p:pic>
        <p:nvPicPr>
          <p:cNvPr id="253" name="Tijdelijke aanduiding voor inhoud 2" descr=""/>
          <p:cNvPicPr/>
          <p:nvPr/>
        </p:nvPicPr>
        <p:blipFill>
          <a:blip r:embed="rId3"/>
          <a:stretch/>
        </p:blipFill>
        <p:spPr>
          <a:xfrm>
            <a:off x="328680" y="1603440"/>
            <a:ext cx="7377120" cy="48578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457200" y="324000"/>
            <a:ext cx="7242120" cy="113976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457200" y="324000"/>
            <a:ext cx="7242120" cy="1139760"/>
          </a:xfrm>
          <a:prstGeom prst="rect">
            <a:avLst/>
          </a:prstGeom>
          <a:ln w="0">
            <a:noFill/>
          </a:ln>
        </p:spPr>
      </p:pic>
      <p:pic>
        <p:nvPicPr>
          <p:cNvPr id="258" name="Tijdelijke aanduiding voor inhoud 2" descr=""/>
          <p:cNvPicPr/>
          <p:nvPr/>
        </p:nvPicPr>
        <p:blipFill>
          <a:blip r:embed="rId2"/>
          <a:stretch/>
        </p:blipFill>
        <p:spPr>
          <a:xfrm>
            <a:off x="347760" y="1609560"/>
            <a:ext cx="7351560" cy="484668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457200" y="324000"/>
            <a:ext cx="7242120" cy="1139760"/>
          </a:xfrm>
          <a:prstGeom prst="rect">
            <a:avLst/>
          </a:prstGeom>
          <a:ln w="0">
            <a:noFill/>
          </a:ln>
        </p:spPr>
      </p:pic>
      <p:pic>
        <p:nvPicPr>
          <p:cNvPr id="261" name="Tijdelijke aanduiding voor inhoud 2" descr=""/>
          <p:cNvPicPr/>
          <p:nvPr/>
        </p:nvPicPr>
        <p:blipFill>
          <a:blip r:embed="rId2"/>
          <a:stretch/>
        </p:blipFill>
        <p:spPr>
          <a:xfrm>
            <a:off x="347760" y="1554120"/>
            <a:ext cx="7375320" cy="492588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457200" y="324000"/>
            <a:ext cx="7242120" cy="1139760"/>
          </a:xfrm>
          <a:prstGeom prst="rect">
            <a:avLst/>
          </a:prstGeom>
          <a:ln w="0">
            <a:noFill/>
          </a:ln>
        </p:spPr>
      </p:pic>
      <p:pic>
        <p:nvPicPr>
          <p:cNvPr id="264" name="Tijdelijke aanduiding voor inhoud 2" descr=""/>
          <p:cNvPicPr/>
          <p:nvPr/>
        </p:nvPicPr>
        <p:blipFill>
          <a:blip r:embed="rId2"/>
          <a:stretch/>
        </p:blipFill>
        <p:spPr>
          <a:xfrm>
            <a:off x="420840" y="1554120"/>
            <a:ext cx="7345080" cy="490212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Leontine de Jong</cp:lastModifiedBy>
  <dcterms:modified xsi:type="dcterms:W3CDTF">2017-08-07T13:46:36Z</dcterms:modified>
  <cp:revision>53</cp:revision>
  <dc:subject/>
  <dc:title>Kinderarbeid</dc:title>
</cp:coreProperties>
</file>