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52ED-A8FF-4E3E-94A3-57B6ED150EA5}"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dragsdeskundig en dierenarts Ian Dunbar heeft 8 criteria voor straf ontworpen. Dit doet hij om duidelijk te maken dat heel veel ‘straf’ handelingen die mensen op hun hond toepassen helemaal geen straf zijn in de beleving van de hond omdát het op de onjuiste manier wordt toegepast. Het is dus zeer onplezierig voor de hond én het levert niks op, de hond leert er niks van. </a:t>
            </a:r>
            <a:endParaRPr b="0" lang="en-US" sz="1200" spc="-1" strike="noStrike">
              <a:solidFill>
                <a:srgbClr val="000000"/>
              </a:solidFill>
              <a:latin typeface="Calibri"/>
            </a:endParaRPr>
          </a:p>
        </p:txBody>
      </p:sp>
      <p:sp>
        <p:nvSpPr>
          <p:cNvPr id="4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CDE6-7772-4B2F-939D-3E554521D49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ciale structuur binnen een groep ontstaat op basis van leerervarin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2063-4C0D-479C-84E3-30E2D143CD8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redenen: optie 1: hond ligt en eigenaar zet de hond van de bank. Reactie hond  en eigenaar reageert. Optie 2: Eigenaar loopt naar de bank en hond wordt met harde hand van de bank gehaald. De volgende keer reageert hij al direct met grommen, want de eigenaar vind de bank een belangrijk resou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FCA0-B44B-4868-8CBF-44BF7E5E875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minantie gaat over hiërarchie en gaat dus over sociale structuur </a:t>
            </a:r>
            <a:r>
              <a:rPr b="0" lang="nl-NL" sz="1200" spc="-1" strike="noStrike">
                <a:solidFill>
                  <a:srgbClr val="000000"/>
                </a:solidFill>
                <a:latin typeface="Wingdings"/>
                <a:ea typeface="Wingdings"/>
              </a:rPr>
              <a:t></a:t>
            </a:r>
            <a:r>
              <a:rPr b="0" lang="nl-NL" sz="1200" spc="-1" strike="noStrike">
                <a:solidFill>
                  <a:srgbClr val="000000"/>
                </a:solidFill>
                <a:latin typeface="Calibri"/>
              </a:rPr>
              <a:t> sociale structuur is dus altijd in een groep.</a:t>
            </a:r>
            <a:endParaRPr b="0" lang="en-US" sz="1200" spc="-1" strike="noStrike">
              <a:solidFill>
                <a:srgbClr val="000000"/>
              </a:solidFill>
              <a:latin typeface="Calibri"/>
            </a:endParaRPr>
          </a:p>
        </p:txBody>
      </p:sp>
      <p:sp>
        <p:nvSpPr>
          <p:cNvPr id="4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DE5F-EE9A-47E1-A7EE-1DD540A967A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bekende honden: NIET CORIGEREN! Maar verander de emotie van de hond t.o.v. de andere hond! De Sociale band ontbreekt met de onbekende mens of ho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Resources </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Imponeergedrag en onzekerheid</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Actie </a:t>
            </a:r>
            <a:r>
              <a:rPr b="0" lang="nl-NL" sz="2900" spc="-1" strike="noStrike">
                <a:solidFill>
                  <a:srgbClr val="000000"/>
                </a:solidFill>
                <a:latin typeface="Wingdings"/>
                <a:ea typeface="Wingdings"/>
              </a:rPr>
              <a:t></a:t>
            </a:r>
            <a:r>
              <a:rPr b="0" lang="nl-NL" sz="2900" spc="-1" strike="noStrike">
                <a:solidFill>
                  <a:srgbClr val="000000"/>
                </a:solidFill>
                <a:latin typeface="Calibri"/>
              </a:rPr>
              <a:t> </a:t>
            </a:r>
            <a:r>
              <a:rPr b="0" lang="nl-NL" sz="2900" spc="-1" strike="noStrike">
                <a:solidFill>
                  <a:srgbClr val="000000"/>
                </a:solidFill>
                <a:latin typeface="Wingdings"/>
                <a:ea typeface="Wingdings"/>
              </a:rPr>
              <a:t></a:t>
            </a:r>
            <a:r>
              <a:rPr b="0" lang="nl-NL" sz="2900" spc="-1" strike="noStrike">
                <a:solidFill>
                  <a:srgbClr val="000000"/>
                </a:solidFill>
                <a:latin typeface="Calibri"/>
              </a:rPr>
              <a:t> reactie </a:t>
            </a:r>
            <a:endParaRPr b="0" lang="en-US" sz="2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B992-ED4F-4918-948A-AECE5FEACA6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1992-9D63-46B3-A4C6-ECD7995ADF8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03C4-E3C9-4B69-A15E-D8DFB08221E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opvoeding en training van honden is er vroeger veel gebaseerd op het feit dat honden van wolven afstammen en dat is dus weer de basis van de dominantie-theorie. </a:t>
            </a:r>
            <a:endParaRPr b="0" lang="en-US" sz="1200" spc="-1" strike="noStrike">
              <a:solidFill>
                <a:srgbClr val="000000"/>
              </a:solidFill>
              <a:latin typeface="Calibri"/>
            </a:endParaRPr>
          </a:p>
        </p:txBody>
      </p:sp>
      <p:sp>
        <p:nvSpPr>
          <p:cNvPr id="3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5C41-E7B4-4DC4-9D04-201FEE8EAC1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zijn: fysiek geweld, maar door het altijd willen ‘domineren’ van de eigenaar ook psychisch voor de hond. </a:t>
            </a:r>
            <a:br>
              <a:rPr sz="1200"/>
            </a:br>
            <a:r>
              <a:rPr b="0" lang="nl-NL" sz="1200" spc="-1" strike="noStrike">
                <a:solidFill>
                  <a:srgbClr val="000000"/>
                </a:solidFill>
                <a:latin typeface="Calibri"/>
              </a:rPr>
              <a:t>Onderzoek stamt uit 19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nd is niet hetzelfde als de wolf zoals wij deze nu kennen</a:t>
            </a:r>
            <a:endParaRPr b="0" lang="en-US" sz="1200" spc="-1" strike="noStrike">
              <a:solidFill>
                <a:srgbClr val="000000"/>
              </a:solidFill>
              <a:latin typeface="Calibri"/>
            </a:endParaRPr>
          </a:p>
        </p:txBody>
      </p:sp>
      <p:sp>
        <p:nvSpPr>
          <p:cNvPr id="3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3A6B-DF7F-4E58-8249-05F14D6B4A5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21E7-2669-44AE-9D62-29FC4C7BCCE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esources: dingen die voor een hond belangrijk zij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hond is dus NIET bezig om de ‘alpha’ rol te pakken. Honden zetten enkel agressie in om hun resources, niet om hogerop te komen. Dit kan verschillen van moment tot moment en is niet vast staand. Afhankelijk van eerdere leerervaringen en wat de ander al dan niet belangrijk vindt.</a:t>
            </a:r>
            <a:endParaRPr b="0" lang="en-US" sz="1200" spc="-1" strike="noStrike">
              <a:solidFill>
                <a:srgbClr val="000000"/>
              </a:solidFill>
              <a:latin typeface="Calibri"/>
            </a:endParaRPr>
          </a:p>
        </p:txBody>
      </p:sp>
      <p:sp>
        <p:nvSpPr>
          <p:cNvPr id="3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650A-79EE-48B0-BB97-4D4C924DC29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eedback kan zowel positief als negatief. Daar leert de hond van (Denk aan de leerprinci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wilt graag een vertrouwensband onderling; dit krijg je niet door je hond positieve correcties toe te dienen (fysieke straf d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6B39-7029-42E9-98F9-7C0E8D6ADA2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dat er gesproken is over corrigeren deze dia 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correctie is in de opvoeding echt noodzakelijk. Je hond moet namelijk leren wat zijn gedrag tot gevolg heeft zodra hij een (bedachte) regel overtreed. Het verschil zit hem in de wijze van corrig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beloning niet gev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ets leuks weg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 de situatie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ysiek geweld toedienen = correctie</a:t>
            </a:r>
            <a:endParaRPr b="0" lang="en-US" sz="1200" spc="-1" strike="noStrike">
              <a:solidFill>
                <a:srgbClr val="000000"/>
              </a:solidFill>
              <a:latin typeface="Calibri"/>
            </a:endParaRPr>
          </a:p>
        </p:txBody>
      </p:sp>
      <p:sp>
        <p:nvSpPr>
          <p:cNvPr id="3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E748-8829-450E-AD52-49D8AFC5930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20C5A-3D56-4535-9896-15E7B4AE7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3A594-582E-4B4D-B35A-EAC8D67E7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BB550-96E7-432F-92F1-4994F2A20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7ED0B-B5FF-4DEA-9747-A254C42E9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87362-D159-4EB3-8EDD-AF0E5079C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D5566-2837-4D89-88A2-6406A3063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D0B3F-C670-4D80-8491-E224BB349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9C022-B914-4BD1-BFD4-CD1A696AC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DE5A6-6C24-46C6-8DC0-73FD7C033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E2B23-802F-45D4-A869-32BE491F3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A2FEC-2A4E-4989-98BF-80AFB2B7F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EEB48-938A-41BC-94F1-540953DE2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DC2F5-068A-4DCB-883E-EDB4F3E5D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26541-8118-4660-B864-4ACD777D5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1986B-F259-49CA-94D5-2004E6612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E7D22-0A7E-476B-8722-0DC8FA897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85B10-7E1C-4188-90D2-3933DD66E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3BA03CC-62CF-44A4-B101-788A2531D3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2E99B4-42D0-47A5-BED2-ABE3DFF34E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AD91802-DA31-4292-8DE7-AF7B2EFC7F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2499B5-3A2A-4900-9B74-780B30B961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F23B9F2-D2EC-4FE6-B489-D494F7FF3E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F7E83-8E25-4512-AA07-8470D3028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63FE92C-B507-4B01-A09F-C51375357E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3CFAEB-1ABE-4612-8526-D71A162A2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0C9F70-D80D-47D7-9D4A-4D8DE3985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3BD5A6-5A0A-4AA1-B052-7C053A392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A0E57E-4E13-4629-A0DB-E722D096F9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BA8A74B-CCCC-40F2-8446-E646F26872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9D84750-096B-4BA7-B568-F867FD8651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E8A071-42C4-46EB-B12C-859998B189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1A6B7C-FC98-40EE-AFE5-674BF4F093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328B03-AF5F-4D07-B4D5-20867F4BED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CFB08-B261-4148-B298-82EC23EA5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750F8F-8FF5-457A-BE45-780F31829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64A5E1-9CD8-4D7A-A72D-0A157A3C42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F1CF3-FE10-427A-AC9C-4D39848D9E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C0C0A-FA8B-44F6-94C6-EE57FF492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1FD48C-B81A-41EA-B8E9-A752B504A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D388B-8823-4681-9877-871418F1C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1636A1-7853-4427-9C49-DB5B0013FE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6BA362-41AD-462A-853E-6265947043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6B105F-814A-4A32-BDC5-AEA091F95E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9044D-D25D-468D-A833-BAB6C49AD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04823-FC5B-4848-AFCA-4F9203F59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ACEC6-D4AC-4C20-B698-BAB889C15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FEFD6-E601-4706-85FE-BEC10F1F5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511AF-2D7A-4E74-87BE-6E45F1C31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F72D-D9A7-4481-BD92-BF3C77F6B709}"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efefe"/>
                </a:solidFill>
                <a:latin typeface="Century Gothic"/>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94c6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C764-E8F3-43ED-A116-A74FD7B262E5}" type="slidenum">
              <a:rPr b="0" lang="nl-NL" sz="1200" spc="-1" strike="noStrike">
                <a:solidFill>
                  <a:srgbClr val="94c6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440" cy="7117200"/>
            <a:chOff x="-645120" y="0"/>
            <a:chExt cx="10459440" cy="711720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CF61-8AB9-4A04-A99C-E07A65AD5049}"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440" cy="7117200"/>
            <a:chOff x="-645120" y="0"/>
            <a:chExt cx="10459440" cy="711720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4554-4681-4582-A85A-B6DE8B0CDA73}"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94c600"/>
                </a:solidFill>
                <a:latin typeface="Century Gothic"/>
              </a:rPr>
              <a:t>Dominantie theorie</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24242"/>
                </a:solidFill>
                <a:latin typeface="Century Gothic"/>
              </a:rPr>
              <a:t>Onderdeel gedrag Hond</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egels om te straffen</a:t>
            </a:r>
            <a:endParaRPr b="0" lang="en-US" sz="4000" spc="-1" strike="noStrike">
              <a:solidFill>
                <a:srgbClr val="94c600"/>
              </a:solidFill>
              <a:latin typeface="Century Gothic"/>
            </a:endParaRPr>
          </a:p>
        </p:txBody>
      </p:sp>
      <p:sp>
        <p:nvSpPr>
          <p:cNvPr id="362" name=""/>
          <p:cNvSpPr txBox="1"/>
          <p:nvPr/>
        </p:nvSpPr>
        <p:spPr>
          <a:xfrm>
            <a:off x="1042560" y="2324160"/>
            <a:ext cx="7201080" cy="3913200"/>
          </a:xfrm>
          <a:prstGeom prst="rect">
            <a:avLst/>
          </a:prstGeom>
          <a:noFill/>
          <a:ln w="0">
            <a:noFill/>
          </a:ln>
        </p:spPr>
        <p:txBody>
          <a:bodyPr anchor="t">
            <a:normAutofit/>
          </a:bodyPr>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Het moet werken en het ongewenste gedrag moet dus afnem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meteen én op het juist moment worden toegepast. Timing is dus cruciaal!</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het ongewenste gedrag belemmer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passend zijn voor het ‘vergrijp’</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ook te horen krijgen wat hij dan wél moet do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worden gewaarschuwd voor de straf (anders kans op learned helplessness = aangeleerde hulpeloosheid: het verschijnsel waarbij een mens of dier geleerd heeft dat hij geen invloed kan uitoefenen op de gebeurtenissen die hem overkomen.) </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het ongewenste gedrag herkennen en niet het goede gedrag bestraff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100% consequent zij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6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Gedrag van de hond t.o.v. groepsleden hangt niet af van ‘dominantie’ maar va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latie met groepsled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sources en het belang daarv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Motivatie om resource te houden / krijg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rervaring t.o.v. gedrag groepsleden</a:t>
            </a:r>
            <a:endParaRPr b="0" lang="en-US" sz="22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oorbeeld </a:t>
            </a:r>
            <a:endParaRPr b="0" lang="en-US" sz="4000" spc="-1" strike="noStrike">
              <a:solidFill>
                <a:srgbClr val="94c600"/>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b: Hond die op de bank ligt</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ank </a:t>
            </a:r>
            <a:r>
              <a:rPr b="0" lang="nl-NL" sz="2200" spc="-1" strike="noStrike">
                <a:solidFill>
                  <a:srgbClr val="3e3d2d"/>
                </a:solidFill>
                <a:latin typeface="Century Gothic"/>
              </a:rPr>
              <a:t>	</a:t>
            </a:r>
            <a:r>
              <a:rPr b="0" lang="nl-NL" sz="2200" spc="-1" strike="noStrike">
                <a:solidFill>
                  <a:srgbClr val="3e3d2d"/>
                </a:solidFill>
                <a:latin typeface="Century Gothic"/>
              </a:rPr>
              <a:t>= Resource</a:t>
            </a:r>
            <a:br>
              <a:rPr sz="2200"/>
            </a:b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geeft prettig gevoel</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leer op én vd bank als iets leuks!</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Gromt hond op de bank?</a:t>
            </a:r>
            <a:br>
              <a:rPr sz="2200"/>
            </a:br>
            <a:r>
              <a:rPr b="0" lang="nl-NL" sz="2200" spc="-1" strike="noStrike">
                <a:solidFill>
                  <a:srgbClr val="3e3d2d"/>
                </a:solidFill>
                <a:latin typeface="Century Gothic"/>
              </a:rPr>
              <a:t>1: hoe staat het met de sociale band?</a:t>
            </a:r>
            <a:br>
              <a:rPr sz="2200"/>
            </a:br>
            <a:r>
              <a:rPr b="0" lang="nl-NL" sz="2200" spc="-1" strike="noStrike">
                <a:solidFill>
                  <a:srgbClr val="3e3d2d"/>
                </a:solidFill>
                <a:latin typeface="Century Gothic"/>
              </a:rPr>
              <a:t>2: Wat heeft hond geleerd over de resource vd eigenaar bij die bank?</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uiten de groep</a:t>
            </a:r>
            <a:endParaRPr b="0" lang="en-US" sz="4000" spc="-1" strike="noStrike">
              <a:solidFill>
                <a:srgbClr val="94c600"/>
              </a:solidFill>
              <a:latin typeface="Century Gothic"/>
            </a:endParaRPr>
          </a:p>
        </p:txBody>
      </p:sp>
      <p:sp>
        <p:nvSpPr>
          <p:cNvPr id="36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hiërarch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sociale structuur</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Een hond die buiten de groep ‘dominant’ is, kan zelfs volgens de oude dominantie theorie niet!</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a:t>
            </a:r>
            <a:endParaRPr b="0" lang="en-US" sz="4000" spc="-1" strike="noStrike">
              <a:solidFill>
                <a:srgbClr val="94c600"/>
              </a:solidFill>
              <a:latin typeface="Century Gothic"/>
            </a:endParaRPr>
          </a:p>
        </p:txBody>
      </p:sp>
      <p:sp>
        <p:nvSpPr>
          <p:cNvPr id="370" name=""/>
          <p:cNvSpPr txBox="1"/>
          <p:nvPr/>
        </p:nvSpPr>
        <p:spPr>
          <a:xfrm>
            <a:off x="1042920" y="2323800"/>
            <a:ext cx="7129440" cy="4057560"/>
          </a:xfrm>
          <a:prstGeom prst="rect">
            <a:avLst/>
          </a:prstGeom>
          <a:noFill/>
          <a:ln w="0">
            <a:noFill/>
          </a:ln>
        </p:spPr>
        <p:txBody>
          <a:bodyPr anchor="t">
            <a:normAutofit/>
          </a:bodyPr>
          <a:p>
            <a:pPr marL="343080" indent="-2732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drag van de hond buiten de groep heeft vaak te maken met:</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Onbekende honden:</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remming door sociale band</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kennis over wat ander belangrijk vindt</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aat vaak over resource:</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Veilighei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Plek / geur</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ndere hon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andacht </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zegt dus iets over de </a:t>
            </a:r>
            <a:r>
              <a:rPr b="0" i="1" lang="nl-NL" sz="2400" spc="-1" strike="noStrike">
                <a:solidFill>
                  <a:srgbClr val="3e3d2d"/>
                </a:solidFill>
                <a:latin typeface="Century Gothic"/>
              </a:rPr>
              <a:t>relatie</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tussen twee individuen. Degene dit de meeste conflicten over resources wint is dominant over het andere individu.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Een ‘dominante hond’ bestaat dus niet</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Wat dan wel?</a:t>
            </a:r>
            <a:endParaRPr b="0" lang="en-US" sz="4000" spc="-1" strike="noStrike">
              <a:solidFill>
                <a:srgbClr val="94c600"/>
              </a:solidFill>
              <a:latin typeface="Century Gothic"/>
            </a:endParaRPr>
          </a:p>
        </p:txBody>
      </p:sp>
      <p:sp>
        <p:nvSpPr>
          <p:cNvPr id="374" name=""/>
          <p:cNvSpPr txBox="1"/>
          <p:nvPr/>
        </p:nvSpPr>
        <p:spPr>
          <a:xfrm>
            <a:off x="1042560" y="2323800"/>
            <a:ext cx="6777000" cy="3508200"/>
          </a:xfrm>
          <a:prstGeom prst="rect">
            <a:avLst/>
          </a:prstGeom>
          <a:noFill/>
          <a:ln w="0">
            <a:noFill/>
          </a:ln>
        </p:spPr>
        <p:txBody>
          <a:bodyPr anchor="t">
            <a:normAutofit/>
          </a:bodyPr>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 willen zijn, maar meer als leider.</a:t>
            </a: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egeleiden in de opvoeding en grenzen aangeven/afbakene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ronnen </a:t>
            </a:r>
            <a:endParaRPr b="0" lang="en-US" sz="4000" spc="-1" strike="noStrike">
              <a:solidFill>
                <a:srgbClr val="94c600"/>
              </a:solidFill>
              <a:latin typeface="Century Gothic"/>
            </a:endParaRPr>
          </a:p>
        </p:txBody>
      </p:sp>
      <p:sp>
        <p:nvSpPr>
          <p:cNvPr id="37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Dit is de hond’</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Een hondenleven lang</a:t>
            </a:r>
            <a:br>
              <a:rPr sz="2200"/>
            </a:br>
            <a:r>
              <a:rPr b="0" lang="nl-NL" sz="2200" spc="-1" strike="noStrike">
                <a:solidFill>
                  <a:srgbClr val="3e3d2d"/>
                </a:solidFill>
                <a:latin typeface="Century Gothic"/>
              </a:rPr>
              <a:t>fysiek en mentaal in balans.’ (reeks)</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Artikel van Apdt.ben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Site: doggo.nl</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Diverse gevolgde lezingen </a:t>
            </a:r>
            <a:br>
              <a:rPr sz="2200"/>
            </a:br>
            <a:r>
              <a:rPr b="0" lang="nl-NL" sz="2200" spc="-1" strike="noStrike">
                <a:solidFill>
                  <a:srgbClr val="3e3d2d"/>
                </a:solidFill>
                <a:latin typeface="Century Gothic"/>
              </a:rPr>
              <a:t>door vooraanstaande gedrags-</a:t>
            </a:r>
            <a:br>
              <a:rPr sz="2200"/>
            </a:br>
            <a:r>
              <a:rPr b="0" lang="nl-NL" sz="2200" spc="-1" strike="noStrike">
                <a:solidFill>
                  <a:srgbClr val="3e3d2d"/>
                </a:solidFill>
                <a:latin typeface="Century Gothic"/>
              </a:rPr>
              <a:t>deskundigen</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s deze bronnen </a:t>
            </a:r>
            <a:br>
              <a:rPr sz="2200"/>
            </a:br>
            <a:r>
              <a:rPr b="0" lang="nl-NL" sz="2200" spc="-1" strike="noStrike">
                <a:solidFill>
                  <a:srgbClr val="3e3d2d"/>
                </a:solidFill>
                <a:latin typeface="Century Gothic"/>
              </a:rPr>
              <a:t>voor verdieping! </a:t>
            </a:r>
            <a:endParaRPr b="0" lang="en-US" sz="2200" spc="-1" strike="noStrike">
              <a:solidFill>
                <a:srgbClr val="3e3d2d"/>
              </a:solidFill>
              <a:latin typeface="Century Gothic"/>
            </a:endParaRPr>
          </a:p>
        </p:txBody>
      </p:sp>
      <p:pic>
        <p:nvPicPr>
          <p:cNvPr id="377" name="Picture 2" descr="Afbeeldingsresultaat voor bewustzijn hond"/>
          <p:cNvPicPr/>
          <p:nvPr/>
        </p:nvPicPr>
        <p:blipFill>
          <a:blip r:embed="rId1"/>
          <a:stretch/>
        </p:blipFill>
        <p:spPr>
          <a:xfrm>
            <a:off x="6300720" y="0"/>
            <a:ext cx="2457360" cy="3743280"/>
          </a:xfrm>
          <a:prstGeom prst="rect">
            <a:avLst/>
          </a:prstGeom>
          <a:ln w="0">
            <a:noFill/>
          </a:ln>
        </p:spPr>
      </p:pic>
      <p:pic>
        <p:nvPicPr>
          <p:cNvPr id="378" name="Picture 2" descr="Afbeeldingsresultaat voor een hondenleven lang fysiek en mentaal in balans"/>
          <p:cNvPicPr/>
          <p:nvPr/>
        </p:nvPicPr>
        <p:blipFill>
          <a:blip r:embed="rId2"/>
          <a:stretch/>
        </p:blipFill>
        <p:spPr>
          <a:xfrm>
            <a:off x="6372360" y="3710160"/>
            <a:ext cx="237168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ragen </a:t>
            </a:r>
            <a:endParaRPr b="0" lang="en-US" sz="4000" spc="-1" strike="noStrike">
              <a:solidFill>
                <a:srgbClr val="94c600"/>
              </a:solidFill>
              <a:latin typeface="Century Gothic"/>
            </a:endParaRPr>
          </a:p>
        </p:txBody>
      </p:sp>
      <p:sp>
        <p:nvSpPr>
          <p:cNvPr id="38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81" name="Picture 2" descr="Afbeeldingsresultaat voor geen antwoord"/>
          <p:cNvPicPr/>
          <p:nvPr/>
        </p:nvPicPr>
        <p:blipFill>
          <a:blip r:embed="rId1"/>
          <a:stretch/>
        </p:blipFill>
        <p:spPr>
          <a:xfrm>
            <a:off x="2340000" y="2205000"/>
            <a:ext cx="5570640" cy="41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a:t>
            </a:r>
            <a:r>
              <a:rPr b="0" lang="nl-NL" sz="4000" spc="-1" strike="noStrike">
                <a:solidFill>
                  <a:srgbClr val="94c600"/>
                </a:solidFill>
                <a:latin typeface="Century Gothic"/>
              </a:rPr>
              <a:t>Dominant’</a:t>
            </a:r>
            <a:endParaRPr b="0" lang="en-US" sz="40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atijnse </a:t>
            </a:r>
            <a:r>
              <a:rPr b="0" i="1" lang="nl-NL" sz="2400" spc="-1" strike="noStrike">
                <a:solidFill>
                  <a:srgbClr val="3e3d2d"/>
                </a:solidFill>
                <a:latin typeface="Century Gothic"/>
              </a:rPr>
              <a:t>Dominare</a:t>
            </a:r>
            <a:r>
              <a:rPr b="0" lang="nl-NL" sz="2400" spc="-1" strike="noStrike">
                <a:solidFill>
                  <a:srgbClr val="3e3d2d"/>
                </a:solidFill>
                <a:latin typeface="Century Gothic"/>
              </a:rPr>
              <a:t>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over)heersen, de baas zij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arop is de dominantie theorie zo populair; men wil de </a:t>
            </a:r>
            <a:r>
              <a:rPr b="0" i="1" lang="nl-NL" sz="2400" spc="-1" strike="noStrike">
                <a:solidFill>
                  <a:srgbClr val="3e3d2d"/>
                </a:solidFill>
                <a:latin typeface="Century Gothic"/>
              </a:rPr>
              <a:t>roedelleider</a:t>
            </a:r>
            <a:r>
              <a:rPr b="0" lang="nl-NL" sz="2400" spc="-1" strike="noStrike">
                <a:solidFill>
                  <a:srgbClr val="3e3d2d"/>
                </a:solidFill>
                <a:latin typeface="Century Gothic"/>
              </a:rPr>
              <a:t> of </a:t>
            </a:r>
            <a:r>
              <a:rPr b="0" i="1" lang="nl-NL" sz="2400" spc="-1" strike="noStrike">
                <a:solidFill>
                  <a:srgbClr val="3e3d2d"/>
                </a:solidFill>
                <a:latin typeface="Century Gothic"/>
              </a:rPr>
              <a:t>alpha</a:t>
            </a:r>
            <a:r>
              <a:rPr b="0" lang="nl-NL" sz="2400" spc="-1" strike="noStrike">
                <a:solidFill>
                  <a:srgbClr val="3e3d2d"/>
                </a:solidFill>
                <a:latin typeface="Century Gothic"/>
              </a:rPr>
              <a:t> zijn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theorie </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chterhaald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rie redene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zijn van de hon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nderzoek blijkt verkeerd opgezet en geïnterpreteer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orsprong van de hond</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nderzoek  </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Schenkel onderzocht in 1947 wolven gedrag in de dierentuin van Basel.</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vid Mech nam dit in eerste instantie over maar eind jaren ‘90 kwam hij met nieuwe inzichten </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Verklaring David Mech</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ude vs nieuwe inzichten</a:t>
            </a:r>
            <a:endParaRPr b="0" lang="en-US" sz="4000" spc="-1" strike="noStrike">
              <a:solidFill>
                <a:srgbClr val="94c600"/>
              </a:solidFill>
              <a:latin typeface="Century Gothic"/>
            </a:endParaRPr>
          </a:p>
        </p:txBody>
      </p:sp>
      <p:sp>
        <p:nvSpPr>
          <p:cNvPr id="351"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ineaire hiërarchi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lpha reu</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eel conflicten onderling</a:t>
            </a:r>
            <a:endParaRPr b="0" lang="en-US" sz="2400" spc="-1" strike="noStrike">
              <a:solidFill>
                <a:srgbClr val="3e3d2d"/>
              </a:solidFill>
              <a:latin typeface="Century Gothic"/>
            </a:endParaRPr>
          </a:p>
        </p:txBody>
      </p:sp>
      <p:sp>
        <p:nvSpPr>
          <p:cNvPr id="352" name=""/>
          <p:cNvSpPr txBox="1"/>
          <p:nvPr/>
        </p:nvSpPr>
        <p:spPr>
          <a:xfrm>
            <a:off x="4645080" y="2313000"/>
            <a:ext cx="3419280" cy="349416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Familie groep</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Hierarchie, maar niet op basis van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Weinig fysieke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ong volwassenen (pubers) verlaten de groep</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Wolven vechten om ‘resources’, niet om hogerop te komen!!!</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Resources:</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Speeltje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igplaats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eiligheid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oedsel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ust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4">
                                            <p:txEl>
                                              <p:pRg st="3" end="3"/>
                                            </p:txEl>
                                          </p:spTgt>
                                        </p:tgtEl>
                                        <p:attrNameLst>
                                          <p:attrName>style.visibility</p:attrName>
                                        </p:attrNameLst>
                                      </p:cBhvr>
                                      <p:to>
                                        <p:strVal val="visible"/>
                                      </p:to>
                                    </p:set>
                                    <p:anim calcmode="lin" valueType="num">
                                      <p:cBhvr additive="base">
                                        <p:cTn id="7"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4">
                                            <p:txEl>
                                              <p:pRg st="4" end="4"/>
                                            </p:txEl>
                                          </p:spTgt>
                                        </p:tgtEl>
                                        <p:attrNameLst>
                                          <p:attrName>style.visibility</p:attrName>
                                        </p:attrNameLst>
                                      </p:cBhvr>
                                      <p:to>
                                        <p:strVal val="visible"/>
                                      </p:to>
                                    </p:set>
                                    <p:anim calcmode="lin" valueType="num">
                                      <p:cBhvr additive="base">
                                        <p:cTn id="13"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54">
                                            <p:txEl>
                                              <p:pRg st="5" end="5"/>
                                            </p:txEl>
                                          </p:spTgt>
                                        </p:tgtEl>
                                        <p:attrNameLst>
                                          <p:attrName>style.visibility</p:attrName>
                                        </p:attrNameLst>
                                      </p:cBhvr>
                                      <p:to>
                                        <p:strVal val="visible"/>
                                      </p:to>
                                    </p:set>
                                    <p:anim calcmode="lin" valueType="num">
                                      <p:cBhvr additive="base">
                                        <p:cTn id="19"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54">
                                            <p:txEl>
                                              <p:pRg st="6" end="6"/>
                                            </p:txEl>
                                          </p:spTgt>
                                        </p:tgtEl>
                                        <p:attrNameLst>
                                          <p:attrName>style.visibility</p:attrName>
                                        </p:attrNameLst>
                                      </p:cBhvr>
                                      <p:to>
                                        <p:strVal val="visible"/>
                                      </p:to>
                                    </p:set>
                                    <p:anim calcmode="lin" valueType="num">
                                      <p:cBhvr additive="base">
                                        <p:cTn id="2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4">
                                            <p:txEl>
                                              <p:pRg st="7" end="7"/>
                                            </p:txEl>
                                          </p:spTgt>
                                        </p:tgtEl>
                                        <p:attrNameLst>
                                          <p:attrName>style.visibility</p:attrName>
                                        </p:attrNameLst>
                                      </p:cBhvr>
                                      <p:to>
                                        <p:strVal val="visible"/>
                                      </p:to>
                                    </p:set>
                                    <p:anim calcmode="lin" valueType="num">
                                      <p:cBhvr additive="base">
                                        <p:cTn id="31" dur="500" fill="hold"/>
                                        <p:tgtEl>
                                          <p:spTgt spid="354">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5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ol als eigenaar</a:t>
            </a:r>
            <a:endParaRPr b="0" lang="en-US" sz="4000" spc="-1" strike="noStrike">
              <a:solidFill>
                <a:srgbClr val="94c600"/>
              </a:solidFill>
              <a:latin typeface="Century Gothic"/>
            </a:endParaRPr>
          </a:p>
        </p:txBody>
      </p:sp>
      <p:sp>
        <p:nvSpPr>
          <p:cNvPr id="35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e bent een ‘begeleid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 structuur en duidelijkhei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gels en omgangsregels </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Jouw feedback op gedrag vd hond bepaalt zijn gedrag op de langere termijn</a:t>
            </a:r>
            <a:r>
              <a:rPr b="0" lang="nl-NL" sz="2200" spc="-1" strike="noStrike">
                <a:solidFill>
                  <a:srgbClr val="3e3d2d"/>
                </a:solidFill>
                <a:latin typeface="Wingdings"/>
                <a:ea typeface="Wingdings"/>
              </a:rPr>
              <a:t></a:t>
            </a:r>
            <a:r>
              <a:rPr b="0" lang="nl-NL" sz="2200" spc="-1" strike="noStrike">
                <a:solidFill>
                  <a:srgbClr val="3e3d2d"/>
                </a:solidFill>
                <a:latin typeface="Century Gothic"/>
              </a:rPr>
              <a:t> leerervaring</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Afbeeldingsresultaat voor verschil baas en leider"/>
          <p:cNvPicPr/>
          <p:nvPr/>
        </p:nvPicPr>
        <p:blipFill>
          <a:blip r:embed="rId1"/>
          <a:srcRect l="0" t="0" r="0" b="13533"/>
          <a:stretch/>
        </p:blipFill>
        <p:spPr>
          <a:xfrm>
            <a:off x="684360" y="692280"/>
            <a:ext cx="6946920" cy="576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Corrigeren </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r moeten regels aangeleerd worden.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Na dat ongewenst gedrag is </a:t>
            </a:r>
            <a:r>
              <a:rPr b="0" i="1" lang="nl-NL" sz="1500" spc="-1" strike="noStrike">
                <a:solidFill>
                  <a:srgbClr val="3e3d2d"/>
                </a:solidFill>
                <a:latin typeface="Century Gothic"/>
              </a:rPr>
              <a:t>afgebroken</a:t>
            </a:r>
            <a:r>
              <a:rPr b="0" lang="nl-NL" sz="1500" spc="-1" strike="noStrike">
                <a:solidFill>
                  <a:srgbClr val="3e3d2d"/>
                </a:solidFill>
                <a:latin typeface="Century Gothic"/>
              </a:rPr>
              <a:t>, geef je duidelijk aan wat gewenst gedrag is.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mdat er gesproken is over corrigeren deze dia sheet.</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correctie is in de opvoeding echt noodzakelijk. Je hond moet namelijk leren wat zijn gedrag tot gevolg heeft zodra hij een (bedachte) regel overtreed. Het verschil zit hem in de wijze van corriger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beloning niet gev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Iets leuks weg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Uit de situatie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Fysiek geweld toedien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p de volgende sheet de criteria waaraan een correctie dient te voldo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p:txBody>
      </p:sp>
      <p:sp>
        <p:nvSpPr>
          <p:cNvPr id="360" name="AutoShape 1"/>
          <p:cNvSpPr/>
          <p:nvPr/>
        </p:nvSpPr>
        <p:spPr>
          <a:xfrm rot="297600">
            <a:off x="5751720" y="1222920"/>
            <a:ext cx="2684520" cy="1189440"/>
          </a:xfrm>
          <a:prstGeom prst="bracePair">
            <a:avLst>
              <a:gd name="adj" fmla="val 0"/>
            </a:avLst>
          </a:prstGeom>
          <a:solidFill>
            <a:srgbClr val="eafac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mbria"/>
              </a:rPr>
              <a:t>Als een hond tegen je opspringt kan je je omdraaien en de hond negeren. Maar de hond leert hier niks van. Je kunt beter een hond die op wil springen </a:t>
            </a:r>
            <a:r>
              <a:rPr b="1" i="1" lang="nl-NL" sz="1200" spc="-1" strike="noStrike">
                <a:solidFill>
                  <a:srgbClr val="000000"/>
                </a:solidFill>
                <a:latin typeface="Cambria"/>
              </a:rPr>
              <a:t>direct laten zitten</a:t>
            </a:r>
            <a:r>
              <a:rPr b="0" i="1" lang="nl-NL" sz="1200" spc="-1" strike="noStrike">
                <a:solidFill>
                  <a:srgbClr val="000000"/>
                </a:solidFill>
                <a:latin typeface="Cambria"/>
              </a:rPr>
              <a:t>. Dit beloon je daarna heel go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8T13:51:18Z</dcterms:created>
  <dc:creator>Mariska Roosink</dc:creator>
  <dc:description/>
  <dc:language>en-US</dc:language>
  <cp:lastModifiedBy>Nikki Pots</cp:lastModifiedBy>
  <dcterms:modified xsi:type="dcterms:W3CDTF">2019-09-09T12:18:07Z</dcterms:modified>
  <cp:revision>67</cp:revision>
  <dc:subject/>
  <dc:title>Hond</dc:title>
</cp:coreProperties>
</file>