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662E-DCC5-437B-AFE3-D5204758B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73F6-166C-47A1-8312-F21C3A66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BED0-AC81-45A4-AA1E-62242CE6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2157-8180-4345-B0F2-6F7F10DB7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8DA3-33AA-4D0C-B703-29548810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AA70-C564-4DCD-84D3-F07C3D53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8B07-2964-4425-8C13-5E7ACF0C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A2EE-4F61-4DA3-B5AC-62C937C8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962A-4E15-4B58-BEF6-90AE845B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135C-E494-4239-95DC-85009FC2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8EC8-CB65-4E9F-89C2-0EC8D99F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2840-B97E-42C7-B435-31DD7E9D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DEA2-D5A4-4902-9797-41B04010B30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Zomereik_met_meeldauw_(Quercus_robur_with_Microsphaera_alphitoides)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iekten en Pl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Diaspis_bromeliae_kl"/>
          <p:cNvPicPr/>
          <p:nvPr/>
        </p:nvPicPr>
        <p:blipFill>
          <a:blip r:embed="rId1"/>
          <a:stretch/>
        </p:blipFill>
        <p:spPr>
          <a:xfrm>
            <a:off x="5148360" y="2421000"/>
            <a:ext cx="2085840" cy="1644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Bestrijdingsmiddelen"/>
          <p:cNvPicPr/>
          <p:nvPr/>
        </p:nvPicPr>
        <p:blipFill>
          <a:blip r:embed="rId2"/>
          <a:stretch/>
        </p:blipFill>
        <p:spPr>
          <a:xfrm>
            <a:off x="611280" y="306864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Plannococcus_citri_kl"/>
          <p:cNvPicPr/>
          <p:nvPr/>
        </p:nvPicPr>
        <p:blipFill>
          <a:blip r:embed="rId3"/>
          <a:stretch/>
        </p:blipFill>
        <p:spPr>
          <a:xfrm>
            <a:off x="5148360" y="3860640"/>
            <a:ext cx="252072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p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aan de onderkant van het blad waardoor gele vlekken en gele bladeren ontst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groei wordt tegengegaan waardoor de plant dood kan g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spint"/>
          <p:cNvPicPr/>
          <p:nvPr/>
        </p:nvPicPr>
        <p:blipFill>
          <a:blip r:embed="rId1"/>
          <a:stretch/>
        </p:blipFill>
        <p:spPr>
          <a:xfrm>
            <a:off x="4932360" y="3789360"/>
            <a:ext cx="3114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ad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and: Lieveheersbees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merken: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Bladeren worden glimmend en plakkerig (honingdauw)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Planten verwelk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Er zijn verkleuringen of vervormingen te zien aan de bla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m1gy6qmw6bpl"/>
          <p:cNvPicPr/>
          <p:nvPr/>
        </p:nvPicPr>
        <p:blipFill>
          <a:blip r:embed="rId1"/>
          <a:stretch/>
        </p:blipFill>
        <p:spPr>
          <a:xfrm>
            <a:off x="5940360" y="549360"/>
            <a:ext cx="25434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ild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iverminder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het blad lee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orming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iden geen honingdauw 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Pinnaspis_aspiditrae_kl"/>
          <p:cNvPicPr/>
          <p:nvPr/>
        </p:nvPicPr>
        <p:blipFill>
          <a:blip r:embed="rId1"/>
          <a:stretch/>
        </p:blipFill>
        <p:spPr>
          <a:xfrm>
            <a:off x="6300720" y="765000"/>
            <a:ext cx="22320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ol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het blad leeg, hopen zich op tussen de stengel en blader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ormingen, bruine plekk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iden honingdauw 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and: roofkever, sluipw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Plannococcus_citri_kl"/>
          <p:cNvPicPr/>
          <p:nvPr/>
        </p:nvPicPr>
        <p:blipFill>
          <a:blip r:embed="rId1"/>
          <a:stretch/>
        </p:blipFill>
        <p:spPr>
          <a:xfrm>
            <a:off x="6227640" y="4149720"/>
            <a:ext cx="252108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Vli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iden veel honingdauw af waar roetdauw schimmels op groei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de sappen uit de plant waardoor vervormingen en groeivermindering optreed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ggen eieren onder de blade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RTEmagicC_25897caed7"/>
          <p:cNvPicPr/>
          <p:nvPr/>
        </p:nvPicPr>
        <p:blipFill>
          <a:blip r:embed="rId1"/>
          <a:stretch/>
        </p:blipFill>
        <p:spPr>
          <a:xfrm>
            <a:off x="6877080" y="333360"/>
            <a:ext cx="857160" cy="771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ThumbWittevlieg2170x1701305357630"/>
          <p:cNvPicPr/>
          <p:nvPr/>
        </p:nvPicPr>
        <p:blipFill>
          <a:blip r:embed="rId2"/>
          <a:stretch/>
        </p:blipFill>
        <p:spPr>
          <a:xfrm>
            <a:off x="6877080" y="472428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o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mmelziekte (fuchsia, gerani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ordt verspreidt door w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te zomers, broeier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nr51roest"/>
          <p:cNvPicPr/>
          <p:nvPr/>
        </p:nvPicPr>
        <p:blipFill>
          <a:blip r:embed="rId1"/>
          <a:stretch/>
        </p:blipFill>
        <p:spPr>
          <a:xfrm>
            <a:off x="6448320" y="2060640"/>
            <a:ext cx="2695680" cy="1790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roestbladkl"/>
          <p:cNvPicPr/>
          <p:nvPr/>
        </p:nvPicPr>
        <p:blipFill>
          <a:blip r:embed="rId2"/>
          <a:stretch/>
        </p:blipFill>
        <p:spPr>
          <a:xfrm>
            <a:off x="4643280" y="4292640"/>
            <a:ext cx="194472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elda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mmelaant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chtige omge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50px-Zomereik_met_meeldauw_%28Quercus_robur_with_Microsphaera_alphitoides%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1773360"/>
            <a:ext cx="29574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op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blads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ilijk te bestrijden door hun d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ullen de cellen met giftig speek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dopluisblad%20"/>
          <p:cNvPicPr/>
          <p:nvPr/>
        </p:nvPicPr>
        <p:blipFill>
          <a:blip r:embed="rId1"/>
          <a:stretch/>
        </p:blipFill>
        <p:spPr>
          <a:xfrm>
            <a:off x="5508720" y="37893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Dopluizen-2"/>
          <p:cNvPicPr/>
          <p:nvPr/>
        </p:nvPicPr>
        <p:blipFill>
          <a:blip r:embed="rId2"/>
          <a:stretch/>
        </p:blipFill>
        <p:spPr>
          <a:xfrm>
            <a:off x="826920" y="3429000"/>
            <a:ext cx="26197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t aan de bovenkant van het blad de cellen leeg waardoor er zilverachtige vlekken ontsta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bladeren verdro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Nd9GcRCMYAbIEdBnQoMjOQRLuHQ936_oKIcdVP_nEkIuFJNkXnlxkqAc-YuR6s2cA"/>
          <p:cNvPicPr/>
          <p:nvPr/>
        </p:nvPicPr>
        <p:blipFill>
          <a:blip r:embed="rId1"/>
          <a:stretch/>
        </p:blipFill>
        <p:spPr>
          <a:xfrm>
            <a:off x="5867280" y="4149720"/>
            <a:ext cx="20289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18:29:23Z</dcterms:created>
  <dc:creator>Regien</dc:creator>
  <dc:description/>
  <dc:language>en-US</dc:language>
  <cp:lastModifiedBy>admin</cp:lastModifiedBy>
  <dcterms:modified xsi:type="dcterms:W3CDTF">2018-10-27T12:02:39Z</dcterms:modified>
  <cp:revision>2</cp:revision>
  <dc:subject/>
  <dc:title>Ziekten en Plagen</dc:title>
</cp:coreProperties>
</file>