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957-68F7-4B9F-B8AA-A0280A31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B5E-C48D-484C-A33E-579A991B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B12-DCBD-448E-AEC7-AFCF01A1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552-F162-43D4-8F73-72B5D4BD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6A28-E344-4C2F-AF61-873B1191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32A-C2EF-4E5E-8E73-CD2122D9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F94-BE55-47BD-AFB9-10D8C03F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702-EB15-482C-8AF7-C8E909C1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759-068E-490F-A8A5-2FECD78C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7EF-A56D-4A1B-AF40-6D0DE408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8AB-3B3E-4BA1-AAC4-01CF35CD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BE5-BE9A-47A2-AFBC-8496592A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3D1D-9921-413B-9889-8382B44C12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Diaspis_bromeliae_kl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estrijdingsmiddelen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lannococcus_citri_kl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pint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1gy6qmw6bpl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innaspis_aspiditrae_kl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lannococcus_citri_kl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RTEmagicC_25897caed7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umbWittevlieg2170x1701305357630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nr51roest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roestbladkl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50px-Zomereik_met_meeldauw_%28Quercus_robur_with_Microsphaera_alphitoides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pluisblad%20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Dopluizen-2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d9GcRCMYAbIEdBnQoMjOQRLuHQ936_oKIcdVP_nEkIuFJNkXnlxkqAc-YuR6s2cA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admin</cp:lastModifiedBy>
  <dcterms:modified xsi:type="dcterms:W3CDTF">2018-10-27T12:02:39Z</dcterms:modified>
  <cp:revision>2</cp:revision>
  <dc:subject/>
  <dc:title>Ziekten en Plagen</dc:title>
</cp:coreProperties>
</file>