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ED7-6CFA-4122-910F-9C649EAA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239-D10E-4244-AFE2-C85E5D5E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19D-A473-4349-8008-0F2F5B0A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64E-B526-44D7-B0F5-F86D3779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5567-5A97-4F6E-B4F6-C9445475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EBF1-F22F-42ED-8501-EF8EFA60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6B1A-B673-4A70-8E21-35990E77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7DA3-49C0-49F2-85D8-1C7A85C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9C26-CD65-4013-BEBB-79F0D505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7601-EF9A-46F2-A6F9-AB1F7D38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EA76-B13A-413C-AF9B-6032C1E4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9E5-4FCF-4664-A2C4-8A3D7B6E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7A85-12DA-4E1F-BD25-99D4DE9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D503-3410-48A5-A33A-01FFDC8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CA3B-CB59-4B97-8213-225D3926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F4DC-05C8-47C7-AB64-456687E7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CED2-B3ED-428C-A917-9BFCD57C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2043-FD19-4DE1-A1A3-5F3D74B2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52F2-3287-4274-BA89-26A38E1F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CD4A-33A0-42B7-A527-B09C3370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F57F-0870-4470-A109-8F644FAE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BA30-D561-490D-9933-17A7E798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660-8E4E-4587-8687-A98AD39F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FEB7-1D87-44E4-A833-29CC3120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E3D5-81BE-4644-8B5B-9617C3D1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3182-16FD-4591-A163-516B885B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0A1A-A2C2-4055-86B4-6ACB3B92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7A2E-BDC9-47A2-A140-538C5C46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65AED-1256-4B91-A803-F23CC3AF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FFAE-D685-4FB8-922F-5931DF34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544D-B767-4C89-8CE0-4E9404F9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2C2CD-2AA6-42C6-863B-0E7C8235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16A61-4B32-4844-ABA8-363039C0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605-B677-4C00-8294-A4D0DD39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F7917-1F8D-4908-8D92-DD1A04F4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7C8FF-1963-41D9-9754-7C745410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BD74F-0EC3-4312-B649-B0475E51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E151-63EF-44B5-A78E-1701C041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5AB45-50BA-4092-A274-023B5026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59CC-E058-4D9C-83AD-9085712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3FEE-58C5-4B43-94DA-5A5083F7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B800-9085-4D4D-94B8-FB2B718E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8F81-69DC-4BBB-B359-232905FA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7AB-3167-4412-A7B7-C91898BF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121-D61C-468D-946B-3387B6E3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2FA-4833-4FD4-B9EB-F811FB8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055-E7AB-42CA-8475-6879C8A1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6A4-87BF-434E-8554-FE28710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22AC3-8F81-44FB-A4B4-92002408B85A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200FC-FE4A-4E90-831B-54E92B32AA72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D2108-10F3-4C89-B9C6-BECC90E0A20B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29313-E3B2-4442-AD7E-7B80BEB00631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Sn4qGSUtVI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ekFJ5F29X9Y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Wat wil je bereiken met droogstand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Na droogstand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Hoge melkproducti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Weinig problem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nel weer drachtig word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Droogstand hierin cruciaal  !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Veel problemen vinden oorzaak in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droog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90c226"/>
                </a:solidFill>
                <a:latin typeface="Trebuchet MS"/>
              </a:rPr>
              <a:t>Wageningen:</a:t>
            </a:r>
            <a:br>
              <a:rPr sz="2200"/>
            </a:br>
            <a:r>
              <a:rPr b="0" lang="nl-NL" sz="2200" spc="-1" strike="noStrike">
                <a:solidFill>
                  <a:srgbClr val="90c226"/>
                </a:solidFill>
                <a:latin typeface="Trebuchet MS"/>
              </a:rPr>
              <a:t>Gemakkelijker afkalven, minder ketose, eerder tochtig, verhoogde activiteit: een fittere koe !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Close up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1267920"/>
            <a:ext cx="6348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Close up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eropname komt onder druk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Energieconcentratie opvoer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Droogstands mineralen onontbeerlijk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Tegen afkalven worden alle vet oplosbare vitamines die in de lever zijn opgeslagen in de biest ‘gedumpt’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ers gras kan nie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veel kalium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hoog in OEB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veel voederwaarde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ldoende magnesium in rantso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orkom teveel natriu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ldoende zetmeel nodig voor ontwikkeling penspapill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De laatste 14 dagen voor afkalven krachtvoer bijgev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oerbehoefte stijgt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oeropname daalt met +/-30%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929960"/>
            <a:ext cx="6348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 of 2 groepen droge koeien 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2 groepen blijft gangbaa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edingstechnisch correc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Nadeel is meer stress, doet dikwijls het voordeel te nie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Zet de dieren in eerste maand in Far-off groep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Dieren laatste 3 weken in Close-up groep evt strohok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Bij 1 gro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Zet de dieren in 1 groep met een correct rantsoen (dichtbij Far-off rantsoen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Minder stres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Arbeids technisch makkelijk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Beschikking over krachtvoerautomaat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14 dagen voor afkalven beginnen met 1 kg krachtvo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Opbouwen naar 2,5 tot 3 k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0,2-0,3 kg per dag stijgen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ing droogst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Far of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750 VEM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125-130 g re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Close u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850 VEM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145-150 g re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Vuistregel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 1/3 snijmais + 1/3 gehakseld stro + 1/3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oge graskuil + minera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eral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Voldoen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M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weinig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Ca en K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extra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vit D3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anionische zou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est moet op eerste dag  &lt; 10 kg blijven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ing droogst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Kation – anio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 veel positieve ionen (K+, Na+ Ca2+) geven een hoge pH in het blo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+ zorgt voor rem op productie vit D3 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( D3 werkt tegen kalfziekte en is 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positief op immuunsysteem, injectie geven)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+ remt opname M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el negatieve ionen (Cl- en S2-) geven een lagere pH in het bloe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Ca komt beter beschikb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beeld: pH urine vlak voor afkal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&gt; 7,5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eer kans op kalf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&lt; 6,5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inder kans op kalf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Arial"/>
                <a:ea typeface="Arial"/>
              </a:rPr>
              <a:t>Voedermiddelen Ca gehal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schikt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On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nijmais (1,5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rs gras (5,6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bieten (1,5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laver (10,6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ard.appel vezels (1,4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uzerne (14,9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CCM (0,1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aap (7,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roge bietenpulp (0,8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ietenperspulp (9,2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e geschikte voedermiddelen hebben allen een hoge energie inhoud, dus voor Far Off minder geschi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Arial"/>
                <a:ea typeface="Arial"/>
              </a:rPr>
              <a:t>Voedermiddelen K gehal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Ongeschikt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Vers 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Beheer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uilgras (najaar)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Natuur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laver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Bierbost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Luzerne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Snijmai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Aardappelproduct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Soya schroo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Arial"/>
                <a:ea typeface="Arial"/>
              </a:rPr>
              <a:t>Opstarte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1341360"/>
            <a:ext cx="6348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Trebuchet MS"/>
              </a:rPr>
              <a:t>Met afkalven grote veranderingen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3x glucose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2x aminozuren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5x vluchtige vetzuren behoeft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(propionzuur, boterzuur, azijnzuur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4x Ca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Verse koei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Krachtvoer niet te snel opbouw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Max gift niet voor 14 dagen in lactatie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Ideaal op 21 dag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orkom hier overbezettin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Aparte groep maken, zonder overbezettin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tro hok:  opstart voor koe  ideaal, maar voor boer minder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tress +  observeren + snel reager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Opstarte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Monitoren cruciaa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Temperatuur met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Conditiescor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Ketose met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Baarmoeder controler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Trebuchet MS"/>
              </a:rPr>
              <a:t>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liercellen in uier kunnen  zich herstellen en zich beginnen te vermeerder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Bij te korte droogstand te weinig herst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Pens, lever, nieren worden ontlas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Droogstand is het begin van de volgende lactati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Na afkalven dagelijks temperaturen geeft veel informatie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61840" y="2160720"/>
            <a:ext cx="584388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2600" y="23760"/>
            <a:ext cx="9017280" cy="569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Ketose sticks: op een simpele manier meten van Slepende Melkziekte. Urine of (beter) bloed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95240" y="2160720"/>
            <a:ext cx="597708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670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rebuchet MS"/>
              </a:rPr>
              <a:t>Opdr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Maak een Far-off rantsoen en een Close-up rantso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Maak gebruik van onderstaande voedermidd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Berekenen ook de Ca en K gehalten in de rantsoenen, en check of ze kloppen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4" name="Afbeelding 3" descr=""/>
          <p:cNvPicPr/>
          <p:nvPr/>
        </p:nvPicPr>
        <p:blipFill>
          <a:blip r:embed="rId1"/>
          <a:stretch/>
        </p:blipFill>
        <p:spPr>
          <a:xfrm>
            <a:off x="0" y="24764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480" y="2160360"/>
            <a:ext cx="6986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engte droogstan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45 – 56 dagen droogstand nastrev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062720" indent="-212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Controleer gemiddelde draagtijd van de dieren (BWB gebruik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Te kort: onvoldoende vervanging van oude cellen in de ui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Te lang: grotere kans op vervett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Langere droogstand (8 weken) wanneer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Celgetal chronisch te hoog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behandelen met langwerkende antibiotica (wachttij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Eerste kalfskoeien met BCS &lt; 3 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meer tijd om te groei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Droogstand is geen  goede periode om BCS te corriger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Gebruik droogstand nooit om BCS omlaag te krijgen !!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vragen om problemen rondom afkalv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2160360"/>
            <a:ext cx="6986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lgemeen:  zorg voor zo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in mogelijk str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tress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= veel staan, weinig liggen en te weinig/te haastig vre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meer klauw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rplaatsen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van dieren: 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zo min mogelijk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oit alleen, maar als gro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oorschuiven heeft voorke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eropnamecapaciteit VOC in kg ds per da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Afbeelding 3" descr=""/>
          <p:cNvPicPr/>
          <p:nvPr/>
        </p:nvPicPr>
        <p:blipFill>
          <a:blip r:embed="rId1"/>
          <a:stretch/>
        </p:blipFill>
        <p:spPr>
          <a:xfrm>
            <a:off x="0" y="3335400"/>
            <a:ext cx="9144000" cy="23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opname rondom kalv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8" name="Afbeelding 3" descr=""/>
          <p:cNvPicPr/>
          <p:nvPr/>
        </p:nvPicPr>
        <p:blipFill>
          <a:blip r:embed="rId1"/>
          <a:stretch/>
        </p:blipFill>
        <p:spPr>
          <a:xfrm>
            <a:off x="0" y="1936800"/>
            <a:ext cx="799308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ooggroep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1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oogzetten? Dan melkproductie &lt; 10 kg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vt. 4-7 dagen voor droogzetdatum in aparte groep met Far-Off rantsoen, en volop vers drink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maal daags blijven mel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handelingen (bekappen, scheren, bolus, ontwormen) in een keer uit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Far- off en Close-up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480" y="1773360"/>
            <a:ext cx="6483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r-off</a:t>
            </a:r>
            <a:r>
              <a:rPr b="1" lang="nl-NL" sz="1500" spc="-1" strike="noStrike">
                <a:solidFill>
                  <a:srgbClr val="404040"/>
                </a:solidFill>
                <a:latin typeface="Trebuchet MS"/>
              </a:rPr>
              <a:t>: de eerste maand van de droogstand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1300" spc="-1" strike="noStrike">
                <a:solidFill>
                  <a:srgbClr val="404040"/>
                </a:solidFill>
                <a:latin typeface="Trebuchet MS"/>
              </a:rPr>
              <a:t>12-14 kg ds opname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Lage passagesnelheid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Pensvulling 4 a 5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BCS van 3.0 – 3.5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BCS &gt; 3,5 </a:t>
            </a:r>
            <a:r>
              <a:rPr b="0" lang="nl-NL" sz="13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 1,5 tot 2 kg ds minder opname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Conditie gelijk houd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Droogstands mineralen voer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Water royaal beschikbaar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Ruimere boxen </a:t>
            </a:r>
            <a:r>
              <a:rPr b="0" lang="nl-NL" sz="13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 comfortabel ligg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Voerhek breedte 80 cm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Rechthoek 1"/>
          <p:cNvSpPr/>
          <p:nvPr/>
        </p:nvSpPr>
        <p:spPr>
          <a:xfrm>
            <a:off x="644400" y="59342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s://www.youtube.com/watch?v=RSn4qGSUtV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Far Of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aarzen 2 maanden voor afkalven ook in deze groep (denk aan ruw eiwi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choon en droog ligbed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Zorg voor beweging! Youtube beweging droge koeien Valaco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et ophoping in de lever voorkom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Spierverzuring tegengaa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Minder ophoping van lymfevocht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/>
              </a:rPr>
              <a:t>https://www.youtube.com/watch?v=ekFJ5F29X9Y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7:10:50Z</dcterms:created>
  <dc:creator>admx</dc:creator>
  <dc:description/>
  <dc:language>en-US</dc:language>
  <cp:lastModifiedBy>Geert Willems</cp:lastModifiedBy>
  <cp:lastPrinted>2019-02-12T09:11:56Z</cp:lastPrinted>
  <dcterms:modified xsi:type="dcterms:W3CDTF">2021-03-02T18:38:20Z</dcterms:modified>
  <cp:revision>138</cp:revision>
  <dc:subject/>
  <dc:title>Melkveevoeding</dc:title>
</cp:coreProperties>
</file>