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A22-B501-45D3-AACE-EDE78507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573-02D9-4107-A2B2-733896D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FDE-F386-48A1-A92E-E808FEF0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667-7B6B-44F6-ABE5-82A784BB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47D2-FA45-4B09-A094-58D075A5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E4D8-759F-4FFF-BC50-DDB56D34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0D19-8C7C-43D8-A8D0-9442E430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869C-4B54-44C4-B0FE-AC800DC8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6EA6-450D-4993-B7A4-96E57BD1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4CAE-D943-45E9-94A3-BA724296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85BE-BBCB-46E6-BE7E-A931B80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018-535C-4F42-BAA2-7C4123C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3543-B8AD-4814-9C7F-4443BC7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C957-304D-4791-851D-3D444DD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D4BF-D646-4599-B6AB-A45F02ED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2602-CCB0-4CBF-A7C5-83E019FA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E782-5689-4EE4-BBFD-A431BF04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5CAE-1A81-43F7-BB27-24807AB7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15C8-FB5C-48E2-ADB6-A73724DC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BEE1-3030-4292-B789-B0DB4502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16E1-05B9-414B-B29B-D250E584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DE0A-932D-4054-9DE1-41ECFEE5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EBD-BD01-4D4A-8CE1-6E0B897A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D1F2-7905-4450-9F53-009E1D84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C0B4-C9E6-4B1B-9E2E-692CD02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4D27-C403-4BAE-A6B9-3FF4707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CB3B-E1BA-4C25-8D76-C3A4C01F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1E97-A59A-4208-9705-0EB505B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DD45-DD86-4946-9E95-FF59935B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D2DC-6A1D-4815-9A0D-1F8A2028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50F0-E12B-4C6D-BD30-BDC87AF6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7DFA-0340-4EF5-871C-9E9BB6DE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4708D-983C-45F2-80B5-835E1F0A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C2A-D011-4202-ADBD-200183F2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2A02-0B98-4D5E-965C-A7D9CD4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338EB-861F-48C2-95E3-A2E12538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9629-ECF3-4D12-8F84-C9CAB4DF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85BA-FBC3-4859-979C-A293D6C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7A31-21A7-4ACD-9B25-9428D31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DCCE-0D0D-43AE-9FF4-CEE27A58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2431-65CE-4C5F-B933-2E02CBD5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4F23-43F5-4798-B9B5-4B626060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B936-FD11-4C6E-B559-E77199DC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200-77F5-4FA7-8AA7-6134E0BC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4B5-EDAD-40F9-84E5-81E640D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402-478A-4CDA-BF24-EEB962B3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757-3150-4C09-B554-3FA60C5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BB9-2EBB-4C05-8D35-E79CC14A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0079B-9CAA-4A79-BB3C-7B381484F7C9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E8B74-FA62-4092-A2F3-D462780806CD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40BC2-362B-4830-94D1-29EB0DDE8DE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F63FB-AD92-4BE2-A781-2DC2B8E256D7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30360" y="1483920"/>
            <a:ext cx="634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langrijkste factor in voeding 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 van vele factoren afhanke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S% vo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emperatuur + relatieve lucht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uistregel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: per kg ds voer 4 liter water + 1 l.per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us stel: koe eet 20 kg ds en geeft 30 l melk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0 kg ds * 4 = 80 liter + 30 kg FPCM * 1 liter =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10 lit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it is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exclusie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oer 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inkwatervoorziening optimaliseren? Da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e moet 12 keer per dag kunnen drinken!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Per 20 koeien een drinkpunt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Elke 20 meter een drinkpu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Minimaal 2 drinkpunten per groep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Ruime aanvoersnelhei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vrije verstrekking kan koe 20 liter per minuut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drinkbakjes opname vaak te traa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sneldrinker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per minuut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Is de toevoer voldoende?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1557000"/>
            <a:ext cx="6348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ud water voor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Optimale temperatuur is  10̊  -  20 ̊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kou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 weinig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mperatuurschok i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water van 0 C geeft 10-15 C temperatuurdaling va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warm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acteriegroei in leiding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Vers afgekalfde  koeien standaard onbeperkt lauw water (evt drench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enchen tegen ziekt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gewicht of prod. 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wicht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(kg)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8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ink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aar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4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prod. nivea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.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g 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0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ct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7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0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5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2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 criteria voor goede waterkwalitei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make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arheid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schadelijke stoffen voor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gevaar voor voedselveil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kwalite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04840" y="1785960"/>
          <a:ext cx="8864640" cy="4110120"/>
        </p:xfrm>
        <a:graphic>
          <a:graphicData uri="http://schemas.openxmlformats.org/drawingml/2006/table">
            <a:tbl>
              <a:tblPr/>
              <a:tblGrid>
                <a:gridCol w="1660320"/>
                <a:gridCol w="4862520"/>
                <a:gridCol w="1170000"/>
                <a:gridCol w="1171800"/>
              </a:tblGrid>
              <a:tr h="262080"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ge of afwijkende waarden in het drinkwater zij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 voor het risico van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walificatie van het drink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ële verontrein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-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 of &gt;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2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H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a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ie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MnO4 ge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wezigheid van organische stoffen, ro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afzetting op leidingen, onsmakelijk, weerst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,5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 afzetting op leidingen en melkt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ting bij oppervlakte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5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uor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he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akproble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.Co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 kiemgetal bij 22̊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1412640"/>
            <a:ext cx="7921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ehouders: 75 % bronwater, 25 % leidingwater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oed schoonma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l eens aan binnenkant drinkbak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ommunicerende va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lo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poelen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einigingsmiddel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t op de kwaliteit bij verstrekken v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Hemelwater /Grondwater/Slootwater  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almonella, botulisme, paratbc, blauwal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at water onderzoek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18-02-07T11:06:42Z</dcterms:modified>
  <cp:revision>118</cp:revision>
  <dc:subject/>
  <dc:title>Landbouw in Nederland</dc:title>
</cp:coreProperties>
</file>