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B2299-A0E0-4A9E-B580-6F973F5CE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CA486-F725-446C-B4B8-56151831E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54D-8588-4437-A426-6EFFD755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AE0-009A-4FFC-B0E6-B993FEF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EF1-6366-4EF2-BB50-7E602661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B70-211F-4A01-89D6-131ECF80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9BFB-4F83-41D8-89E2-40985D37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3B9D-16AE-42F6-A6C1-9B27FE80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B0DC-C541-43C7-AAE7-189A0846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067F-99A7-4CF1-AA4D-2A4F35A9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3261-DDFD-4067-8C46-6FAF72E0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CA44-8529-4238-BE75-E90B9248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E7C3-6ED7-428D-87EF-CB49C38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6EB-D7A8-47AA-8E5D-7F21B541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CE6B-5F9B-490A-BD46-8511F1C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38A-1531-41F7-90AD-DB68455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D349-FFB2-4975-9165-91017DB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4310-F14F-47F5-9A1A-3DD8DC72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FADB-7FEA-4CFC-9387-A7CF684C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6D4F-783E-4A12-B039-AA91B55E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850A-5173-4990-A36F-1252F138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7AC8-6AFD-44B5-BA48-ABB807A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CCC0-63DE-40C5-B1FF-70FEBCD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E9F6-0607-46F8-AAF7-40FB837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A16-4B2A-4D7C-94B3-7D8F99E4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C683-D252-46E0-BA2B-DD3D0857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32FE-0738-49CA-9C70-D9883F5E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0B7A-1567-4477-B2FE-956ABB4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4B73-7176-43F8-A8D2-BB62264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DE41-762D-4CEB-BE3A-42CC480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03D4-042C-4528-B83F-9C3CCABD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982B-2192-4196-BF00-797D77D9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44D6-1BA0-4DE5-9800-654D53F0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9C11-33D8-49E5-95BA-C80BA960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92B5-5998-43B3-B3B9-91BB95E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2B1-A811-4917-B964-47FFC02D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A933-A8EA-4F4A-B691-EEDA30F9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32E9-3269-4763-BB2C-53BE7F8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8DCC-A290-4941-8389-FA4533D6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DDF5-9E54-48C2-8FD1-046986F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28E2-4F49-42C7-9BD6-05C5E25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F3DA-7699-4815-96AD-9DFC01B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2BCC-B97B-47F1-A894-FD7512FD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782A-7D94-4998-8AEB-F74AB9C0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0B3E-7903-412F-B55C-18A9295D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D92-4299-447B-AC35-ACA11F0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B88-E843-4236-9664-577D4F9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761-E173-4204-BF81-CDE9401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616-803D-40E5-AC16-611B8C6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C56-801C-4507-AD6C-B130540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B761C-6ECF-41D7-8F18-CA0EF04563AD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4CE02-0D18-4807-8500-D180BCB3C836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6E053-67EF-4259-9C47-11C60C0F6F7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95A70-AEEF-4478-A56C-C6F7C95D4D1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 en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3" name="Afbeelding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80" y="1268280"/>
            <a:ext cx="9137520" cy="5774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907640" y="1557360"/>
            <a:ext cx="6347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stem ik de voeding af op behoeft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lat- fe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Method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verstrek ik het voer aan d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apart voeren,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gemengd voeren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De goedkoopste methode van voer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1" name="Afbeelding 4" descr=""/>
          <p:cNvPicPr/>
          <p:nvPr/>
        </p:nvPicPr>
        <p:blipFill>
          <a:blip r:embed="rId2"/>
          <a:stretch/>
        </p:blipFill>
        <p:spPr>
          <a:xfrm>
            <a:off x="28440" y="3519360"/>
            <a:ext cx="4314960" cy="3324240"/>
          </a:xfrm>
          <a:prstGeom prst="rect">
            <a:avLst/>
          </a:prstGeom>
          <a:ln w="0">
            <a:noFill/>
          </a:ln>
        </p:spPr>
      </p:pic>
      <p:pic>
        <p:nvPicPr>
          <p:cNvPr id="302" name="Afbeelding 6" descr=""/>
          <p:cNvPicPr/>
          <p:nvPr/>
        </p:nvPicPr>
        <p:blipFill>
          <a:blip r:embed="rId3"/>
          <a:stretch/>
        </p:blipFill>
        <p:spPr>
          <a:xfrm>
            <a:off x="5915160" y="2548080"/>
            <a:ext cx="3247920" cy="429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Opbouw krachtvoer gift: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Geleidelijke opbouw ( vaak 21 dagen) tot maximale gift (hier 11 kg)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Deze gift volhouden tot melkproductie zakt onder gift van voertabel en dan afbouwen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5" name="Afbeelding 4" descr=""/>
          <p:cNvPicPr/>
          <p:nvPr/>
        </p:nvPicPr>
        <p:blipFill>
          <a:blip r:embed="rId2"/>
          <a:srcRect l="0" t="0" r="50202" b="0"/>
          <a:stretch/>
        </p:blipFill>
        <p:spPr>
          <a:xfrm>
            <a:off x="31680" y="1494000"/>
            <a:ext cx="828036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aarzen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Minder hoge maximale gift (hier 8 kg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8" name="Afbeelding 4" descr=""/>
          <p:cNvPicPr/>
          <p:nvPr/>
        </p:nvPicPr>
        <p:blipFill>
          <a:blip r:embed="rId2"/>
          <a:srcRect l="49965" t="4057" r="35" b="-4049"/>
          <a:stretch/>
        </p:blipFill>
        <p:spPr>
          <a:xfrm>
            <a:off x="108000" y="1284120"/>
            <a:ext cx="9036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4" descr=""/>
          <p:cNvPicPr/>
          <p:nvPr/>
        </p:nvPicPr>
        <p:blipFill>
          <a:blip r:embed="rId2"/>
          <a:stretch/>
        </p:blipFill>
        <p:spPr>
          <a:xfrm>
            <a:off x="123840" y="9360"/>
            <a:ext cx="8896320" cy="683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Geleidelijke veranderinge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4" name="Afbeelding 4" descr=""/>
          <p:cNvPicPr/>
          <p:nvPr/>
        </p:nvPicPr>
        <p:blipFill>
          <a:blip r:embed="rId2"/>
          <a:stretch/>
        </p:blipFill>
        <p:spPr>
          <a:xfrm>
            <a:off x="174600" y="1359000"/>
            <a:ext cx="8901000" cy="3022560"/>
          </a:xfrm>
          <a:prstGeom prst="rect">
            <a:avLst/>
          </a:prstGeom>
          <a:ln w="0">
            <a:noFill/>
          </a:ln>
        </p:spPr>
      </p:pic>
      <p:pic>
        <p:nvPicPr>
          <p:cNvPr id="315" name="Afbeelding 6" descr=""/>
          <p:cNvPicPr/>
          <p:nvPr/>
        </p:nvPicPr>
        <p:blipFill>
          <a:blip r:embed="rId3"/>
          <a:stretch/>
        </p:blipFill>
        <p:spPr>
          <a:xfrm>
            <a:off x="82440" y="4243320"/>
            <a:ext cx="90615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Krachtvoergift 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700280"/>
            <a:ext cx="813924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andmat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melkcontrole alle individuele giften aanpassen aan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lkhoeveel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utomat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ynamisch voer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baseerd op melkgift en krachtvoergift van vorige d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p basis van krachtvoerprijs en verwachte melkgift wordt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achtvoergift dagelijks berekend en bijgest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der werk, nauwkeuriger, bespar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Kies uit onderstaande begrippen/systemen er 1 ui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Zoek op wat dit inhoud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Bedenk 3 vragen bij dit systeem/begrip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empen voer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pac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ly Vec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iomati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480"/>
            <a:ext cx="9137520" cy="6735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-&gt;  Flat Feedin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MR = Total Mixed R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le koeien over langere tijd een en hetzelfde rantso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uwvoer en krachtvoer (-achtigen) gemen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houd rantsoen afstemmen op gemiddelde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electie op voeropname van individuele koe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lepende melkziekte en vervetting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aken van groepen en energie- en eiwit dichtheid hier op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9712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0800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Groepen maken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e groter het bedrijf, des te gemakkelijke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isselen van groep = stress en kost vaak melk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Groepen en melken kost veel extra werk: cow –traffic optimalis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achttijd tijdens (evt. 3 x daags) melken 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elke groepen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afkalv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opstart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o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laa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vaarz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elgetal/ antibiotica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far of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jongvee 3 groep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07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edere koe als individu op maa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asisrantsoen aan voerhek (ruwvoer; bijproduct, krachtvoer; al dan niet gemeng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dividueel krachtvoer op maat verstrekken met krachtvoerbox, robot of melkst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835200"/>
            <a:ext cx="9123480" cy="6003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thode afhankelijk v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rootte bedrij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al i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lk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re arb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inanciële ruim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920" y="-1713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76720" y="2708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meng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Laagsgewij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Voorraad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Zelf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34920" y="4320"/>
            <a:ext cx="63486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1" name="Afbeelding 1" descr=""/>
          <p:cNvPicPr/>
          <p:nvPr/>
        </p:nvPicPr>
        <p:blipFill>
          <a:blip r:embed="rId1">
            <a:lum bright="70000" contrast="-70000"/>
          </a:blip>
          <a:srcRect l="45278" t="0" r="0" b="25555"/>
          <a:stretch/>
        </p:blipFill>
        <p:spPr>
          <a:xfrm>
            <a:off x="0" y="1514520"/>
            <a:ext cx="9144000" cy="5729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94920" y="188640"/>
            <a:ext cx="76136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meng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 ba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uilvoersnij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empen 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Afbeelding 1" descr=""/>
          <p:cNvPicPr/>
          <p:nvPr/>
        </p:nvPicPr>
        <p:blipFill>
          <a:blip r:embed="rId1"/>
          <a:stretch/>
        </p:blipFill>
        <p:spPr>
          <a:xfrm>
            <a:off x="0" y="1158840"/>
            <a:ext cx="9137520" cy="5699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619280" y="2276280"/>
            <a:ext cx="709128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edere machine kost geld 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Jaarkosten (9+ 2,5 + 2,5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Energiekos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rbe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raagj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drijf met jaarproductie van 1,5 miljoen liter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er investeert in een zelfrijdende voermengw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uw  160.000 euro, gebruiksduur is 10 jaar, restwaarde 20.000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gelijks 35 liter dies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aarkost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osten per liter mel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8" name="Afbeelding 4" descr=""/>
          <p:cNvPicPr/>
          <p:nvPr/>
        </p:nvPicPr>
        <p:blipFill>
          <a:blip r:embed="rId1"/>
          <a:stretch/>
        </p:blipFill>
        <p:spPr>
          <a:xfrm>
            <a:off x="3905280" y="4006800"/>
            <a:ext cx="524664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21-03-15T13:44:45Z</dcterms:modified>
  <cp:revision>138</cp:revision>
  <dc:subject/>
  <dc:title>Landbouw in Nederland</dc:title>
</cp:coreProperties>
</file>