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E4A49-D6F5-49D7-AAD3-8923F4577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EDB85-8A85-44B0-90FB-1DA56E303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E12-C3F4-497C-971A-1595D27A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1CA-0FCF-4F38-9733-8173D5DA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F38-9777-4AA8-89A3-B4DE916E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047-0A21-46F6-A587-CE1FC9AA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5C4-E0BA-4278-8B2E-9E7418F2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A4E-1D45-437C-9F79-0C3A6A2D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3E35-9CD9-47B7-B460-54046B4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AB4A-B1CA-497A-8BBD-B6432DD2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20A-CED9-4112-82CD-0CF90F39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6B32-FA2D-49A7-8197-3BEC75B3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F990-F527-4F8B-BAE6-F31EF45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426-F30F-4014-8476-81F2C2B3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5824-8D96-4891-BD4F-186892B0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B708-91EC-4708-A6E6-104CE3B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0CE-A94D-4DC0-B578-698E5846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49B8-2BC8-4D56-B34E-6A3A566C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C40-894C-46CF-88FD-4B3C1DBC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4427-47B5-4005-AEC3-2FE329E9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A689-5AFC-437C-BA8E-B4766B8D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2374-E994-48AC-A0CB-8FE2DBD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A49B-5025-4D2F-BC7C-1766ABE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0775-D20A-4F08-B058-FA77C079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725-FDA2-453C-A2F0-53F09D1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8258-D63B-47D5-A1E7-319663B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567B-879C-4380-B9CC-60A0844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6753-FDA0-4150-A3EA-D5BEF92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1D45-AD35-4FFC-99A2-DA3166A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DC9D-0BDA-4C38-A4B7-DC1B2F5A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BB25-EAB1-43AD-B7D6-520CB9F4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5C65-BD67-4426-B32A-3AE8C5D3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91DA-B78C-46F2-B0B2-7E4982AF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5CB5-7D9E-4B1D-8A59-A040C06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2FFA-29E3-4B99-B046-9E854D1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895-E0A4-4F94-BA3A-8FDD4A47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3CC5-5198-4B60-A3F0-F09C27B9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6A68-22CB-49F1-A555-DB4580B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B315-15E3-4A32-8F6D-3B1116D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0F18-DF72-44B8-BD61-AA3C8271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F657-8722-45A6-ACAF-0C4A54F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A8ED-DF4C-4219-8CCB-E94C86B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4140-3AEB-42D7-9799-89A6A379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98FE-9266-4351-BA81-6789B13D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C71C-B4FC-48D2-8985-E8512E3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FBD-A204-4BC1-9EC4-5A82F97A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B46-6376-4859-A537-CCBC6DA7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2C4-AFD7-449D-AC33-39048C0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03D-AA5C-460A-B276-433C3C5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627-8EA2-40E0-A2E4-7E1F348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1B8D7-A5F9-431F-B331-EFDAF8985A8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2D1FD-F24A-482C-BBF3-8141FA82C4B4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DB058-27F8-4F29-832E-081EF67A59D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E803E-3801-4604-8FF1-616966C5355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 en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3" name="Afbeelding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80" y="1268280"/>
            <a:ext cx="9137520" cy="5774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907640" y="1557360"/>
            <a:ext cx="6347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stem ik de voeding af op behoeft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lat- fe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Method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verstrek ik het voer aan d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apart voeren,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gemengd voeren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De goedkoopste methode van voer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1" name="Afbeelding 4" descr=""/>
          <p:cNvPicPr/>
          <p:nvPr/>
        </p:nvPicPr>
        <p:blipFill>
          <a:blip r:embed="rId2"/>
          <a:stretch/>
        </p:blipFill>
        <p:spPr>
          <a:xfrm>
            <a:off x="28440" y="3519360"/>
            <a:ext cx="4314960" cy="3324240"/>
          </a:xfrm>
          <a:prstGeom prst="rect">
            <a:avLst/>
          </a:prstGeom>
          <a:ln w="0">
            <a:noFill/>
          </a:ln>
        </p:spPr>
      </p:pic>
      <p:pic>
        <p:nvPicPr>
          <p:cNvPr id="302" name="Afbeelding 6" descr=""/>
          <p:cNvPicPr/>
          <p:nvPr/>
        </p:nvPicPr>
        <p:blipFill>
          <a:blip r:embed="rId3"/>
          <a:stretch/>
        </p:blipFill>
        <p:spPr>
          <a:xfrm>
            <a:off x="5915160" y="2548080"/>
            <a:ext cx="3247920" cy="429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Opbouw krachtvoer gift: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Geleidelijke opbouw ( vaak 21 dagen) tot maximale gift (hier 11 kg)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Deze gift volhouden tot melkproductie zakt onder gift van voertabel en dan afbouwen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5" name="Afbeelding 4" descr=""/>
          <p:cNvPicPr/>
          <p:nvPr/>
        </p:nvPicPr>
        <p:blipFill>
          <a:blip r:embed="rId2"/>
          <a:srcRect l="0" t="0" r="50202" b="0"/>
          <a:stretch/>
        </p:blipFill>
        <p:spPr>
          <a:xfrm>
            <a:off x="31680" y="1494000"/>
            <a:ext cx="828036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aarzen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Minder hoge maximale gift (hier 8 kg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8" name="Afbeelding 4" descr=""/>
          <p:cNvPicPr/>
          <p:nvPr/>
        </p:nvPicPr>
        <p:blipFill>
          <a:blip r:embed="rId2"/>
          <a:srcRect l="49965" t="4057" r="35" b="-4049"/>
          <a:stretch/>
        </p:blipFill>
        <p:spPr>
          <a:xfrm>
            <a:off x="108000" y="1284120"/>
            <a:ext cx="9036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4" descr=""/>
          <p:cNvPicPr/>
          <p:nvPr/>
        </p:nvPicPr>
        <p:blipFill>
          <a:blip r:embed="rId2"/>
          <a:stretch/>
        </p:blipFill>
        <p:spPr>
          <a:xfrm>
            <a:off x="123840" y="9360"/>
            <a:ext cx="8896320" cy="683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Geleidelijke veranderinge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4" name="Afbeelding 4" descr=""/>
          <p:cNvPicPr/>
          <p:nvPr/>
        </p:nvPicPr>
        <p:blipFill>
          <a:blip r:embed="rId2"/>
          <a:stretch/>
        </p:blipFill>
        <p:spPr>
          <a:xfrm>
            <a:off x="174600" y="1359000"/>
            <a:ext cx="8901000" cy="3022560"/>
          </a:xfrm>
          <a:prstGeom prst="rect">
            <a:avLst/>
          </a:prstGeom>
          <a:ln w="0">
            <a:noFill/>
          </a:ln>
        </p:spPr>
      </p:pic>
      <p:pic>
        <p:nvPicPr>
          <p:cNvPr id="315" name="Afbeelding 6" descr=""/>
          <p:cNvPicPr/>
          <p:nvPr/>
        </p:nvPicPr>
        <p:blipFill>
          <a:blip r:embed="rId3"/>
          <a:stretch/>
        </p:blipFill>
        <p:spPr>
          <a:xfrm>
            <a:off x="82440" y="4243320"/>
            <a:ext cx="90615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Krachtvoergift 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700280"/>
            <a:ext cx="813924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andmat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melkcontrole alle individuele giften aanpassen aan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lkhoeveel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utomat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ynamisch voer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baseerd op melkgift en krachtvoergift van vorige d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p basis van krachtvoerprijs en verwachte melkgift wordt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achtvoergift dagelijks berekend en bijgest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der werk, nauwkeuriger, bespar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Kies uit onderstaande begrippen/systemen er 1 ui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Zoek op wat dit inhoud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Bedenk 3 vragen bij dit systeem/begrip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empen voer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pac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ly Vec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iomati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480"/>
            <a:ext cx="9137520" cy="6735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-&gt;  Flat Feedin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MR = Total Mixed R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le koeien over langere tijd een en hetzelfde rantso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uwvoer en krachtvoer (-achtigen) gemen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houd rantsoen afstemmen op gemiddelde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electie op voeropname van individuele koe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lepende melkziekte en vervetting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aken van groepen en energie- en eiwit dichtheid hier op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9712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0800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Groepen maken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e groter het bedrijf, des te gemakkelijke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isselen van groep = stress en kost vaak melk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Groepen en melken kost veel extra werk: cow –traffic optimalis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achttijd tijdens (evt. 3 x daags) melken 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elke groepen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afkalv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opstart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o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laa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vaarz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elgetal/ antibiotica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far of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jongvee 3 groep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07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edere koe als individu op maa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asisrantsoen aan voerhek (ruwvoer; bijproduct, krachtvoer; al dan niet gemeng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dividueel krachtvoer op maat verstrekken met krachtvoerbox, robot of melkst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835200"/>
            <a:ext cx="9123480" cy="6003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thode afhankelijk v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rootte bedrij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al i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lk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re arb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inanciële ruim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920" y="-1713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76720" y="2708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meng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Laagsgewij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Voorraad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Zelf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34920" y="4320"/>
            <a:ext cx="63486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1" name="Afbeelding 1" descr=""/>
          <p:cNvPicPr/>
          <p:nvPr/>
        </p:nvPicPr>
        <p:blipFill>
          <a:blip r:embed="rId1">
            <a:lum bright="70000" contrast="-70000"/>
          </a:blip>
          <a:srcRect l="45278" t="0" r="0" b="25555"/>
          <a:stretch/>
        </p:blipFill>
        <p:spPr>
          <a:xfrm>
            <a:off x="0" y="1514520"/>
            <a:ext cx="9144000" cy="5729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94920" y="188640"/>
            <a:ext cx="76136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meng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 ba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uilvoersnij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empen 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Afbeelding 1" descr=""/>
          <p:cNvPicPr/>
          <p:nvPr/>
        </p:nvPicPr>
        <p:blipFill>
          <a:blip r:embed="rId1"/>
          <a:stretch/>
        </p:blipFill>
        <p:spPr>
          <a:xfrm>
            <a:off x="0" y="1158840"/>
            <a:ext cx="9137520" cy="5699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619280" y="2276280"/>
            <a:ext cx="709128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edere machine kost geld 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Jaarkosten (9+ 2,5 + 2,5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Energiekos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rbe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raagj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drijf met jaarproductie van 1,5 miljoen liter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er investeert in een zelfrijdende voermengw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uw  160.000 euro, gebruiksduur is 10 jaar, restwaarde 20.000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gelijks 35 liter dies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aarkost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osten per liter mel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8" name="Afbeelding 4" descr=""/>
          <p:cNvPicPr/>
          <p:nvPr/>
        </p:nvPicPr>
        <p:blipFill>
          <a:blip r:embed="rId1"/>
          <a:stretch/>
        </p:blipFill>
        <p:spPr>
          <a:xfrm>
            <a:off x="3905280" y="4006800"/>
            <a:ext cx="524664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21-03-15T13:44:45Z</dcterms:modified>
  <cp:revision>138</cp:revision>
  <dc:subject/>
  <dc:title>Landbouw in Nederland</dc:title>
</cp:coreProperties>
</file>