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0FA-4F74-4AD9-AEE1-4493223C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200-F5F6-451D-95C9-A86405F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247-BEC0-41E6-AAC9-6683BB46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23C-8558-461A-8819-4212680E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37E9-A552-4FA4-8D4D-E918D3F7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EE68-4B3E-4B61-B728-0ECDCE8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100C-51C4-4B56-8A0C-16714672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47B-019B-4730-BB2F-5DE2065F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1BBB-FA4A-4AA1-BDDD-A376AC8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DA9C-62FC-418F-98F3-6CC1EC0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BA6-76CE-4811-9DF9-3160D2F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181-2A7B-4495-902D-CC3573B7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00E4-CAA1-4FCB-89E6-FF90842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80F1-013B-4BD2-9146-56FCE60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DE6D-4171-4616-8E54-68361FD6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71F-6111-4FB6-BE30-BB7C2760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9FD6-1B78-4DB7-AB2C-5BD32C9B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F25D-FD13-4F27-BD6E-005AA335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E23E-0521-4DFE-A50F-6877E80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6F77-DF7C-485C-B508-E673C015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5700-4D22-49C0-BB7E-F5749365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FDDC-C887-4D00-8909-36232F0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C38-164F-4410-83D7-EAA5989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8FFD-9886-4FBD-99ED-F0B11F1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3CA2-5044-4BBD-81F8-CE32AA2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6E05-0C6A-4DF3-A7E0-662AEFD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335C-6737-4374-8E90-A35F2BD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FD19-0BF7-4482-85B5-075D5C6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889E-9685-4356-BAC4-ECDEB39A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D010-E578-40F7-B85E-B0CA3775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411B-E975-40C1-A523-F0BF603F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5E6D-A7DC-49D6-BCAD-51DBB1B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4E6F-2D94-472F-AC69-686BFDE5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053-068B-4CF9-9DCC-F98FB06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FFE2-EFE3-4B35-B8F2-B256CD51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7BA6-C685-47F5-BB77-CA15487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8298-3DA1-4B42-9DAB-3109744F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4F68-568D-47A4-8559-385884C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C4EC-D407-4821-9EEE-9BDC29D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3A31-F667-4114-9066-398C30F0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7204-FAFD-49F1-B935-EC45A2D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A7DF-9CED-4D24-9886-5C76A42C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6EC2-B7B3-4844-8737-DD8828D7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C86-7C07-41A6-A746-44C0DE46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678-14E0-4019-801C-1F8EC3E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D78-2422-471E-A440-E85BD7C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27F-F43B-488D-8022-7E5619C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259-F937-4F3D-8DA6-50112A3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CE7FD-621F-45F3-B8E8-87D598C7107E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396A3-CD33-459B-981D-C7F1E8BB2B5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0421D-8857-4BC6-98F9-7F2DB73A4113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BA247-2735-4E20-AD32-F2D5B6FD6212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0360" y="1483920"/>
            <a:ext cx="63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langrijkste factor in voeding 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 van vele factoren afhanke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S% vo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emperatuur + relatieve lucht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uistregel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: per kg ds voer 4 liter water + 1 l.per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us stel: koe eet 20 kg ds en geeft 30 l melk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0 kg ds * 4 = 80 liter + 30 kg FPCM * 1 liter 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10 lit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it is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exclusie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oer 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inkwatervoorziening optimaliseren? Da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e moet 12 keer per dag kunnen drinken!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Per 20 koeien een drinkpunt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Elke 20 meter een drinkpu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Minimaal 2 drinkpunten per groep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Ruime aanvoersnelhei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vrije verstrekking kan koe 20 liter per minuut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drinkbakjes opname vaak te traa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sneldrinker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per minuut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Is de toevoer voldoende?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1557000"/>
            <a:ext cx="6348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ud water voor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Optimale temperatuur is  10̊  -  20 ̊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kou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 weinig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mperatuurschok i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water van 0 C geeft 10-15 C temperatuurdaling va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warm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acteriegroei in leiding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Vers afgekalfde  koeien standaard onbeperkt lauw water (evt drench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enchen tegen ziekt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gewicht of prod. 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wicht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(kg)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8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ink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aar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4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prod. nivea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.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g 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0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ct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7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0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5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2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 criteria voor goede waterkwalitei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make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arheid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schadelijke stoffen voor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gevaar voor voedselveil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kwalite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04840" y="1785960"/>
          <a:ext cx="8864640" cy="4110120"/>
        </p:xfrm>
        <a:graphic>
          <a:graphicData uri="http://schemas.openxmlformats.org/drawingml/2006/table">
            <a:tbl>
              <a:tblPr/>
              <a:tblGrid>
                <a:gridCol w="1660320"/>
                <a:gridCol w="4862520"/>
                <a:gridCol w="1170000"/>
                <a:gridCol w="1171800"/>
              </a:tblGrid>
              <a:tr h="262080"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ge of afwijkende waarden in het drinkwater zij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 voor het risico van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alificatie van het drink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ële verontrein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 of &gt;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2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a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e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nO4 ge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wezigheid van organische stoffen, ro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afzetting op leidingen, onsmakelijk, we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,5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 afzetting op leidingen en melkt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ting bij oppervlakte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5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uor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akproble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Co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 kiemgetal bij 22̊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412640"/>
            <a:ext cx="7921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ehouders: 75 % bronwater, 25 % leidingwater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oed schoonma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l eens aan binnenkant drinkba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ommunicerende va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lo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poelen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einigingsmiddel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t op de kwaliteit bij verstrekken v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Hemelwater /Grondwater/Slootwater  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almonella, botulisme, paratbc, blauwal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at water onderzoek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18-02-07T11:06:42Z</dcterms:modified>
  <cp:revision>118</cp:revision>
  <dc:subject/>
  <dc:title>Landbouw in Nederland</dc:title>
</cp:coreProperties>
</file>