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E78-3E8F-4510-8098-6569D996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F14-FC9D-4F82-A946-CBBE08E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05C-213D-4627-878C-B719510E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72B-F7D5-49E0-AE35-B38AE7BC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E13-031A-4E1B-AAD0-608D71AB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D654-CB71-430C-BF9A-389E669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7C1-166E-48A5-9933-4734C4F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7CE-76BE-4B79-9837-C7061A96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1B4-E91A-4451-8991-73913F2A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23B-4691-4C7C-84C6-7B6FD628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7CA8-597F-4DF9-A6E9-F1D3733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F27-C2D9-4514-888B-FA5B9AB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9A0F-A1C4-4592-A03B-7A23BC5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2D4-E8FD-433D-80BE-1A2E9DF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0188-A4ED-4060-AB45-35D4433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5EC-F421-470E-888B-8DAD02F9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8FC-AA55-4612-B6A9-1880F009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CB64-F643-4818-82B6-809B8D69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6A5A-9CBD-4DA6-85C1-D23F8FC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BC78-5B15-4EA3-B448-91C599D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8536-154A-4BEA-9287-1BD80DA9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49FA-EEA8-466A-9E22-2A823EA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EF3-08D8-461C-A258-286BD4BC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D373-7BA8-4CAC-B476-0F77AD4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51DE-5F6E-4D08-8DCF-26631C7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BD31-E657-47CD-9655-DBB761E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2139-DF0C-445E-BA61-A00BE4C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0B21-B9D0-4BBE-BF7B-3E8D9E8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D708-0518-4F3C-AEC3-9F5DE2ED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E9F7-6A95-4885-B5D5-7A4BD8DD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31D2-EDD3-44B3-9D77-D369D031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312D-8624-4D54-98D3-E9D8618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B1FC-BFC2-4143-B7C9-7E07986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A70-668A-4E50-B9CD-A8B7198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62AE-6FE1-4D53-B5E4-85A871C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5FDB-3C84-4BC2-9D28-60C7E80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749A-C54A-4A9A-8698-CD81EBB8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1796-3357-4C99-B242-12A5952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F5B6-DF57-4ABA-A4F3-037F301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A1D1-1601-4627-B519-DB6A654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FD27-D05C-4AAF-93D4-DAD44BC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124E-6EC6-4D64-A54A-8D86052E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04CF-C633-4ABC-875F-3BC90F6B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188-1AE1-4564-9A11-62583094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A53-6421-4A1B-8AFF-78231EC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3B2-DA81-4F2E-BF77-2CE2225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C39-51A7-41DF-A27B-3F8A82F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0CA-71B2-4578-BBD4-AD4D60E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F6386-432C-4D42-8574-031C4DA23FB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BF013-3AFC-48B9-AB0E-026684ED2A08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B5FA3-367A-4872-ADDA-4F48F8CD6832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0873D-E3CD-4EEE-BC10-AE116C7933D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Sn4qGSUt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kFJ5F29X9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Wat wil je bereiken met droogstan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 droogstand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Hoge melkproduct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Weinig problem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nel weer drachtig word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Droogstand hierin cruciaal  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Veel problemen vinden oorzaak in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droog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Wageningen:</a:t>
            </a:r>
            <a:br>
              <a:rPr sz="2200"/>
            </a:b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Gemakkelijker afkalven, minder ketose, eerder tochtig, verhoogde activiteit: een fittere koe !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Close 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1267920"/>
            <a:ext cx="6348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ropname komt onder dru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Energieconcentratie opvoer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roogstands mineralen onontbeerlij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Tegen afkalven worden alle vet oplosbare vitamines die in de lever zijn opgeslagen in de biest ‘gedumpt’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ers gras kan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kaliu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hoog in OEB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voederwaard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magnesium in rantso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teveel natriu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zetmeel nodig voor ontwikkeling penspapill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e laatste 14 dagen voor afkalven krachtvoer bijgev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behoefte stijg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opname daalt met +/-30%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929960"/>
            <a:ext cx="6348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 of 2 groepen droge koeien 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2 groepen blijft gangbaa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dingstechnisch correc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Nadeel is meer stress, doet dikwijls het voordeel te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eerste maand in Far-off groep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Dieren laatste 3 weken in Close-up groep evt stroho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Bij 1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1 groep met een correct rantsoen (dichtbij Far-off rantsoe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Minder stres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Arbeids technisch makkelij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Beschikking over krachtvoerautomaa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14 dagen voor afkalven beginnen met 1 kg krachtvo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Opbouwen naar 2,5 tot 3 k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0,2-0,3 kg per dag stijg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Far of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7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25-13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lose 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8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45-15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uistregel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 1/3 snijmais + 1/3 gehakseld stro + 1/3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ge graskuil + minera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eral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Voldoen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M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weinig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a en K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extra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it D3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anionische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est moet op eerste dag  &lt; 10 kg blijven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Kation – anio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 veel positieve ionen (K+, Na+ Ca2+) geven een hoge pH in het blo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zorgt voor rem op productie vit D3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( D3 werkt tegen kalfziekte en is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positief op immuunsysteem, injectie geven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remt opname M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el negatieve ionen (Cl- en S2-) geven een lagere pH in het bloe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Ca komt beter besch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beeld: pH urine vlak voor afkal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gt; 7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e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lt; 6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nd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Ca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nijmais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s gras (5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bieten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laver (10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ard.appel vezels (1,4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uzerne (14,9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CM (0,1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aap (7,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oge bietenpulp (0,8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ietenperspulp (9,2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e geschikte voedermiddelen hebben allen een hoge energie inhoud, dus voor Far Off minder geschi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K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 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ehee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uilgras (najaar)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tuu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aver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ierbost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uzerne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nijmai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Aardappelproduc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oya schro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Arial"/>
                <a:ea typeface="Arial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341360"/>
            <a:ext cx="63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Trebuchet MS"/>
              </a:rPr>
              <a:t>Met afkalven grote veranderingen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3x glucose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2x aminozuren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5x vluchtige vetzuren behoeft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(propionzuur, boterzuur, azijnzuur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4x Ca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e k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Krachtvoer niet te snel opbouw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ax gift niet voor 14 dagen in lactati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Ideaal op 21 dag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hi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Aparte groep maken, zond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o hok:  opstart voor koe  ideaal, maar voor boer min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ess +  observeren + snel reager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Monitoren crucia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Temperatuur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Conditiesco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Ketose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Baarmoeder controler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iercellen in uier kunnen  zich herstellen en zich beginnen te vermeerd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Bij te korte droogstand te weinig herst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Pens, lever, nieren worden ontlas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het begin van de volgende lactati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Na afkalven dagelijks temperaturen geeft veel informatie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61840" y="2160720"/>
            <a:ext cx="58438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600" y="23760"/>
            <a:ext cx="901728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Ketose sticks: op een simpele manier meten van Slepende Melkziekte. Urine of (beter) bloe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95240" y="2160720"/>
            <a:ext cx="59770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670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rebuchet MS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een Far-off rantsoen en een Close-up rants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gebruik van onderstaande voeder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rekenen ook de Ca en K gehalten in de rantsoenen, en check of ze kloppen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Afbeelding 3" descr=""/>
          <p:cNvPicPr/>
          <p:nvPr/>
        </p:nvPicPr>
        <p:blipFill>
          <a:blip r:embed="rId1"/>
          <a:stretch/>
        </p:blipFill>
        <p:spPr>
          <a:xfrm>
            <a:off x="0" y="24764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ngte droogstan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45 – 56 dagen droogstand nastre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062720" indent="-212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Controleer gemiddelde draagtijd van de dieren (BWB gebruik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kort: onvoldoende vervanging van oude cellen in de ui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lang: grotere kans op vervet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angere droogstand (8 weken) wanneer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elgetal chronisch te hoog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behandelen met langwerkende antibiotica (wachttij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Eerste kalfskoeien met BCS &lt; 3 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meer tijd om te gr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geen  goede periode om BCS te corri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Gebruik droogstand nooit om BCS omlaag te krijgen !!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vragen om problemen rondom afkal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gemeen:  zorg voor zo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in mogelijk str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res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= veel staan, weinig liggen en te weinig/te haastig vre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meer klauw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plaatsen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an dieren: 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zo min mogelijk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oit alleen, maar als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chuiven heeft voorke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eropnamecapaciteit VOC in kg ds per d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Afbeelding 3" descr=""/>
          <p:cNvPicPr/>
          <p:nvPr/>
        </p:nvPicPr>
        <p:blipFill>
          <a:blip r:embed="rId1"/>
          <a:stretch/>
        </p:blipFill>
        <p:spPr>
          <a:xfrm>
            <a:off x="0" y="3335400"/>
            <a:ext cx="914400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opname rondom kalv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Afbeelding 3" descr=""/>
          <p:cNvPicPr/>
          <p:nvPr/>
        </p:nvPicPr>
        <p:blipFill>
          <a:blip r:embed="rId1"/>
          <a:stretch/>
        </p:blipFill>
        <p:spPr>
          <a:xfrm>
            <a:off x="0" y="1936800"/>
            <a:ext cx="79930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ooggroep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1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ogzetten? Dan melkproductie &lt; 10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vt. 4-7 dagen voor droogzetdatum in aparte groep met Far-Off rantsoen, en volop vers drink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maal daags blijven mel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handelingen (bekappen, scheren, bolus, ontwormen) in een keer uit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- off en Close-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773360"/>
            <a:ext cx="6483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r-off</a:t>
            </a:r>
            <a:r>
              <a:rPr b="1" lang="nl-NL" sz="1500" spc="-1" strike="noStrike">
                <a:solidFill>
                  <a:srgbClr val="404040"/>
                </a:solidFill>
                <a:latin typeface="Trebuchet MS"/>
              </a:rPr>
              <a:t>: de eerste maand van de droogstand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1300" spc="-1" strike="noStrike">
                <a:solidFill>
                  <a:srgbClr val="404040"/>
                </a:solidFill>
                <a:latin typeface="Trebuchet MS"/>
              </a:rPr>
              <a:t>12-14 kg ds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Lage passagesnelheid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Pensvulling 4 a 5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van 3.0 – 3.5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&gt; 3,5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1,5 tot 2 kg ds minder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Conditie gelijk houd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Droogstands mineralen vo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Water royaal beschikbaa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Ruimere boxen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comfortabel ligg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Voerhek breedte 80 cm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Rechthoek 1"/>
          <p:cNvSpPr/>
          <p:nvPr/>
        </p:nvSpPr>
        <p:spPr>
          <a:xfrm>
            <a:off x="644400" y="59342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youtube.com/watch?v=RSn4qGSUtV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 Of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aarzen 2 maanden voor afkalven ook in deze groep (denk aan ruw eiwi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choon en droog ligbed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Zorg voor beweging! Youtube beweging droge koeien Valac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et ophoping in de lever voorkom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Spierverzuring tegengaa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inder ophoping van lymfevoch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https://www.youtube.com/watch?v=ekFJ5F29X9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10:50Z</dcterms:created>
  <dc:creator>admx</dc:creator>
  <dc:description/>
  <dc:language>en-US</dc:language>
  <cp:lastModifiedBy>Geert Willems</cp:lastModifiedBy>
  <cp:lastPrinted>2019-02-12T09:11:56Z</cp:lastPrinted>
  <dcterms:modified xsi:type="dcterms:W3CDTF">2021-03-02T18:38:20Z</dcterms:modified>
  <cp:revision>138</cp:revision>
  <dc:subject/>
  <dc:title>Melkveevoeding</dc:title>
</cp:coreProperties>
</file>