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93FB-0685-45D1-9480-E6F0BE02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B553-D0A6-49E2-BA14-C314AB48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79B4-52F3-410B-AA42-D0561730A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23F9-1404-4DE8-B4A4-2F0750A2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72DD-F67E-471B-A102-E1675B5C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C6AB-DAA4-4B04-8710-05629181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2289-54C0-434E-9A7F-0A780F8E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7CF9-4FA7-4B06-A51F-C7567604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1127-B566-4D52-8DF1-32B93B9A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0268-CDBE-4CF6-B4A5-46EF7808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E9EB-97F8-450B-AEDF-D52CF851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26FE-7769-4768-9F66-67D743C2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B679-E7CA-40EF-BEE3-D3BEC6A9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C3A1-5326-4E9D-A41A-D58DB038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65D1-2294-4CCF-9B26-325D03D2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F3F3-8AC5-4BDA-8726-5C7CB1D4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7B0D-A4CC-45B8-8E89-0A480730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CCACD-B88C-4938-BB17-7648DD2A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080BB-02A6-415B-925C-A76AFDC1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82816-8375-4C2B-8D89-4C8FB8D8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B7905-C200-4C6A-B499-6607C75C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01A1D-67D1-43FD-BADC-027B9100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1FC8-5E0E-4B13-B6E5-D303A0EB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FA151-86B8-43A4-BE75-D67B923F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B8608-7A75-4577-BC27-324A7230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7541D-B546-43AE-A178-3EAA01D1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A1EB0-FBC2-4E9A-97B2-7C89F123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ACD6F-D249-48E5-A7D7-62AA4878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FBC6A-37AF-4C9F-92A9-E4223AEC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2DBD4-0B0C-4BE8-8066-A5ECFD040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9B985-02B2-4869-8726-49F642079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23C59-C011-46BE-AA32-A321AB7F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8CDA0-16D6-4EA4-8EA2-2ED04EAB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6675-FCBD-4B9D-81B6-F0D75091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669A2-CCB9-4381-98DB-131BA965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E97A8-A081-4983-9332-9B524359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9A2B1-616D-4B21-97D1-CC58A8B9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81853-3AC2-4240-91C8-4E1C5114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9185B-A002-4749-ACBC-E4AB655E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5E773-C342-4FD9-A32A-F6DDF19A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CD9BB-F44C-4DBF-A641-20B88261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9D090-E548-4E28-8DDA-99D8F3A54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A778C-6496-4730-B3DE-C2BBE972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1255-1871-4C33-8FFA-26349024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EEB8-1D80-4224-8636-ABC7D15A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15E5-F527-4BF4-9740-4D18F06F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185D-0E78-4AA8-B2C9-91800D0E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FF1F-3B1D-4B7B-938E-A1043DC1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850983-8C7B-4451-95B3-ED74080C9E04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63" name="Afbeelding 7" descr="Powerpoint PTC blanco 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612496-0DE4-4639-A181-E1A86B6735D0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6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14F515-9E9C-4A4D-9C78-FD824C0E2A9B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6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0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66CA08-91BE-4BA5-9FA4-C93FC4B1BA16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9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0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1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2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3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24" name="Picture 2" descr="PTC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Arial"/>
              </a:rPr>
              <a:t>Bedankt voor uw aandacht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1371600" y="23623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zie voor meer informatie: www.ptcplus.c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RSn4qGSUtVI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ekFJ5F29X9Y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 u="sng">
                <a:solidFill>
                  <a:srgbClr val="90c226"/>
                </a:solidFill>
                <a:uFillTx/>
                <a:latin typeface="Arial"/>
                <a:ea typeface="Arial"/>
              </a:rPr>
              <a:t> </a:t>
            </a:r>
            <a:r>
              <a:rPr b="1" lang="nl-NL" sz="4000" spc="-1" strike="noStrike" u="sng">
                <a:solidFill>
                  <a:srgbClr val="90c226"/>
                </a:solidFill>
                <a:uFillTx/>
                <a:latin typeface="Arial"/>
                <a:ea typeface="Arial"/>
              </a:rPr>
              <a:t>Droogstand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Wat wil je bereiken met droogstand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Na droogstand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Hoge melkproductie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Weinig problemen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Snel weer drachtig worden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Droogstand hierin cruciaal  !!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  <a:ea typeface="Arial"/>
              </a:rPr>
              <a:t>Veel problemen vinden oorzaak in 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  <a:ea typeface="Arial"/>
              </a:rPr>
              <a:t>droogstand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90c226"/>
                </a:solidFill>
                <a:latin typeface="Trebuchet MS"/>
              </a:rPr>
              <a:t>Wageningen:</a:t>
            </a:r>
            <a:br>
              <a:rPr sz="2200"/>
            </a:br>
            <a:r>
              <a:rPr b="0" lang="nl-NL" sz="2200" spc="-1" strike="noStrike">
                <a:solidFill>
                  <a:srgbClr val="90c226"/>
                </a:solidFill>
                <a:latin typeface="Trebuchet MS"/>
              </a:rPr>
              <a:t>Gemakkelijker afkalven, minder ketose, eerder tochtig, verhoogde activiteit: een fittere koe !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496000" cy="424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 u="sng">
                <a:solidFill>
                  <a:srgbClr val="90c226"/>
                </a:solidFill>
                <a:uFillTx/>
                <a:latin typeface="Trebuchet MS"/>
              </a:rPr>
              <a:t>Close up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09120" y="1267920"/>
            <a:ext cx="6348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Close up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Voeropname komt onder druk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58400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Energieconcentratie opvoeren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Droogstands mineralen onontbeerlijk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Tegen afkalven worden alle vet oplosbare vitamines die in de lever zijn opgeslagen in de biest ‘gedumpt’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Vers gras kan niet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58400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Te veel kalium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58400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Te hoog in OEB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58400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Te veel voederwaarde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Voldoende magnesium in rantsoen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Voorkom teveel natrium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Voldoende zetmeel nodig voor ontwikkeling penspapillen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De laatste 14 dagen voor afkalven krachtvoer bijgeven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58400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Voerbehoefte stijgt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58400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Voeropname daalt met +/-30%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 u="sng">
                <a:solidFill>
                  <a:srgbClr val="90c226"/>
                </a:solidFill>
                <a:uFillTx/>
                <a:latin typeface="Trebuchet MS"/>
              </a:rPr>
              <a:t> </a:t>
            </a:r>
            <a:r>
              <a:rPr b="1" lang="nl-NL" sz="4000" spc="-1" strike="noStrike" u="sng">
                <a:solidFill>
                  <a:srgbClr val="90c226"/>
                </a:solidFill>
                <a:uFillTx/>
                <a:latin typeface="Trebuchet MS"/>
              </a:rPr>
              <a:t>Droogstand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94920" y="1929960"/>
            <a:ext cx="6348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 of 2 groepen droge koeien 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2 groepen blijft gangbaar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Voedingstechnisch correct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Nadeel is meer stress, doet dikwijls het voordeel te niet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Zet de dieren in eerste maand in Far-off groep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Dieren laatste 3 weken in Close-up groep evt strohok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 u="sng">
                <a:solidFill>
                  <a:srgbClr val="90c226"/>
                </a:solidFill>
                <a:uFillTx/>
                <a:latin typeface="Arial"/>
                <a:ea typeface="Arial"/>
              </a:rPr>
              <a:t>Droogstand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Bij 1 gro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Zet de dieren in 1 groep met een correct rantsoen (dichtbij Far-off rantsoen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Minder stres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Arbeids technisch makkelijker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Beschikking over krachtvoerautomaat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14 dagen voor afkalven beginnen met 1 kg krachtvoer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Opbouwen naar 2,5 tot 3 kg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(0,2-0,3 kg per dag stijgen)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oeding droogstan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09120" y="2160720"/>
            <a:ext cx="6348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Far of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rebuchet MS"/>
              </a:rPr>
              <a:t>750 VEM/kg d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rebuchet MS"/>
              </a:rPr>
              <a:t>125-130 g re/kg d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Close u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rebuchet MS"/>
              </a:rPr>
              <a:t>850 VEM/kg d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rebuchet MS"/>
              </a:rPr>
              <a:t>145-150 g re/kg d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Vuistregel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:  1/3 snijmais + 1/3 gehakseld stro + 1/3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roge graskuil + minera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neralen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Voldoende 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Mg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, weinig 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Ca en K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, extra 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vit D3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, anionische zou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iest moet op eerste dag  &lt; 10 kg blijven 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oeding droogstan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09120" y="2160720"/>
            <a:ext cx="6348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Kation – anion bala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e veel positieve ionen (K+, Na+ Ca2+) geven een hoge pH in het blo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+ zorgt voor rem op productie vit D3 </a:t>
            </a:r>
            <a:r>
              <a:rPr b="0" lang="nl-NL" sz="1200" spc="-1" strike="noStrike">
                <a:solidFill>
                  <a:srgbClr val="404040"/>
                </a:solidFill>
                <a:latin typeface="Trebuchet MS"/>
              </a:rPr>
              <a:t>( D3 werkt tegen kalfziekte en is </a:t>
            </a:r>
            <a:r>
              <a:rPr b="0" lang="nl-NL" sz="1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200" spc="-1" strike="noStrike">
                <a:solidFill>
                  <a:srgbClr val="404040"/>
                </a:solidFill>
                <a:latin typeface="Trebuchet MS"/>
              </a:rPr>
              <a:t>positief op immuunsysteem, injectie geven)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+ remt opname M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el negatieve ionen (Cl- en S2-) geven een lagere pH in het bloed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Ca komt beter beschikbaa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beeld: pH urine vlak voor afkalve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&gt; 7,5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meer kans op kalfziek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&lt; 6,5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minder kans op kalfziek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Arial"/>
                <a:ea typeface="Arial"/>
              </a:rPr>
              <a:t>Voedermiddelen Ca gehalt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Geschikt</a:t>
            </a: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Ongeschik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Snijmais (1,5)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ers gras (5,6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oederbieten (1,5)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Klaver (10,6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Aard.appel vezels (1,4)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Luzerne (14,9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CCM (0,1)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Raap (7,5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Droge bietenpulp (0,8)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Bietenperspulp (9,2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De geschikte voedermiddelen hebben allen een hoge energie inhoud, dus voor Far Off minder geschik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Arial"/>
                <a:ea typeface="Arial"/>
              </a:rPr>
              <a:t>Voedermiddelen K gehalt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Ongeschikt</a:t>
            </a: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Geschik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Vers gras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Beheergras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Kuilgras (najaar)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Natuurgras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Klaver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Bierbostel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Luzerne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Snijmai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Aardappelproducte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Soya schroot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90c226"/>
                </a:solidFill>
                <a:latin typeface="Arial"/>
                <a:ea typeface="Arial"/>
              </a:rPr>
              <a:t>Opstarten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09120" y="1341360"/>
            <a:ext cx="6348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nl-NL" sz="1600" spc="-1" strike="noStrike">
                <a:solidFill>
                  <a:srgbClr val="404040"/>
                </a:solidFill>
                <a:latin typeface="Trebuchet MS"/>
              </a:rPr>
              <a:t>Met afkalven grote veranderingen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3x glucose behoefte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2x aminozuren behoefte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5x vluchtige vetzuren behoefte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(propionzuur, boterzuur, azijnzuur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4x Ca behoefte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Verse koeie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Krachtvoer niet te snel opbouwen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Max gift niet voor 14 dagen in lactatie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Ideaal op 21 dagen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Voorkom hier overbezetting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Aparte groep maken, zonder overbezetting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Stro hok:  opstart voor koe  ideaal, maar voor boer minder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Stress +  observeren + snel reageren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 u="sng">
                <a:solidFill>
                  <a:srgbClr val="90c226"/>
                </a:solidFill>
                <a:uFillTx/>
                <a:latin typeface="Trebuchet MS"/>
              </a:rPr>
              <a:t>Opstarten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Arial"/>
                <a:ea typeface="Arial"/>
              </a:rPr>
              <a:t>Monitoren cruciaa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Arial"/>
                <a:ea typeface="Arial"/>
              </a:rPr>
              <a:t>Temperatuur meten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Arial"/>
                <a:ea typeface="Arial"/>
              </a:rPr>
              <a:t>Conditiescore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Arial"/>
                <a:ea typeface="Arial"/>
              </a:rPr>
              <a:t>Ketose meten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Arial"/>
                <a:ea typeface="Arial"/>
              </a:rPr>
              <a:t>Baarmoeder controleren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700" spc="-1" strike="noStrike">
                <a:solidFill>
                  <a:srgbClr val="404040"/>
                </a:solidFill>
                <a:latin typeface="Trebuchet MS"/>
              </a:rPr>
              <a:t>,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 u="sng">
                <a:solidFill>
                  <a:srgbClr val="90c226"/>
                </a:solidFill>
                <a:uFillTx/>
                <a:latin typeface="Arial"/>
                <a:ea typeface="Arial"/>
              </a:rPr>
              <a:t> </a:t>
            </a:r>
            <a:r>
              <a:rPr b="1" lang="nl-NL" sz="4000" spc="-1" strike="noStrike" u="sng">
                <a:solidFill>
                  <a:srgbClr val="90c226"/>
                </a:solidFill>
                <a:uFillTx/>
                <a:latin typeface="Arial"/>
                <a:ea typeface="Arial"/>
              </a:rPr>
              <a:t>Droogstand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Kliercellen in uier kunnen  zich herstellen en zich beginnen te vermeerdere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Bij te korte droogstand te weinig herst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Pens, lever, nieren worden ontlast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Droogstand is het begin van de volgende lactatie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90c226"/>
                </a:solidFill>
                <a:latin typeface="Trebuchet MS"/>
              </a:rPr>
              <a:t>Na afkalven dagelijks temperaturen geeft veel informatie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0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861840" y="2160720"/>
            <a:ext cx="5843880" cy="388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09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2600" y="23760"/>
            <a:ext cx="9017280" cy="569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90c226"/>
                </a:solidFill>
                <a:latin typeface="Trebuchet MS"/>
              </a:rPr>
              <a:t>Ketose sticks: op een simpele manier meten van Slepende Melkziekte. Urine of (beter) bloed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11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795240" y="2160720"/>
            <a:ext cx="5977080" cy="388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0560" y="609120"/>
            <a:ext cx="67071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rebuchet MS"/>
              </a:rPr>
              <a:t>Opdrach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Maak een Far-off rantsoen en een Close-up rantso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Maak gebruik van onderstaande voedermiddel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Berekenen ook de Ca en K gehalten in de rantsoenen, en check of ze kloppen</a:t>
            </a: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14" name="Afbeelding 3" descr=""/>
          <p:cNvPicPr/>
          <p:nvPr/>
        </p:nvPicPr>
        <p:blipFill>
          <a:blip r:embed="rId1"/>
          <a:stretch/>
        </p:blipFill>
        <p:spPr>
          <a:xfrm>
            <a:off x="0" y="2476440"/>
            <a:ext cx="9144000" cy="4381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4000" spc="-1" strike="noStrike" u="sng">
                <a:solidFill>
                  <a:srgbClr val="90c226"/>
                </a:solidFill>
                <a:uFillTx/>
                <a:latin typeface="Arial"/>
                <a:ea typeface="Arial"/>
              </a:rPr>
              <a:t>Droogstand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09480" y="2160360"/>
            <a:ext cx="6986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Lengte droogstand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690840" indent="-2656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45 – 56 dagen droogstand nastreve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062720" indent="-2124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Controleer gemiddelde draagtijd van de dieren (BWB gebruik)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690840" indent="-2656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Te kort: onvoldoende vervanging van oude cellen in de uier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690840" indent="-2656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Te lang: grotere kans op vervetting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690840" indent="-265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Langere droogstand (8 weken) wanneer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690840" indent="-2656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Celgetal chronisch te hoog </a:t>
            </a:r>
            <a:r>
              <a:rPr b="0" lang="nl-NL" sz="16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 behandelen met langwerkende antibiotica (wachttijd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690840" indent="-2656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Eerste kalfskoeien met BCS &lt; 3  </a:t>
            </a:r>
            <a:r>
              <a:rPr b="0" lang="nl-NL" sz="16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 meer tijd om te groeie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690840" indent="-265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Droogstand is geen  goede periode om BCS te corrigere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690840" indent="-265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Gebruik droogstand nooit om BCS omlaag te krijgen !! </a:t>
            </a:r>
            <a:r>
              <a:rPr b="0" lang="nl-NL" sz="16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 vragen om problemen rondom afkalve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4000" spc="-1" strike="noStrike" u="sng">
                <a:solidFill>
                  <a:srgbClr val="90c226"/>
                </a:solidFill>
                <a:uFillTx/>
                <a:latin typeface="Arial"/>
                <a:ea typeface="Arial"/>
              </a:rPr>
              <a:t>Droogstand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09480" y="2160360"/>
            <a:ext cx="6986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Algemeen:  zorg voor zo 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min mogelijk stres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Stress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= veel staan, weinig liggen en te weinig/te haastig vreten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meer klauwproble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erplaatsen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van dieren: 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zo min mogelijk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nooit alleen, maar als gro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doorschuiven heeft voorkeu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oederopnamecapaciteit VOC in kg ds per da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5" name="Afbeelding 3" descr=""/>
          <p:cNvPicPr/>
          <p:nvPr/>
        </p:nvPicPr>
        <p:blipFill>
          <a:blip r:embed="rId1"/>
          <a:stretch/>
        </p:blipFill>
        <p:spPr>
          <a:xfrm>
            <a:off x="0" y="3335400"/>
            <a:ext cx="9144000" cy="2328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oeropname rondom kalv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8" name="Afbeelding 3" descr=""/>
          <p:cNvPicPr/>
          <p:nvPr/>
        </p:nvPicPr>
        <p:blipFill>
          <a:blip r:embed="rId1"/>
          <a:stretch/>
        </p:blipFill>
        <p:spPr>
          <a:xfrm>
            <a:off x="0" y="1936800"/>
            <a:ext cx="7993080" cy="4941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Opdrooggroep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09120" y="2160360"/>
            <a:ext cx="6194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roogzetten? Dan melkproductie &lt; 10 kg mel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vt. 4-7 dagen voor droogzetdatum in aparte groep met Far-Off rantsoen, en volop vers drink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maal daags blijven mel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le handelingen (bekappen, scheren, bolus, ontwormen) in een keer uitvo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 u="sng">
                <a:solidFill>
                  <a:srgbClr val="90c226"/>
                </a:solidFill>
                <a:uFillTx/>
                <a:latin typeface="Trebuchet MS"/>
              </a:rPr>
              <a:t>Far- off en Close-up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09480" y="1773360"/>
            <a:ext cx="648360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r-off</a:t>
            </a:r>
            <a:r>
              <a:rPr b="1" lang="nl-NL" sz="1500" spc="-1" strike="noStrike">
                <a:solidFill>
                  <a:srgbClr val="404040"/>
                </a:solidFill>
                <a:latin typeface="Trebuchet MS"/>
              </a:rPr>
              <a:t>: de eerste maand van de droogstand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nl-NL" sz="1300" spc="-1" strike="noStrike">
                <a:solidFill>
                  <a:srgbClr val="404040"/>
                </a:solidFill>
                <a:latin typeface="Trebuchet MS"/>
              </a:rPr>
              <a:t>12-14 kg ds opname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Lage passagesnelheid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Pensvulling 4 a 5 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BCS van 3.0 – 3.5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BCS &gt; 3,5 </a:t>
            </a:r>
            <a:r>
              <a:rPr b="0" lang="nl-NL" sz="13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 1,5 tot 2 kg ds minder opname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Conditie gelijk houden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Droogstands mineralen voeren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Water royaal beschikbaar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Ruimere boxen </a:t>
            </a:r>
            <a:r>
              <a:rPr b="0" lang="nl-NL" sz="13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 comfortabel liggen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Voerhek breedte 80 cm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" name="Rechthoek 1"/>
          <p:cNvSpPr/>
          <p:nvPr/>
        </p:nvSpPr>
        <p:spPr>
          <a:xfrm>
            <a:off x="644400" y="5934240"/>
            <a:ext cx="4572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99ca3c"/>
                </a:solidFill>
                <a:uFillTx/>
                <a:latin typeface="Trebuchet MS"/>
                <a:hlinkClick r:id="rId1"/>
              </a:rPr>
              <a:t>https://www.youtube.com/watch?v=RSn4qGSUtV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 u="sng">
                <a:solidFill>
                  <a:srgbClr val="90c226"/>
                </a:solidFill>
                <a:uFillTx/>
                <a:latin typeface="Trebuchet MS"/>
              </a:rPr>
              <a:t>Far Off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Vaarzen 2 maanden voor afkalven ook in deze groep (denk aan ruw eiwit)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Schoon en droog ligbed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Zorg voor beweging! Youtube beweging droge koeien Valacon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Vet ophoping in de lever voorkomen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Spierverzuring tegengaan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Minder ophoping van lymfevocht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1"/>
              </a:rPr>
              <a:t>https://www.youtube.com/watch?v=ekFJ5F29X9Y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07:10:50Z</dcterms:created>
  <dc:creator>admx</dc:creator>
  <dc:description/>
  <dc:language>en-US</dc:language>
  <cp:lastModifiedBy>Geert Willems</cp:lastModifiedBy>
  <cp:lastPrinted>2019-02-12T09:11:56Z</cp:lastPrinted>
  <dcterms:modified xsi:type="dcterms:W3CDTF">2021-03-02T18:38:20Z</dcterms:modified>
  <cp:revision>138</cp:revision>
  <dc:subject/>
  <dc:title>Melkveevoeding</dc:title>
</cp:coreProperties>
</file>