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DB0DF-3F76-4882-A274-FB4BBF1ACB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0035A-8595-403D-9216-86DFB7CF02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962-F2C9-4717-928E-CAAC14B8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79E-B2ED-486F-8D67-AC9B3FE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4FD-A92B-41B8-823E-AE38D962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786-464E-4AB8-9C7F-5752F92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2262-24BE-4D8B-BEBD-E51B24A1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742-EAC0-40FD-861D-AC4E092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6E3-BCF7-4471-A6E6-5987DE09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055F-5DA1-424C-9E4B-17FCF6E2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04EE-F55B-4C1A-9895-17AB521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9AD4-0307-4574-BB7E-C058737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02C1-4C91-4AC0-A35F-B6D5A15C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FEB-4E6C-48E7-BB5C-3107493C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E126-1FDC-4CEA-A8AD-C89CD61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D214-A0DC-455E-AA0D-8A98E98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CE6C-2B0B-4329-97E4-2D66181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C05-DE43-40CA-9022-A6A0E93C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2FBD-6AA0-4DCD-B7F1-D0F2CB0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E70B-0B1B-414D-941C-F5D69F65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27E3-A833-4548-B814-2F6B9D9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52D7-31AA-4A36-AA3B-1DAFB51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5785-7BD3-4034-AC76-47D45A3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10D0-092B-4330-876A-542BA0B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C6E-B17B-4476-9F6F-CC5780E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2420-9ECE-4781-B8D8-76BCFB44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CDE8-F8B2-4287-BA08-1E5B884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88F0-907E-4B85-86AF-645836D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4CAC-3563-4BB1-A72C-1270BA0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B5BC-E7F2-49B3-AEC7-B030638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E4C1-90D6-4FCC-B360-07700DA6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ABD6-A7D5-4D90-A3DA-61413B31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7421-18D6-4CC5-A0C6-016F2D1E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AF69-0104-4DE2-85CB-72520122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5496-4E92-4E46-ABE6-0AD023E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BFF-EA7D-4829-8C6F-ECC78AF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F78E-76C4-4CBC-AF34-1221B27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4C80-E7B7-4594-B4AF-4E7A2BD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72D8-15C7-4837-802B-8F0AD4E3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39C7-9FBA-493E-A323-E78EAA5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C631-638C-41D1-B1D9-827E4DB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5436-9E75-420E-9DB1-D8E42B53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489A-3BDF-4AA5-A7E9-AFB78CF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A10F-B299-4BD9-8AAC-DD6D6381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15B5-818F-4F5E-B215-589F1A20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2D5-11B7-4EDA-BA1C-A243ABA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056-B07D-4272-AED2-40D01C7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F5B-FFC2-41BA-BD94-45F1936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978-1337-410C-AB70-DEC6626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B2F-C13A-49A7-93B9-61E6779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D96D3-CFB2-4FB0-9FEA-071FAC043B88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18724-BDF6-43F3-B6ED-3C8A09CE2A4E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F2CF4-B169-44AE-95EA-E3AEE71BDFC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991A7-DF84-4236-90E8-62526BD214B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 en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Afbeelding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1268280"/>
            <a:ext cx="9137520" cy="5774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907640" y="1557360"/>
            <a:ext cx="6347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stem ik de voeding af op behoeft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lat- fe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Method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verstrek ik het voer aan d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apart voeren,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gemengd voeren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De goedkoopste methode van voer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1" name="Afbeelding 4" descr=""/>
          <p:cNvPicPr/>
          <p:nvPr/>
        </p:nvPicPr>
        <p:blipFill>
          <a:blip r:embed="rId2"/>
          <a:stretch/>
        </p:blipFill>
        <p:spPr>
          <a:xfrm>
            <a:off x="28440" y="3519360"/>
            <a:ext cx="4314960" cy="33242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6" descr=""/>
          <p:cNvPicPr/>
          <p:nvPr/>
        </p:nvPicPr>
        <p:blipFill>
          <a:blip r:embed="rId3"/>
          <a:stretch/>
        </p:blipFill>
        <p:spPr>
          <a:xfrm>
            <a:off x="5915160" y="2548080"/>
            <a:ext cx="324792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Opbouw krachtvoer gift: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Geleidelijke opbouw ( vaak 21 dagen) tot maximale gift (hier 11 kg)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Deze gift volhouden tot melkproductie zakt onder gift van voertabel en dan afbouwen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5" name="Afbeelding 4" descr=""/>
          <p:cNvPicPr/>
          <p:nvPr/>
        </p:nvPicPr>
        <p:blipFill>
          <a:blip r:embed="rId2"/>
          <a:srcRect l="0" t="0" r="50202" b="0"/>
          <a:stretch/>
        </p:blipFill>
        <p:spPr>
          <a:xfrm>
            <a:off x="31680" y="149400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aarzen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Minder hoge maximale gift (hier 8 kg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"/>
          <p:cNvPicPr/>
          <p:nvPr/>
        </p:nvPicPr>
        <p:blipFill>
          <a:blip r:embed="rId2"/>
          <a:srcRect l="49965" t="4057" r="35" b="-4049"/>
          <a:stretch/>
        </p:blipFill>
        <p:spPr>
          <a:xfrm>
            <a:off x="108000" y="1284120"/>
            <a:ext cx="9036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4" descr=""/>
          <p:cNvPicPr/>
          <p:nvPr/>
        </p:nvPicPr>
        <p:blipFill>
          <a:blip r:embed="rId2"/>
          <a:stretch/>
        </p:blipFill>
        <p:spPr>
          <a:xfrm>
            <a:off x="123840" y="9360"/>
            <a:ext cx="8896320" cy="683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Geleidelijke veranderinge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4" descr=""/>
          <p:cNvPicPr/>
          <p:nvPr/>
        </p:nvPicPr>
        <p:blipFill>
          <a:blip r:embed="rId2"/>
          <a:stretch/>
        </p:blipFill>
        <p:spPr>
          <a:xfrm>
            <a:off x="174600" y="1359000"/>
            <a:ext cx="8901000" cy="302256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6" descr=""/>
          <p:cNvPicPr/>
          <p:nvPr/>
        </p:nvPicPr>
        <p:blipFill>
          <a:blip r:embed="rId3"/>
          <a:stretch/>
        </p:blipFill>
        <p:spPr>
          <a:xfrm>
            <a:off x="82440" y="4243320"/>
            <a:ext cx="9061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Krachtvoergift 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700280"/>
            <a:ext cx="813924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andmat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melkcontrole alle individuele giften aanpassen aan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lkhoeveel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utomat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ynamisch voer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baseerd op melkgift en krachtvoergift van vorige d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 basis van krachtvoerprijs en verwachte melkgift wordt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achtvoergift dagelijks berekend en bijgest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der werk, nauwkeuriger, bespar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Kies uit onderstaande begrippen/systemen er 1 ui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Zoek op wat dit inhoud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Bedenk 3 vragen bij dit systeem/begrip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empen voer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pac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ly Vec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iomati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37520" cy="6735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-&gt;  Flat Feedin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MR = Total Mixed R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le koeien over langere tijd een en hetzelfde rantso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uwvoer en krachtvoer (-achtigen) gemen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houd rantsoen afstemmen op gemiddelde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electie op voeropname van individuele koe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lepende melkziekte en vervett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aken van groepen en energie- en eiwit dichtheid hier op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9712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0800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Groepen maken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e groter het bedrijf, des te gemakkelijke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isselen van groep = stress en kost vaak melk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Groepen en melken kost veel extra werk: cow –traffic optimalis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achttijd tijdens (evt. 3 x daags) melken 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elke groepen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afkalv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opstart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o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laa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vaarz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elgetal/ antibiotica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far of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jongvee 3 groep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07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edere koe als individu op maa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asisrantsoen aan voerhek (ruwvoer; bijproduct, krachtvoer; al dan niet gemeng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dividueel krachtvoer op maat verstrekken met krachtvoerbox, robot of melkst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835200"/>
            <a:ext cx="9123480" cy="6003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thode afhankelijk v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rootte bedrij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al i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lk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re arb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inanciële ruim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920" y="-1713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76720" y="2708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meng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Laagsgewij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Voorraad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Zelf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34920" y="4320"/>
            <a:ext cx="63486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Afbeelding 1" descr=""/>
          <p:cNvPicPr/>
          <p:nvPr/>
        </p:nvPicPr>
        <p:blipFill>
          <a:blip r:embed="rId1">
            <a:lum bright="70000" contrast="-70000"/>
          </a:blip>
          <a:srcRect l="45278" t="0" r="0" b="25555"/>
          <a:stretch/>
        </p:blipFill>
        <p:spPr>
          <a:xfrm>
            <a:off x="0" y="151452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94920" y="188640"/>
            <a:ext cx="76136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meng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 ba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uilvoersnij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empen 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Afbeelding 1" descr=""/>
          <p:cNvPicPr/>
          <p:nvPr/>
        </p:nvPicPr>
        <p:blipFill>
          <a:blip r:embed="rId1"/>
          <a:stretch/>
        </p:blipFill>
        <p:spPr>
          <a:xfrm>
            <a:off x="0" y="1158840"/>
            <a:ext cx="9137520" cy="5699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619280" y="2276280"/>
            <a:ext cx="709128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edere machine kost geld 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Jaarkosten (9+ 2,5 + 2,5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Energiekos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rbe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raagj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drijf met jaarproductie van 1,5 miljoen liter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er investeert in een zelfrijdende voermengw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uw  160.000 euro, gebruiksduur is 10 jaar, restwaarde 20.000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gelijks 35 liter dies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aarkost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osten per liter mel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Afbeelding 4" descr=""/>
          <p:cNvPicPr/>
          <p:nvPr/>
        </p:nvPicPr>
        <p:blipFill>
          <a:blip r:embed="rId1"/>
          <a:stretch/>
        </p:blipFill>
        <p:spPr>
          <a:xfrm>
            <a:off x="3905280" y="4006800"/>
            <a:ext cx="524664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1-03-15T13:44:45Z</dcterms:modified>
  <cp:revision>138</cp:revision>
  <dc:subject/>
  <dc:title>Landbouw in Nederland</dc:title>
</cp:coreProperties>
</file>