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315-3F65-4B5E-AF40-ABFB1B89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985-5B39-4F7C-BC0E-1BBAFDD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2BB-E275-426A-B8A4-86C7823D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C64-DA09-428D-B493-9F8362AC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0B1F-5D13-41D0-A0F3-3E1705B6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9D42-618C-41E7-B8A3-C6589572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056-E4FB-442C-AB31-2D334E68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7C51-3336-46D2-B6AD-2BC8DB04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E4AB-79A0-4168-AA41-A1BB6B0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43C-BAD3-4ED1-8B15-10A16DD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F896-B03D-4203-8F6F-78D677D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3FE-A2EF-4943-82CE-91D74379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A132-6779-42B9-BEDC-07BF3A5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DF6D-288E-405D-9E97-72DD8C6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1DC2-BC9F-4C84-9BE3-5725E433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8A75-1C09-448B-B99E-F4A3B100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8CC0-68EB-4DE8-A4C8-45199CAA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AD59-D59E-45DD-9CC7-979560D2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D995-651E-473B-959D-90F449FB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C2A0-EB1B-48CD-B7BF-1509F8D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B2F7-E778-42A2-9666-F715D7B2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716D-34C3-484D-A788-EC79C40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D8E-D0FF-493E-8CA0-59352A8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76F5-0274-4246-8512-3253F380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8205-6A10-428E-9773-3B18EB1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A25F-17BB-48E6-A8E0-B90F1E3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BF67-4F20-44C1-8348-75456995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E41F-E0FE-4C2E-A870-4AADBBB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E3B3-433F-4D8C-8599-B2315C62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4246-2812-49B2-B818-188DB71D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CE53-21A7-4814-8253-B12CDB96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45BE-6350-410E-9F82-08EA20F8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A39B-926D-4EF5-B132-CDC32DD5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5B3-D405-4077-856E-F2036B18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4453-8B89-4964-912F-1585D7C2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811B-C427-4A8D-BA87-BB140A90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31D5-3690-4023-9DE9-3B82A8D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7C1A-10B7-4161-8004-3D538FB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3745-A5E8-4CB7-AA13-9BEC792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3ED0-BECB-4432-9911-8265390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0145-B4EC-46A2-BDB4-F4F0BBA4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7153-5EDE-4B36-A6A5-B0235F39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C983-4435-46A6-90AE-97335FAA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804-2ED8-45BB-9DCA-4C2D31FB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51C-1EC1-4207-8D28-4E7A35C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127-DA7B-4404-A11E-59BD36C9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797-70AE-4E3E-9D50-66C37A27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3B9-DB25-4774-AAE3-5F7E7D3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EAB8C-2130-443C-8D76-F3BD5C63C06D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AE6F2-06C5-4E48-99A8-DD8D7C91DDCD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1B84F-8A28-4A0F-9BD3-F33F4FEA01C1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D374C-4B7A-4399-BE1C-C8B8586DE5B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30360" y="1483920"/>
            <a:ext cx="63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langrijkste factor in voeding 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 van vele factoren afhanke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S% vo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Temperatuur + relatieve lucht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uistregel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: per kg ds voer 4 liter water + 1 l.per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us stel: koe eet 20 kg ds en geeft 30 l melk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0 kg ds * 4 = 80 liter + 30 kg FPCM * 1 liter =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10 liter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it is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exclusie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oer 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1628280"/>
            <a:ext cx="6348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inkwatervoorziening optimaliseren? Dan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e moet 12 keer per dag kunnen drinken!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Per 20 koeien een drinkpunt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Elke 20 meter een drinkpunt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Minimaal 2 drinkpunten per groep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Ruime aanvoersnelhei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vrije verstrekking kan koe 20 liter per minuut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drinkbakjes opname vaak te traa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ij sneldrinker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per minuut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Is de toevoer voldoende?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1557000"/>
            <a:ext cx="6348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Koud water voor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Optimale temperatuur is  10̊  -  20 ̊C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koud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 weinig drink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Temperatuurschok i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30 liter water van 0 C geeft 10-15 C temperatuurdaling van pen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Water te warm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Bacteriegroei in leiding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Vers afgekalfde  koeien standaard onbeperkt lauw water (evt drench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Arial"/>
                <a:ea typeface="Arial"/>
              </a:rPr>
              <a:t>Drenchen tegen ziekt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1484280"/>
            <a:ext cx="634860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gewicht of prod. Niveau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wicht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(kg)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alf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8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ink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0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aar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4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opname, (l) bij verschillende prod. nivea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prod.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Omgevingstempera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5̊C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8̊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g 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0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7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ctkoe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6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55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68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27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8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99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36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0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1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7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5 kg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22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43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94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4 criteria voor goede waterkwalitei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make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schikbaarheid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schadelijke stoffen voor ko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een gevaar voor voedselveil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kwalite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04840" y="1785960"/>
          <a:ext cx="8864640" cy="4110120"/>
        </p:xfrm>
        <a:graphic>
          <a:graphicData uri="http://schemas.openxmlformats.org/drawingml/2006/table">
            <a:tbl>
              <a:tblPr/>
              <a:tblGrid>
                <a:gridCol w="1660320"/>
                <a:gridCol w="4862520"/>
                <a:gridCol w="1170000"/>
                <a:gridCol w="1171800"/>
              </a:tblGrid>
              <a:tr h="262080"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ge of afwijkende waarden in het drinkwater zij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 voor het risico van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walificatie van het drink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schik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ële verontrein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-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 of &gt;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2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0,0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H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ewenste bacterieactiviteit, mineralisatie van organische materiaal, gift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a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ietvergiftig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MnO4 ge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wezigheid van organische stoffen, ro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afzetting op leidingen, onsmakelijk, weerst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0,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,5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 afzetting op leidingen en melkta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,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ting bij oppervlaktewa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25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000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uoro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 mg/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he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akproble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25̊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.Co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 kiemgetal bij 22̊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1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100.000 per m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 u="sng">
                <a:solidFill>
                  <a:srgbClr val="90c226"/>
                </a:solidFill>
                <a:uFillTx/>
                <a:latin typeface="Trebuchet MS"/>
              </a:rPr>
              <a:t>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412640"/>
            <a:ext cx="79218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ehouders: 75 % bronwater, 25 % leidingwater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Goed schoonma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l eens aan binnenkant drinkbak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ommunicerende va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lo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poelen 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einigingsmiddel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t op de kwaliteit bij verstrekken va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Hemelwater /Grondwater/Slootwater  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salmonella, botulisme, paratbc, blauwal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aat water onderzoek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18-02-07T11:06:42Z</dcterms:modified>
  <cp:revision>118</cp:revision>
  <dc:subject/>
  <dc:title>Landbouw in Nederland</dc:title>
</cp:coreProperties>
</file>