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346-B284-47D2-B24E-FDDFC658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1E7-874A-4A1E-9EFE-1A0A666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27B-0AFC-46CF-8D43-FF368161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7BA-9777-4C77-9198-1C619646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86FA-70EA-48B3-9886-EACEFE7F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3B63-DBA8-405D-9665-537F7A5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C6B-D54E-4BB6-8C9F-786BA924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BBA-696B-426A-B1C8-E5DD864A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E0CF-1C3C-4821-BBB5-17A17C0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589-A8C9-44CA-843B-493FC84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20A-801B-4BC7-87D4-9594F46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56F-5DEC-4767-A4CB-BA8634CA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4A89-BD5B-4F29-907A-4294DC5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450C-F9C9-4716-A3CF-004B248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20F-2257-4BEE-8639-9B04F8F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A8C1-F3DF-4F03-948D-72E1D6FE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33AC-BDC8-4609-BC15-FFFB8111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FC6F-27B2-4D9C-BC6B-D5E6B323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EE63-11A9-4332-BA23-6A658BB3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2C6D-D38A-4DAC-87EC-F8FB5B9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7005-F2A4-4366-B571-0736ED7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99CA-1BD9-4048-B8A7-FEAB1E19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AA8-3129-488B-A77B-8EC3E084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321B-7FD8-43EB-BC05-1DF6852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A7B8-4710-41C1-A89C-B936373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72C8-3209-41EF-92A0-384A724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BC87-8D74-4930-B4DE-F7615CC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B326-59BA-4920-A30E-2F87FE3E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9DE8-72F0-452F-A79C-5CFF6BB9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9E62-D57E-42D9-949D-CC2C4A38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DAE7-CEC4-417D-9268-C5D66F3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5609-99C9-4C43-AA6D-0ECD239B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006D-51F7-4F2B-88E9-04D7ABF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FE5-FA8E-4885-B2FA-C8559D6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8000-F2DE-4E3A-9512-7C75BD87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2A04-5061-4FFB-BE0E-D1E0905A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530A-9C42-4695-BC55-D4406EB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D614-807B-442E-9C12-92A63DB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460E-B939-41EB-A148-427FC95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3088-D95F-4508-AC5F-BA17DC4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32E7-955E-4BC5-935A-28D5936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99B1-684B-4318-8B8F-AEC1D646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636B-624F-41A7-8425-86EF3010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A35-B35B-491A-B7B2-C8CB571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06A-B99E-46C4-9D1B-CCD1A03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E5D-A78A-48EF-9A6B-21CE6D7E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DD-C2C4-44E9-8724-3DA588D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723-F5F8-4F44-A0EA-26482CB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C64CD-32D3-49D7-BABD-0D437C0D7AA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A6AA4-13B2-409E-BCA3-32C4837186A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02FA2-7309-4C98-99DC-F4DAE309444E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70103-5608-4403-9EE4-D8C108F4B23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0360" y="1483920"/>
            <a:ext cx="63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langrijkste factor in voeding 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 van vele factoren afhanke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S% vo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emperatuur + relatieve lucht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uistregel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: per kg ds voer 4 liter water + 1 l.per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us stel: koe eet 20 kg ds en geeft 30 l melk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0 kg ds * 4 = 80 liter + 30 kg FPCM * 1 liter 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10 lit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it is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exclusie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oer 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inkwatervoorziening optimaliseren? Da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e moet 12 keer per dag kunnen drinken!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Per 20 koeien een drinkpunt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Elke 20 meter een drinkpu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Minimaal 2 drinkpunten per groep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Ruime aanvoersnelhei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vrije verstrekking kan koe 20 liter per minuut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drinkbakjes opname vaak te traa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sneldrinker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per minuut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Is de toevoer voldoende?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1557000"/>
            <a:ext cx="6348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ud water voor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Optimale temperatuur is  10̊  -  20 ̊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kou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 weinig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mperatuurschok i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water van 0 C geeft 10-15 C temperatuurdaling va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warm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acteriegroei in leiding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Vers afgekalfde  koeien standaard onbeperkt lauw water (evt drench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enchen tegen ziekt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gewicht of prod. 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wicht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(kg)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8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ink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aar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4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prod. nivea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.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g 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0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ct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7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0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5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2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 criteria voor goede waterkwalitei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make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arheid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schadelijke stoffen voor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gevaar voor voedselveil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kwalite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04840" y="1785960"/>
          <a:ext cx="8864640" cy="4110120"/>
        </p:xfrm>
        <a:graphic>
          <a:graphicData uri="http://schemas.openxmlformats.org/drawingml/2006/table">
            <a:tbl>
              <a:tblPr/>
              <a:tblGrid>
                <a:gridCol w="1660320"/>
                <a:gridCol w="4862520"/>
                <a:gridCol w="1170000"/>
                <a:gridCol w="1171800"/>
              </a:tblGrid>
              <a:tr h="262080"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ge of afwijkende waarden in het drinkwater zij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 voor het risico van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alificatie van het drink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ële verontrein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 of &gt;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2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a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e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nO4 ge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wezigheid van organische stoffen, ro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afzetting op leidingen, onsmakelijk, we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,5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 afzetting op leidingen en melkt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ting bij oppervlakte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5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uor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akproble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Co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 kiemgetal bij 22̊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412640"/>
            <a:ext cx="7921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ehouders: 75 % bronwater, 25 % leidingwater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oed schoonma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l eens aan binnenkant drinkba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ommunicerende va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lo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poelen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einigingsmiddel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t op de kwaliteit bij verstrekken v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Hemelwater /Grondwater/Slootwater  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almonella, botulisme, paratbc, blauwal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at water onderzoek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18-02-07T11:06:42Z</dcterms:modified>
  <cp:revision>118</cp:revision>
  <dc:subject/>
  <dc:title>Landbouw in Nederland</dc:title>
</cp:coreProperties>
</file>