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4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15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2FBD5-D9DC-4E47-9BC3-F6C4E62E7B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4D5AD9-D047-4FF0-831C-BA466EB65C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5884-A172-45BF-AE77-C1A2DFE1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CA90-860C-4C09-876A-1E49CA9C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2C9E-943E-4A51-84CE-84CB8EDB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615B-C0BF-4C39-942A-39F0AC57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2648-415D-4071-9D77-B620A60A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6DB1-F310-4AE7-B59E-CEDC27FB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8AD3-4658-44F4-ACC0-31AF90FD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FC41-B22B-421C-AA66-926CCBF6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9359-AC0E-40F1-B7C7-3497EFD9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B632-22FC-42E4-89F3-CDD43F1B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7654-C153-4F04-829F-EC7EBF8F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E92E-084B-4BED-A7E2-36B98030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805F-5215-408F-9133-42BB710A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E735-05F8-4721-88C0-BE93D6CB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809F-E720-4201-BA5C-051517B4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061A-665F-4843-82C5-D77DAEC1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C150-FC1D-4501-B942-8EF04F24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8A7C5-3AAB-4EC7-AA3A-73AD1369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DE8DC-F104-4BE3-8F33-51CD7925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48B9E-B448-4878-A6CE-2D2F3D72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76B8E-CF1B-40BC-B52A-1A377997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7C703-C1ED-4A2A-8EA8-94AC7B9B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B9A4-3D03-47F9-979C-6BECF31A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AA5DF-F5C3-498F-9C2D-ABEE2F80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F070C-6FE7-4145-9902-B1A9F640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95E05-2030-4E37-A7F9-FEAD5C3C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A30A3-D5FB-4721-893F-E0179712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64927-C82F-4C22-B8CC-2ADA89C4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658B6-D9A2-4726-8A32-49A14EDB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F4547-7076-46B6-8B7A-2E930DB7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27499-8709-44BA-AF1A-BE9FA015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1E2C6-1F57-4FC7-A513-7ABB2E15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C77F7-A3CA-4993-A489-FA7D00C1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F988-C210-4A7F-B126-0F69BDD9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6C57E-95ED-4F32-B3AE-DE938E96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33E57-901B-49C4-8B83-C16AEDA8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A6691-8307-4BA4-BD1D-F54A9502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9CC8E-411E-40A3-A52F-92931EA0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0E58C-22E4-43AD-AEE6-73E59B77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0C2A3-6EAC-4B5F-A2A9-8E882E1E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01B5E-8E8B-459C-A514-2DC497A2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DEB56-3145-43CE-99A0-4F5D0DDF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079CE-4E98-494E-90FF-1FEF4048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C718-E3F7-445F-AB24-2306C9D6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3C1C-D45A-4DA9-BCA5-3CE2E9F0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D1C2-CD12-4A75-BC0B-A2352CB9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E9DA-CDD9-40AF-A71C-73B50171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EBE6-E02C-4E25-94E7-9E8F7E84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ACDE7-5116-47AF-BCB1-70FADDEACB4C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63" name="Afbeelding 7" descr="Powerpoint PTC blanco 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C7D043-5511-457E-8A17-26B2CE115A7C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6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C9764-63DE-497D-AA44-DAF29DAA0495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6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753D86-D5A3-4EB6-880F-1890F27AD713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24" name="Picture 2" descr="PTC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Bedankt voor uw aandacht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371600" y="23623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zie voor meer informatie: www.ptcplus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Voeren: methode en strateg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3" name="Afbeelding 4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480" y="1268280"/>
            <a:ext cx="9137520" cy="57740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907640" y="1557360"/>
            <a:ext cx="6347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Strategie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i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Hoe stem ik de voeding af op behoefte koe 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Flat- fe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Normvoeder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Methode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i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Hoe verstrek ik het voer aan de koe 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dermiddelen apart voeren, al dan niet ad Lib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dermiddelen gemengd voeren al dan niet ad Lib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d0d0d"/>
                </a:solidFill>
                <a:latin typeface="Trebuchet MS"/>
              </a:rPr>
              <a:t>De goedkoopste methode van voer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01" name="Afbeelding 4" descr=""/>
          <p:cNvPicPr/>
          <p:nvPr/>
        </p:nvPicPr>
        <p:blipFill>
          <a:blip r:embed="rId2"/>
          <a:stretch/>
        </p:blipFill>
        <p:spPr>
          <a:xfrm>
            <a:off x="28440" y="3519360"/>
            <a:ext cx="4314960" cy="3324240"/>
          </a:xfrm>
          <a:prstGeom prst="rect">
            <a:avLst/>
          </a:prstGeom>
          <a:ln w="0">
            <a:noFill/>
          </a:ln>
        </p:spPr>
      </p:pic>
      <p:pic>
        <p:nvPicPr>
          <p:cNvPr id="302" name="Afbeelding 6" descr=""/>
          <p:cNvPicPr/>
          <p:nvPr/>
        </p:nvPicPr>
        <p:blipFill>
          <a:blip r:embed="rId3"/>
          <a:stretch/>
        </p:blipFill>
        <p:spPr>
          <a:xfrm>
            <a:off x="5915160" y="2548080"/>
            <a:ext cx="3247920" cy="4295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803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d0d0d"/>
                </a:solidFill>
                <a:latin typeface="Trebuchet MS"/>
              </a:rPr>
              <a:t>Opbouw krachtvoer gift:</a:t>
            </a:r>
            <a:br>
              <a:rPr sz="3600"/>
            </a:br>
            <a:r>
              <a:rPr b="0" lang="nl-NL" sz="2000" spc="-1" strike="noStrike">
                <a:solidFill>
                  <a:srgbClr val="0d0d0d"/>
                </a:solidFill>
                <a:latin typeface="Trebuchet MS"/>
              </a:rPr>
              <a:t>Geleidelijke opbouw ( vaak 21 dagen) tot maximale gift (hier 11 kg)</a:t>
            </a:r>
            <a:br>
              <a:rPr sz="2000"/>
            </a:br>
            <a:r>
              <a:rPr b="0" lang="nl-NL" sz="2000" spc="-1" strike="noStrike">
                <a:solidFill>
                  <a:srgbClr val="0d0d0d"/>
                </a:solidFill>
                <a:latin typeface="Trebuchet MS"/>
              </a:rPr>
              <a:t>Deze gift volhouden tot melkproductie zakt onder gift van voertabel en dan afbouwen</a:t>
            </a:r>
            <a:br>
              <a:rPr sz="2000"/>
            </a:b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05" name="Afbeelding 4" descr=""/>
          <p:cNvPicPr/>
          <p:nvPr/>
        </p:nvPicPr>
        <p:blipFill>
          <a:blip r:embed="rId2"/>
          <a:srcRect l="0" t="0" r="50202" b="0"/>
          <a:stretch/>
        </p:blipFill>
        <p:spPr>
          <a:xfrm>
            <a:off x="31680" y="1494000"/>
            <a:ext cx="8280360" cy="532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15516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d0d0d"/>
                </a:solidFill>
                <a:latin typeface="Trebuchet MS"/>
              </a:rPr>
              <a:t>Vaarzen</a:t>
            </a:r>
            <a:br>
              <a:rPr sz="3600"/>
            </a:br>
            <a:r>
              <a:rPr b="0" lang="nl-NL" sz="2000" spc="-1" strike="noStrike">
                <a:solidFill>
                  <a:srgbClr val="0d0d0d"/>
                </a:solidFill>
                <a:latin typeface="Trebuchet MS"/>
              </a:rPr>
              <a:t>Minder hoge maximale gift (hier 8 kg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08" name="Afbeelding 4" descr=""/>
          <p:cNvPicPr/>
          <p:nvPr/>
        </p:nvPicPr>
        <p:blipFill>
          <a:blip r:embed="rId2"/>
          <a:srcRect l="49965" t="4057" r="35" b="-4049"/>
          <a:stretch/>
        </p:blipFill>
        <p:spPr>
          <a:xfrm>
            <a:off x="108000" y="1284120"/>
            <a:ext cx="9036000" cy="5791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11" name="Afbeelding 4" descr=""/>
          <p:cNvPicPr/>
          <p:nvPr/>
        </p:nvPicPr>
        <p:blipFill>
          <a:blip r:embed="rId2"/>
          <a:stretch/>
        </p:blipFill>
        <p:spPr>
          <a:xfrm>
            <a:off x="123840" y="9360"/>
            <a:ext cx="8896320" cy="683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280" y="15516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d0d0d"/>
                </a:solidFill>
                <a:latin typeface="Trebuchet MS"/>
              </a:rPr>
              <a:t>Geleidelijke veranderingen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14" name="Afbeelding 4" descr=""/>
          <p:cNvPicPr/>
          <p:nvPr/>
        </p:nvPicPr>
        <p:blipFill>
          <a:blip r:embed="rId2"/>
          <a:stretch/>
        </p:blipFill>
        <p:spPr>
          <a:xfrm>
            <a:off x="174600" y="1359000"/>
            <a:ext cx="8901000" cy="3022560"/>
          </a:xfrm>
          <a:prstGeom prst="rect">
            <a:avLst/>
          </a:prstGeom>
          <a:ln w="0">
            <a:noFill/>
          </a:ln>
        </p:spPr>
      </p:pic>
      <p:pic>
        <p:nvPicPr>
          <p:cNvPr id="315" name="Afbeelding 6" descr=""/>
          <p:cNvPicPr/>
          <p:nvPr/>
        </p:nvPicPr>
        <p:blipFill>
          <a:blip r:embed="rId3"/>
          <a:stretch/>
        </p:blipFill>
        <p:spPr>
          <a:xfrm>
            <a:off x="82440" y="4243320"/>
            <a:ext cx="906156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d0d0d"/>
                </a:solidFill>
                <a:latin typeface="Trebuchet MS"/>
              </a:rPr>
              <a:t>Krachtvoergift reg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09120" y="1700280"/>
            <a:ext cx="813924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Handmati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 melkcontrole alle individuele giften aanpassen aan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lkhoeveel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Automatis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ynamisch voeren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baseerd op melkgift en krachtvoergift van vorige da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p basis van krachtvoerprijs en verwachte melkgift wordt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rachtvoergift dagelijks berekend en bijgest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der werk, nauwkeuriger, bespar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d0d0d"/>
                </a:solidFill>
                <a:latin typeface="Trebuchet MS"/>
              </a:rPr>
              <a:t>Kies uit onderstaande begrippen/systemen er 1 uit.</a:t>
            </a:r>
            <a:br>
              <a:rPr sz="2000"/>
            </a:br>
            <a:r>
              <a:rPr b="0" lang="nl-NL" sz="2000" spc="-1" strike="noStrike">
                <a:solidFill>
                  <a:srgbClr val="0d0d0d"/>
                </a:solidFill>
                <a:latin typeface="Trebuchet MS"/>
              </a:rPr>
              <a:t>Zoek op wat dit inhoudt.</a:t>
            </a:r>
            <a:br>
              <a:rPr sz="2000"/>
            </a:br>
            <a:r>
              <a:rPr b="0" lang="nl-NL" sz="2000" spc="-1" strike="noStrike">
                <a:solidFill>
                  <a:srgbClr val="0d0d0d"/>
                </a:solidFill>
                <a:latin typeface="Trebuchet MS"/>
              </a:rPr>
              <a:t>Bedenk 3 vragen bij dit systeem/begrip.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empen voersystee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lfvoeder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pact vo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ly Vecto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riomatic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elink voerh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oonwerkvo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Voeren: strateg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6" name="Afbeelding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6480"/>
            <a:ext cx="9137520" cy="67356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609120" y="1628280"/>
            <a:ext cx="6348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Strateg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-&gt;  Flat Feeding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TMR = Total Mixed R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Alle koeien over langere tijd een en hetzelfde rantso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Ruwvoer en krachtvoer (-achtigen) gemeng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Inhoud rantsoen afstemmen op gemiddelde ko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Selectie op voeropname van individuele koe 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Slepende melkziekte en vervetting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Maken van groepen en energie- en eiwit dichtheid hier op aanpas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Voeren: strateg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9" name="Afbeelding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697120"/>
            <a:ext cx="9144000" cy="4160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10800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Groepen maken: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Hoe groter het bedrijf, des te gemakkelijker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Wisselen van groep = stress en kost vaak melk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Groepen en melken kost veel extra werk: cow –traffic optimaliser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Wachttijd tijdens (evt. 3 x daags) melken !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Welke groepen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afkalv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opstart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hoogproductief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laagproductief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vaarz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celgetal/ antibiotica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far off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300" spc="-1" strike="noStrike">
                <a:solidFill>
                  <a:srgbClr val="404040"/>
                </a:solidFill>
                <a:latin typeface="Arial"/>
                <a:ea typeface="Arial"/>
              </a:rPr>
              <a:t>close up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jongvee 3 groepen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1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4075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Voeren: strateg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2" name="Afbeelding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068480"/>
            <a:ext cx="9144000" cy="57895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609120" y="1484280"/>
            <a:ext cx="634860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Normvoeder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Iedere koe als individu op maat vo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asisrantsoen aan voerhek (ruwvoer; bijproduct, krachtvoer; al dan niet gemeng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Individueel krachtvoer op maat verstrekken met krachtvoerbox, robot of melkst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Afbeelding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520" y="835200"/>
            <a:ext cx="9123480" cy="6003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609120" y="162864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Methode afhankelijk va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Grootte bedrij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Stal ind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Melksystee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Productieniveau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eschikbare arb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Financiële ruim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oeren: metho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Afbeelding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7920" y="-171360"/>
            <a:ext cx="9129600" cy="68691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3276720" y="270828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Gemengd vo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Laagsgewij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Voorraadvoeder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Zelfvoeder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Geautomatiseerd vo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oeren: metho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634920" y="4320"/>
            <a:ext cx="6348600" cy="7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Voeren: metho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1" name="Afbeelding 1" descr=""/>
          <p:cNvPicPr/>
          <p:nvPr/>
        </p:nvPicPr>
        <p:blipFill>
          <a:blip r:embed="rId1">
            <a:lum bright="70000" contrast="-70000"/>
          </a:blip>
          <a:srcRect l="45278" t="0" r="0" b="25555"/>
          <a:stretch/>
        </p:blipFill>
        <p:spPr>
          <a:xfrm>
            <a:off x="0" y="1514520"/>
            <a:ext cx="9144000" cy="5729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394920" y="188640"/>
            <a:ext cx="76136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rmengwa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rdoseer ba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rdoseerwa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Kuilvoersnij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eelink voerh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Geautomatiseerd vo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Kempen systee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Loonwerkvo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Afbeelding 1" descr=""/>
          <p:cNvPicPr/>
          <p:nvPr/>
        </p:nvPicPr>
        <p:blipFill>
          <a:blip r:embed="rId1"/>
          <a:stretch/>
        </p:blipFill>
        <p:spPr>
          <a:xfrm>
            <a:off x="0" y="1158840"/>
            <a:ext cx="9137520" cy="56991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Voeren: metho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619280" y="2276280"/>
            <a:ext cx="7091280" cy="58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Iedere machine kost geld !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Jaarkosten (9+ 2,5 + 2,5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Energiekost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rbei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d0d0d"/>
                </a:solidFill>
                <a:latin typeface="Trebuchet MS"/>
              </a:rPr>
              <a:t>Vraagje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drijf met jaarproductie van 1,5 miljoen liter mel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oer investeert in een zelfrijdende voermengwag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ieuw  160.000 euro, gebruiksduur is 10 jaar, restwaarde 20.000 eur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agelijks 35 liter diese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Jaarkosten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osten per liter melk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8" name="Afbeelding 4" descr=""/>
          <p:cNvPicPr/>
          <p:nvPr/>
        </p:nvPicPr>
        <p:blipFill>
          <a:blip r:embed="rId1"/>
          <a:stretch/>
        </p:blipFill>
        <p:spPr>
          <a:xfrm>
            <a:off x="3905280" y="4006800"/>
            <a:ext cx="5246640" cy="2851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3:07:33Z</dcterms:created>
  <dc:creator>6gws</dc:creator>
  <dc:description/>
  <dc:language>en-US</dc:language>
  <cp:lastModifiedBy>Geert Willems</cp:lastModifiedBy>
  <dcterms:modified xsi:type="dcterms:W3CDTF">2021-03-15T13:44:45Z</dcterms:modified>
  <cp:revision>138</cp:revision>
  <dc:subject/>
  <dc:title>Landbouw in Nederland</dc:title>
</cp:coreProperties>
</file>