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395A-0B39-4C70-AC5F-2A68F62BB29D}"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5820-67A0-4CD9-A4AA-825EC71B2AA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88BB-9475-462A-BB38-5D18AF79ECA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F4FF-EE66-43A6-B0BF-89AA3042DFC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E9BD-49B6-44EB-86E7-87DE2E9E979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DF22-6857-472B-A3E9-4F6C2B63A57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A963-0B81-4745-929F-3875167F18D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7C51-0805-4F31-B05E-061F4EFACDD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870A-0AB2-4623-A7C8-A2C3215574B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FBA2-B0CD-4CFB-9FD4-5B6CF1398FE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BF0D-3B5E-4BA3-9088-67A1443E355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5545-2268-4A08-9DD8-164386E6171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2B37-DC9B-49B0-A5DB-0D2CEA03079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1A7D-16AC-4A22-A026-93C39D23DA6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4B35-1A92-421F-B33C-9896FA07976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62CF3-C664-469A-A16C-225C523B7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57768-E1CA-49B0-B4A7-C0B6C9D69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EA8E0A-8DCF-4F0A-90D3-0E00C67A82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91C935-07B7-4A2A-9805-34BE67C482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1E64BC-83A2-49C0-ADA0-0D035B79AD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5E3CDC-FF65-4093-9E34-E1BAAFAFB7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F936A2-CC57-4E21-B476-70A485928D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D43712-73A4-46A9-93D6-6981D1B971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3C2D6E-F253-452A-BB44-3067CEA4EF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B2102B-2A33-4882-8A6D-524BC98E79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97F60B-EE26-4AD5-AEC9-1BE9A0F1FD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EF4C052-7C4C-4460-896A-7676BF2D794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16018-9C3C-4987-8C7A-281066329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59706F-7257-45DE-8CFF-C10EDD461C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03D79D-9F95-43E5-B51B-81D0177558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9425A1-A631-4700-9C2F-488433C085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A5C9E2-DF82-485B-AC3E-9CC61CB263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A59DF2-FFE1-48E9-AA96-BF1CF0DFFA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D0E0C9-5D6C-4942-9BBC-44ED154A5F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A0988D-B81B-454B-9518-33B1BA0CDB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A4AED1-3526-40F7-8B3A-889DB74F4E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281220-6C80-4D6D-A1E4-B9901F4706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62D1A37-E087-42EE-8CEE-B4146B577D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285B9-00F0-4FC9-9FFB-BDDA0CCDA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2E7C2F6-1565-4F09-A854-F3593328B34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B570D85-A292-4C75-B778-8474C455EE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9842B5-8C4C-47F4-9F05-9FBC127E5A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7D1B99-4506-402C-B0BB-B71FD4D22C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162963D-5F56-4CC4-8527-C5B7481983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6DEE91-CAF3-4835-9E1D-1EA9432669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6D5CB3-595C-4975-96BD-4C0E1095DA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69401A-10DA-4A76-935A-81ECDF0870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18E58F-8D42-484D-8FEE-B2458760F6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D58A36-2E6D-4A06-9569-06FF3DB838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B0D7F1-9F58-489C-B4EB-95F3F1BD4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3443E8-582B-4E18-8C63-4A5D14D4A0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A48AD8-0E43-4EAC-9F26-7787EEB9958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07962FE-CF56-48B0-9D1E-657B2174454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BE7A6A0-7CB4-49C9-BEBE-B53C1F96F6A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E54050C-294C-481D-8BEB-32211E3175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9BE0C6-B0B0-430B-99E7-78369B3DA5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BFABE2-053B-49BB-B745-57BE1FB0C5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8AFDE9-288E-47D5-8C0E-AE222948E5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B0F84E-0B2D-479C-B8A2-AF18C6DC6F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A50EA5-8D36-4B1B-8822-6D5B9D836A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2F52E-69DA-4C08-AF18-3E52898A8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644754-E560-4BA3-A125-FF21AFBFC9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7AD873-0C75-4BF3-85D3-C6C9E55849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6F83C3-6ABF-41AA-AE12-B6E97FD0B25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9A1C15E-961F-4F0B-A4BB-E0BEC14D6F8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E9A7226-AB6B-4E3A-9ED4-23E460B3B82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8A3E8-8E9D-472F-984F-F2F50A295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D043D-655F-4FD2-BDBB-3ED6C4298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538BE-3C51-4C97-8CE4-F4EAD2B11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ED2AD-D291-4D44-B451-127E665AD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1D707-E1D2-4081-A1BE-38D3912B2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3C47F-D938-414D-A570-102DD2903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741E3-980D-4A33-8B7D-5F58066AE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821D3-8602-4157-97F7-666CCCAA2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3082D-061D-4E3C-AB56-641BACCAE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68D42-7ED4-4E66-95AE-3F617E5FB1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87056-6A0A-4CED-8D2E-E3B87FDDE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2FD5E5-2C22-434A-976C-AEAD83D20E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502E07-2C84-4065-9D8D-8244305EBF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72B0A2-6C04-475B-9A5D-D711069FE1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8FBC36-C519-4821-91B6-68E979A61C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A7E834-8601-4FD2-B8A7-7491B9411D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E7BDE-A156-497D-ABC4-039265F9F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6C0905-AA43-4219-9E14-5C13618B21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C23274-A0D7-41A8-A90E-6551B9B0FF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8FFD9A-1058-4BCA-9912-EA41AF06EF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50ED8-7B64-4FFA-9263-D486C13E1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BB4E8C-DAE8-40B6-ADB2-4FC152BFE9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B8B0B9-18AF-4607-8515-A1CBA84AE6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95D99C-5A13-4F8B-A6F5-8E10CA4076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09382D-B464-4039-A917-BF3419BDB7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0D9FAD-76AD-46CE-B85F-47F1E87D10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545FA8-4314-4FCC-B64D-7B9FC21075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C11E1-F2F5-48A6-861F-5913EEB8E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ABB6D2-37F8-4E16-9B28-CB0EA4A9B7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813469-B523-4E1C-8ED3-F673759977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3A3674-7B02-4B3E-98D6-6503D43CDF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B240BB-E2F8-4A51-89CE-C9BE589305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5C6AE1-379A-49D5-8581-0261D732A4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3DA320-F4D7-4298-99D7-C57736893D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A08DAC-27CF-47ED-BCEC-5C2D992725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3DE433-FA87-4091-BFE2-076ECF2365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4C510F-E59F-4909-B0F1-396E419765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B393C8-0DAC-4E15-867E-177FD81118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3B4A1-CB14-43A1-B065-82547BC57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98120D-CC43-4913-82AB-DC8BAD51B2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68190C-B687-46EF-83E7-BA73602EDD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F4FF4A-FBD5-4613-9257-5E111DE089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845AD8-7E4A-45DE-9B28-C1FABA3ADE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B94226-C207-4FF9-B3BD-C7D47059FB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8A6F19-8457-4E66-9708-0FA0190E5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545C26-F9A6-4945-A08B-F579D45F02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A91132-444E-41EB-B952-6561399A5E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F92C8B-83ED-486B-9ED4-0C4585D400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AB0730-9AA5-4EC2-9A69-6BFF4E8476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C43CC-4BBA-4CDE-BD49-8D76EB040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E9A0FF-32C2-48B3-91EF-917E2B2F64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CB0583-7180-472C-8299-E61E45626D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5B6561-80E2-44B6-97BA-F9FF2A1B8F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2A5298-4046-4969-9533-9B2A03AE30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07DC84-D2DD-4B22-AD3C-D9BF291C86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157D6D-B667-47B6-A8AD-0E58F6BD59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3A7C1A-85A1-474B-B42C-62DC793278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DE6D6D-054A-4C9C-99C6-781E9F03FB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0C2CED-CEE6-4E7E-997C-6193D9419D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C72B0B-507A-4001-8BC6-EAD7A3457E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6A02F-9161-42C3-8893-AFA0898A9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FDBA02-5078-4181-8765-509989BE24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B34CBA-1DA8-41D3-B6CA-62D389FFAA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E05587-6656-4000-A91C-C3ECCA2995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CB513D-6FF6-4EEA-A7A8-C20DB0F55C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BEB94D-C92A-4832-954D-E42DB45A1D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25FA65-D1B1-4D59-89F4-8173DB7941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FB1B31-EE43-4B00-9D8B-3899E3C223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696991-EBA9-47CE-96AA-FDF744C862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DF67D2-D51F-415D-A1D9-13433D32AF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0EC3A2-F60A-4FE7-AAB9-31EA5080CE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454D0-CF79-4FD8-B032-9FAD098CA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3111BB-7E47-478A-94CD-1C54690810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A0AFBE-B213-4864-A04D-B06EC6C380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C234AD-E084-498A-BEA4-9BA79B1032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79F7D7-A143-40BE-AC6C-BB5FC4F9AA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5EC62C-3AF2-4754-BE70-87DD8CB4DB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114952-2DAD-424F-929C-202E96B70C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E0BBF8-7D0A-4F44-AE53-88F9836CE2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4EF1D2-E22E-40F7-9BF2-24AAA4AD21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1C46F4-57BC-4F7D-8143-C45D43E3C9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312F80-5A19-45D1-BF88-B8677806A2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DE74E-0EE5-46BF-BCF4-CB942BBD8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8269CD-0882-4BFF-90CB-DB46032EC9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E9C6CE-A088-460B-804E-CE5705F5B1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6EC697-1CC9-4FB6-9498-8A275AB7AE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2AA32A-CF59-45A0-AF85-E4397B41C2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0C5B9F-6C5D-452A-AB37-CA9219BE5F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362D9C-A23B-4197-B092-E1D1BFDE60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BA950B-6B9F-4963-B228-9517BF8EFB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2E1A79-18E7-4D73-B265-6CEDDE63BC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3BF005-4F4D-454D-AF9A-BB047DECAD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9F8E28-8314-42CF-B383-32BDED67984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314D-6C3C-4805-8363-523369F87EA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E8D2-E861-49C1-B524-52F541F08AD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8589-D13D-4FC6-9FED-B04E14BCC5E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480C-959F-401A-A360-E1412BBD382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C9C4-F15D-4FA0-B09F-A2C98FB9F89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4098-8ED4-4245-96A0-E0A80ED2130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7CBE-E2BD-44E9-93A1-A36F05126B0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4474-68B4-484E-B782-E9EF1701EBA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56EB-D85F-4604-B6D2-14003400827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8FD9-3605-4280-A624-160D3CA059C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0583-DB01-4B03-9B26-EE10EE37F19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9B1C2-0BD3-42D3-B5E9-667FB5E9060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aarten Rossum, van</cp:lastModifiedBy>
  <cp:lastPrinted>2012-02-03T12:52:21Z</cp:lastPrinted>
  <dcterms:modified xsi:type="dcterms:W3CDTF">2018-09-23T18:51:18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