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26D9-EA8E-4DFD-9BAA-B086CE6308AA}"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7913-2990-4467-98F5-C94A8D33202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0C228-C9F8-4705-8AF2-F83E05938EC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6EBE-939A-4336-9230-74BDC78B474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956F-DE19-4BA9-97D2-1DA60778C7E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A91C-B23D-4A9F-A2F5-2904CA6226F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7F67-6685-4780-920F-06CE48B0B06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A11B-D59D-45DD-8455-3363F34EEF8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CBB4-284C-4FF8-8D36-AC982F6E9FB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C220-E4A4-4578-A3C7-98A606A2176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D98F8-6270-436B-90FC-FD128646E9C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84E4-498C-414B-A369-E723D008BB9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6222-0226-4C94-8A45-7E69CCEDE5E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B47C-36D8-4907-B40A-FA66EF71753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A290-AC2A-4661-A0B2-0DF973B098B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26240-7DA1-4D92-BF18-2B7FF327C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3484B-63FF-4692-8E2F-C5DA9E068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3246EB-665B-42B4-A55C-36DDF92743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E7234E-7AEF-4423-BDD6-25E5C56B89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C86755-2AA0-4143-BCDA-734DFEB961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00EA9C-90A9-41D5-907C-EC43A37139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FEE625-86A5-49AC-BDDC-7B3FB59E41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B054C5-258F-4AF6-9D69-8B24892A2B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A289E1-6ACF-4ADC-A6D4-1A4FC489F8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CF6F35-0988-4664-AAD6-5505A3AD68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6FC406-CFAD-46D2-B184-0E07C0DCD0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6F3349-C45D-4D6A-94AC-92C923C76A7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6D0B9-9666-4C9B-91F3-688EE0EAE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B123AB-4745-45BF-B904-EB7344AF17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E85C55-DA6B-4148-8B7F-47B953FF5B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2610BC-2692-4A7F-AAE9-57423AD0C4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00FB11-0F98-4FC2-B187-7E2262EC75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A3A2C6-F0BD-42F6-B27D-BE7345C38F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DCFE87-97B1-48B6-8A96-ED6AA2B0DE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C4599D-F8B9-4055-AF07-A9085E429C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BF2101-E856-42FF-B3F4-B2E65315DF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1056AB-1433-4A99-BF0A-9566E57165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947FE7-35CD-4BEE-A589-ADD95CE833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8BC69-7681-4375-A4A7-1DF5AD6F5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C2BEF41-9C14-456C-BAAB-D0E0AE77B14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92BB6E8-43AE-4310-B6A2-992BF67C364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F9CF69-2F39-428B-A0ED-0A6B5D25F0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DAF6DA-28FE-44D0-B3AD-08CFED4170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D2EA6B-574F-4848-BAAC-DADC10F4E3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D93528-DF8D-4293-8F22-E1E666CF15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E583C1-3E1F-498A-BC66-65CCB13FE1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0681B2-EA53-4194-8C5A-94875324D6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9E0AB3-8A73-4B91-B909-B2F8E390EE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59330C-025E-42E2-A8EB-41166A3C2E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A7AC22-D025-4A9F-952C-F5DDAD107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6B5379-690B-4ECD-BCE9-42916CBFCA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D40D58-D707-42DB-8820-8BB7B20950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793C6BA-B82F-4A57-8B3D-664CB812C5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85ADD66-D2A9-4252-BD17-F8C9DC4ED69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14D1FC-CCB2-45C8-8D49-A15C381B5B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FAB223-A356-466C-9205-8E25C69365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964D17-2CAA-4958-9843-E3ABB15235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F1E588-5F00-4C55-A9E5-EE57DF8C82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EBAA8D-52F9-4982-A0B6-6F60E78088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13C765-FBE0-4B6F-901F-8892459192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E8873-3E45-4B98-A3B0-05913D115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3DF1E2-69C0-47BF-BABD-9F799AB8A3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42E5E8-7F85-4474-AA61-BF27F5F2BC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53AFCB-CC60-47DD-8F3A-B7DD5520FB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69CD84B-5F05-4A91-8E00-292D5D5D28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4E9A2BE-943C-4255-BF0E-525F0BD4ED5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2C94F-BBB1-4B88-BBF5-37CF6EC27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5E021-B2E2-4617-ADCB-70F92AF1F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C1830-26F3-4AE3-9867-B548DE190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87A08-F75F-4C7A-B1BD-1B00A0745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A6813-2766-44C8-8F2B-2926B6085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DDE58-AC64-4758-8AB5-5CC1BDC72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8AE59-EEE5-4E9E-BA64-8489947CF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4A173-BC84-449A-A212-32583A8D8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11FA6-229F-45AC-9E5F-A09179DE6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0EF301-9C84-4C9D-95B8-3B18E16A8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433A0E-DF1C-4F62-A079-9341307B87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6C933F-99D8-4247-A638-DDAF79581A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5CC1C2-B99A-4F1A-ACA7-62829ACF96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DD4B24-4ADC-44F6-BADF-2ABD3425AD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F98639-8030-4EDD-B39A-FABDA9D6E3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46E4E8-883B-4021-93EC-1B3ADFB519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CEC03-9913-45B8-8379-89845CED8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1A903E-7464-4846-81FF-B235C6557E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10E339-FEE8-44D1-838C-C577F6AFA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2531BD-780D-4A5B-88D5-E7B7719661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10E6B-6517-48A6-B451-86B3C9EADE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5795FD-FD49-4644-96FD-AABC63EE5B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3E3B14-4798-4720-B43D-C47BDD6879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5682E8-62CF-4ED1-ACD6-F8464264F9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BC178A-6771-466C-9934-D3270DA926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91D625-1D7B-489A-AE36-E3C1F95CB1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3FA0C4-4196-46A7-9690-4B630206F4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DD125-C5BB-4C32-9DFF-76B5479D1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25FD2F-1E96-451B-B4CC-1D40563475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634E92-95F7-405E-9D75-E0FB941063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A571DB-01E8-47E0-973E-D88FFDEEC5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1ED62-18A4-4AC6-98E7-7AED2FFCB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2AD2A6-B2E9-42F6-B214-F0E354A7B7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37B444-F2B6-4103-A6E5-D03DFFAD12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0B02DA-0819-474C-B954-27045465F9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F5B120-A9F1-4506-9392-E5BDA790AF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4FC775-3C2A-42B8-B8DB-87AD30A75D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47D052-C3E4-485E-93C4-EAFCDF29C4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67951-D4C8-4478-A186-1DFD8B25E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23E5CC-50DE-4700-8DFD-8F38100366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43B66A-3D21-426F-BFA1-8BC137E241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9EC666-825D-46C8-9503-FF37F29263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87156F-FD60-44AB-9F77-70B141D9E8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F4DD31-5F60-4344-B73A-49A3E95E37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7FF154-0131-48AF-8B5D-F19908C123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FC821A-4FEC-4A67-B35B-3F0AB591A7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E4B30F-052B-415F-83CB-6030451CE9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5E54E2-691F-4F45-A00C-BB0DDF061B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5EAA87-0834-4B33-9AC6-6FDCC56ABA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C3FF5-AE2B-4ADF-959A-D5D73A71A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2AAFA5-F913-47BE-93E6-934C97572D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A8837C-4592-4F4B-82F7-D6ACAB2130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75B833-0B2C-442E-B8B4-7ABD42DCF4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3BAE90-B620-4A9E-ACBD-EF17B97975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42E6A7-3808-4E24-BD16-5E270070A6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051874-06D0-4CB1-AE1E-8963AB0B88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249DF6-1D15-4396-8611-0CE309930B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CCDDBB-0BE2-4D7A-8CE4-4EED907226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4F5971-AA23-4AB3-9EC7-77FA0447B8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7C58E5-CB98-428F-BFA4-7B94AD1DF0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83ACD-DCC2-4DFE-86AA-CF854A92F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CDBA18-C48A-4C88-B067-7CCC3A0909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00F975-199C-4BB2-8576-7E7E12F45D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39CA9D-B1A9-4109-9E75-F8ACAB310D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C789B7-E6C6-454E-B234-EBCD8F49AA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3B9A83-7FBF-4E1A-AD3E-379F0021D2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590F37-E833-4F65-BEC2-68931427A1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1DE7E5-6B4A-4F9C-936D-8FFF455315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BEE423-2E99-4360-B566-94EC720FCE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0E6E3A-E349-4BBE-AF83-A6A3B27498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D76DAA-1927-4339-91A8-596DACA948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181C5-DE82-4114-8D6E-029277B4A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79E42F-612F-4138-B59C-A70B483CEA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EA7F23-384D-433F-ADE2-B38EDCCB87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BA8F6D-9053-4DD0-9D6A-4DFAA49314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7F281A-6231-455E-ACF0-E8F7D073DB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73FA2B-DFFC-403C-9E3D-7CA94D416D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45C013-2387-40C9-A383-CE4D3D20B4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DB1ED4-74CF-4784-8082-BAA618E306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AEA039-088B-42F9-B21B-AC1416AF5E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4C040D-AB8C-44A8-B563-7918DD04CF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23B2F0-2A06-43B0-863D-063AEBE308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0BECB-3E0E-4C08-B528-49E82B963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27D896-3EFA-46A8-B61B-6F62B9C14E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092A67-E974-40A6-940F-B16CE70BAB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7E7098-CC5F-49C2-AE94-F2EDB68C6E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A78577-D5D6-452B-A63E-32D98273BF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E0E598-7E92-4651-9601-41B8A15035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9D6090-60A8-48D3-9506-D44F61750D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FEF156-FC2E-4162-B07A-3F7491D3CD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EC4125-AB48-4983-A2C4-7E9C4210F3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62A31F-4367-4212-8C9C-8395DE1B00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121850-94EA-4F32-94B0-6F786603584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292C9-69AD-4FBE-B257-C5926F23FBF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372C-7275-45C7-9697-50BFF2F4811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72DF-D004-4205-925A-2E1C1C6AFA9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C2CF-99C5-4DE7-99DA-0E5CBBFFB32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62CE-04CA-403F-A190-28C92942F85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4A8B-1B27-46A9-A5DA-51698A85964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1AE1-0762-4900-AA5A-9F1ED58683D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0106-0071-4CA2-A9AB-CA3D4E60D9B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2E7C-C547-4C0B-B2E5-00DBCF23D4E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C310-E3B1-4C01-9FFB-DA28C9792DF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BD64-0DD3-42A3-AA47-3BB5C1D9955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680F-A6CB-41BC-A16F-73A0220B4B1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aarten Rossum, van</cp:lastModifiedBy>
  <cp:lastPrinted>2012-02-03T12:52:21Z</cp:lastPrinted>
  <dcterms:modified xsi:type="dcterms:W3CDTF">2018-09-23T18:51:18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