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84DD-8F71-4032-84F8-A5CEA747081E}"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BCE4-4615-493B-9B73-CFC7F1882B5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F485-A209-4B95-935D-7D2240C7597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FCC2-E1D4-4A56-B5FC-AD91FF08560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865B-4B7A-4F6B-A6E8-17B79571C1F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5771-E6AF-4B4C-AF49-E96D1A89338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2F82-FFAA-4338-A371-62B8F7D5E10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8389-1F07-43FB-948A-29C7CAEC59F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09337-6D9F-41BD-904E-ED012D8DF12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E73A-8246-4A9B-8BA4-5C6B13856F8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CD7C-2E48-41C0-BA20-36B94B45274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DD80-3CF8-4662-AC3F-EB721D41917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BB00-E510-4A87-B887-30296EA1F46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2A69-20D9-4CCA-9EDD-FED51A32C34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F7BD-7965-4BEF-BC5A-8F5335C7BB3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F3032-35DD-436A-B4A2-179202856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91E2A-6AA9-46EA-B56C-A70E7E7AC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C956F8-2533-4096-851B-BF0C4FDDA1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9001BF-7338-4CFB-A421-7C69A95AEE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7415A3-88A7-4C0F-812A-D94C00B656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0EB06E-32A4-4644-905C-3F7E34EF66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942B65-0FA0-4977-8A5F-BE1D73643A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E054AA-6E83-4B26-A55D-06763EBB7D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F05D20-2970-4965-85F1-F332F6CAAB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FF5288-A770-49B5-8039-00BC648FD8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168B19-190D-4506-913B-C019E5C922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43889A9-ED44-45A2-9163-1ADA718535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C4466-C21E-4C71-A947-5383C7FCB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398353-EFDF-4098-93BF-37C79FEBCE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534A08-E263-4D32-9B85-3BAECE04F9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28515C-03E4-40B4-AF57-97D1A5209F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0480B2-5840-4768-89E2-01E5E0189E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427FD7-E704-4839-B7E1-6ACBF15329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6C6F06-D897-40F1-AFCC-3EFE5F1703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B1EC36-019E-464D-B189-3B3826777A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D9386F-F674-4DF4-8C1C-95034E92FF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55A6C9-82EC-4633-93D5-CC60D2F80B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5BB1ED9-4EE9-494C-80DE-08E19174A8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F4E5C-9A44-4BD2-BF9D-DF1288D77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9C192AC-DFA7-499F-BBCC-19E08085D5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142F802-7CDD-4464-91E0-04A32FE367A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BECF02-885B-4B34-98F1-71F3E8EE69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0602FF-5EE4-4E57-A2A7-FCDA62114E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CE3DC6-86D1-4B0E-8944-0941D4355D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C0C2D9-E74C-4327-9D31-F856426EA0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D4CFBF-B0EB-47E1-B788-CF6793C4A1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857DEB-B469-48FE-85E4-5980F4B4C3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18AA25-B0C1-4963-8A4C-57C96BCB4C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0A2E6C-95B9-4CA9-A705-95537F9D4B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7FDDB-A5AD-445B-947C-77822B145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302720-D023-4DD6-A277-F766C3D902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052DA36-7F13-4D9C-A1FA-9D448127D82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2A8A264-F269-4EA6-9276-9B09F7E4031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A8FC3F6-BDA1-43A2-870C-1C0F22C63D4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90ED33-BBA5-4F7B-9E05-0A100794AF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2E9F33-EE3B-44E8-BD45-C124F4D7D0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F380F3-5DB2-4C41-A04E-B7B1B05B3E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3BEF91-9856-4DEA-9426-A6F8556BD4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513712-F6C6-402B-9C50-8B1E945D89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94AC35-5EC3-4C7F-8606-9156CA12E6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4D854-A26F-4FD0-B8E9-E4EECEEE9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D669B7-3A44-43EA-8E0C-25ADAA609A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EDDE6F-167A-4A26-BE5E-90A2D53303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6310C7-E46D-489F-B5A5-60A8E9BB2F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28A609-5707-4CEB-9B9B-23E45E38C1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6DACAB0-52BC-4B29-A438-CA065A00E57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D3B47-434E-4DA8-A32E-8A34874E7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0FEA3-FF3E-4F18-BC4D-D7A360C61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34984-D491-4B47-84DD-DBD673060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99008-6A38-4043-B4EE-2D18C2916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81475-103E-48F7-9AC1-ACB46FD4B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88139-6225-49DA-B8ED-726FE72DD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409D3-987E-4D27-832B-6D10C97E2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61BA8-7324-4AF0-8BB0-025BFBF7D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F4FEC-578D-4196-BBE8-E33E638CA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9B4DB-A9A0-4EC0-A282-75DDD6EB33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AB6751-1687-4269-9165-97623FB52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C10975-BE4D-4600-91F2-62B1AA5964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0AFF01-A629-445A-BF68-EA964F10E7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489CE7-79E2-4A5A-BDCE-F623EF5FDA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D6B4A2-39EA-4AEC-B378-1935AE028D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129CB-18FA-4DD2-A621-479DEE79E6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FF0AF-1093-4476-9F6E-165F7A872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80AEAA-B4A5-4860-9CBD-45C1889A6A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CA9977-C931-4A7F-9355-7CEBE7C3A5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AE3D7-47A9-487C-9EEB-D5CCFE83B2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E62DCE-8FD3-42AE-859E-B5DF1D3EC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2B93A4-10F6-4B1B-942F-EA5BA05100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CA4721-08D1-4466-B897-76EFAA6220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65F8B7-8B1B-472D-97ED-FFE819A5D8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2E49C6-2F18-4434-92E4-A59120F120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2DE9E6-D7BB-481E-A6BE-09DB3726D1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954EB5-4391-43FC-AAA5-2A393BA06C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3D3E5-B292-42A5-A522-931930CB1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A9EC0E-F0BF-4D18-ADDC-867F614B2B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D17919-9A0E-4A2A-B575-12498B17CD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A143E2-8410-401D-8DB2-5EEEA16D89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FE0FD8-10D0-48D6-A0BC-552AC0F98D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47AA9-4610-4655-9D94-52A84942A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B0BDD-A7FB-4D6B-90FF-0FA6DFAB80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EE64C5-1FD1-468D-B9E0-830E340D44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F0151E-1ADD-4475-8084-EB847CBB92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AC4EDC-DA8C-4F54-92A3-8A730AC813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DB707F-610B-4072-8E91-B698BE8E85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A32A4-A7A9-4519-B038-1C1F9EF2D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22FDE4-0721-4B3A-A10A-66E2BB0084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9E252F-4C8C-4E03-A1C5-0BA8DB01CD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25C07F-A7C4-4D76-8CB0-CFEDFCDA20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D6DE12-1B2C-432A-AE8D-2E81BDDC51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E7E9BD-EBE5-4072-B129-41B4C6013D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5375E0-D308-46F8-AC0E-0553A1D3F5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8EA245-E8EA-4BAB-98DE-F4337EBEF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B7CCE5-0CE2-4A38-B662-92EE10A15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2E3089-CF55-428A-8440-638848DFF6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4B9F96-FF43-4372-9E84-C3DB3FDCF4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AB55B-CC5D-45DA-AE0A-F6A1717C3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0CFE5B-42D9-43F1-B42C-A598B5BC8C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957FB9-109A-4606-931C-7874189593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E853DB-1C82-41A2-93F3-5A9DC37A49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0A701B-B51E-4922-9FC8-C552E747C2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7D9005-8EC7-46A9-85C5-B48DC5C9F6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C641A4-1FC9-47A9-A318-71FDA12C60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9FE29C-B520-41E8-B1C1-9B83700BE2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F4CE65-6BB1-47A5-B733-06E34C950D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B2F35-E5D0-4F0F-9816-410731D681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51E77F-EF6F-441D-92BE-D800441D41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8ED8F-F09A-4293-9FC8-14E95D2AB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0D8C6C-0D02-49FB-A167-B17CC24897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2378EE-812B-4515-AE0C-3ADAA65066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5BE1F1-001C-4B26-864B-4B013DAFE5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A6D197-8840-49BA-89FF-0C46389380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167C2E-B665-40C9-A1DA-D0B9FD9EE1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1514F9-BB21-435E-8765-DD23EA9CA4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6D3C2C-C75E-46FA-BCD3-C29D9077C0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34AFC7-A786-4E9E-AAAF-E35CBE0923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C7DD84-696C-447D-AD62-8E2A2E2CBC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6B6CA3-DCB1-453F-85B7-028633BA91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2DE48-D5BE-44D4-AEB9-58D11CFA6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028FA6-E15B-4003-849E-64C76F0B7F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DB0D15-46C4-4EBF-9CC3-DCAF6AAFCC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252ECD-ED98-4600-ADAC-D50FD1BEC5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E8E47A-C8F8-4A57-BB38-04D2C164EB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13DA03-6BB5-462A-83EA-E099E117E4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12C988-B36D-4E89-A790-0E258C24AC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EDB203-8D9A-4DCA-A071-3F03DA5BF8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925048-CA49-4C0D-84DC-D582DB8565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F3983C-635E-4225-B7A5-A2750E2958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2AD81D-847B-4ACE-B88C-3C88B4B808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7F18-2E0F-4C54-AA10-EA231BDCE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99D03A-EF89-42D4-8114-530AF59C89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8EE854-DDA9-49B3-8E89-F8D0244D55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F9EE9A-801F-471B-AC8E-1B28454DCA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9256C4-9072-4EF0-83AA-045DF60748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0FB2F4-CF8E-4647-B9D5-E21887A30C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45B6CF-BCE5-49CB-A187-78AAA9491B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998001-3E62-4514-9008-618C09EBBC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74BB0E-A1B9-4875-9D5A-001C9ADDFE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C52F07-3483-4DDF-AA12-AF64F4C152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D7FD7A-1741-465B-BE12-C917C04B93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CED4-79C5-4E07-A253-41FE7C41994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98DD-7C00-4561-93EE-8229D810F2D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BCE3-2AB3-4D31-8A9C-20A8D1A80AA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D7BF-C0BD-4001-BA99-8D42EC52C58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ABAF-0D1D-4FDA-9616-C1F44AAE7EF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5A5D-148B-4EDC-92E1-4A7A420974B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25A1-7133-47EC-8DFE-91BC721154C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78BB-B21B-41A2-A458-643159E3FDF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AF26-7D97-4784-B064-9C1021282E9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1A99-CAF1-4B58-B62B-8E5A221A7D9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3532-8D76-4075-B118-2B7BAB5D626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A5CB-78FB-4284-9915-C754F5A15D4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aarten Rossum, van</cp:lastModifiedBy>
  <cp:lastPrinted>2012-02-03T12:52:21Z</cp:lastPrinted>
  <dcterms:modified xsi:type="dcterms:W3CDTF">2018-09-23T18:51:18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