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CCFC-07F4-47E9-9DD9-286B85B7B04C}"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40B5-8BC6-41B7-A850-0E890E608C7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DCAA-5E82-45FF-88F3-473609EC2D1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512E-AF0C-46FE-ABA3-C5D7A63108E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7B97-67BB-4174-84C8-567AC12843F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1682-920D-4FE3-B2E6-DCC270CAF7F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26C1-546F-40D5-AEFD-636E5290F5B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19BF-C6FF-42D0-9FA3-9BFA3886F3B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41E2-D531-4420-BFC9-1B1CDFED327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AD1B-157A-4E0C-AC6E-F1825EFCC01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B8B5-B6CB-4DEA-B4A8-3A810656BC9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2BFC-96B4-4405-B4AF-F7A5E9E843B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2387-39B3-4C77-8FC4-ABBF4EE7A06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7F4B-F98D-4A63-B7DD-9A91F93DC50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21A7-6659-484F-9E5C-D160806A744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61415-42DD-4AC9-9DA1-CFEDC1061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DD32E-C5A0-4769-B67B-C27607EEC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95301C-8B2F-493D-A45E-BB82B115FF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4F86AC-29A5-4493-9CE1-E7FA4411FD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50FEE-E3F1-4CF6-B5C0-229B01ACC4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BA6FD-4F2D-423D-B227-6F389D1CF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179CE-146A-47D6-BF54-B0AB801FE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55294-F30E-4324-A972-BF2C9EA2B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E07139-A363-496A-AA4C-B95ECD44A3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3B61C7-97F7-4CCC-8683-696D3AE519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335E88-BD47-4CAE-8EA1-D6E18AFA6A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07213A-F61B-437A-AF56-739EBCC7F1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D6BA3-613A-4C01-B4FD-0F2F47149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1DB2E7-7A85-433A-8E19-6C1CCD5861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1F43F9-942E-4993-A2C6-447075174A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A5C76B-2475-4E15-96E2-2AF8D53A1C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17230F-7482-4199-82A3-FFE688DD4B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2CD2AB-8186-48AC-9893-26E025AC02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4DD2EA-18A0-49BD-95BA-132FFD4F7E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5181DC-EA0A-4C85-979C-4E264A95CC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C736EA-EA13-4813-9955-1DAA044FB4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9D7B04-8703-46F7-BDA2-629A62E31A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E2AFF6-C2D6-4948-9E2F-36B051E496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75FD0-D355-4DE5-A9CA-82A73CB19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9F0495-50BA-4D48-9CDF-672FBD91CF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558D41-35E5-4B96-9FAB-AED337E670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D5426F-3556-49B0-8D33-7AECDC6C57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819B81-81E2-4CBB-AC79-485670FF85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87542C-8A06-42C0-900B-4BB451CF76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7CBA84-5FE2-476E-A660-F6C4997D6D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5A0E34-58FB-484D-A33E-006C84D70E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A94DDF-C4B4-41E4-96AB-99EA746E46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AC3683-6C58-4E6B-8CDF-7CF20C60C8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E7FED7-6FA4-4E7E-8AFC-EB54851E74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7EABF-89C4-43D5-B6D0-2DC91179D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AC0BA9-7C03-42F8-AC65-5DDE38B519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F0874D-7CD4-489C-ABD1-41D366B368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673B70-0C8F-43C9-B0CA-04A98FA1F2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16C90C-DC65-4B33-8C83-F1024E5BC3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CC644C-5B1E-47EA-AB9F-AF3C46DB8F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D578CB-14C5-4A14-AE18-E653A100FD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2EA395-B3B2-48B7-9DA5-E7DAC1CCFF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F40B6B-358C-4C68-B51B-887B9E7A5D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23C924-930F-4610-B7AE-8147E856E9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D40AA2-9964-42C1-BF87-56D07F11A1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EFB37-31DD-498D-8410-92220D327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7E3F36-7A2F-4D6D-B3C3-B933EBB3F6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B1A5AA-FC1B-42CA-99AD-3F7F789041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2E939E-15E3-4511-884C-A7F3DC1905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A2D3ED-7312-4112-B110-FF004608C1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09352C-27BA-48F4-9CA7-EBC2F07990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EECFE-6E6F-4661-B8B8-E348AF459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61AE2-FBB1-4D4A-8F92-95DC8D727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BE9C0-3589-49AE-AAFA-75305AFDC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F669D-175E-4EA0-A1BF-33685C25D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0208B-2FCD-4E78-8873-58E545EEF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FF66B-2FD3-4637-9646-13E056F8B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7AEB7-751A-462B-8CFD-EFEA69FF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2A4E-034D-4D2E-B384-677C76D43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19FC1-6EF4-418D-B048-48E513A7C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F3878-8245-40EB-9852-22B5BD5D8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CBE36-0AB5-41CF-994E-A2B243977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65D1C2-5787-4427-A0C7-36B4A2E150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D56C6-0340-40E0-A85D-5561CBEEC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F9E83-FA97-48CD-9D85-61AC1131C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034F5-21C8-4E5D-BAF4-79D60B924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5746A-BFDF-4A99-AB97-AAF04386C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4D426-CB0A-416E-9269-FFEE22884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36625-6896-4EE6-AF9E-5919E5E50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F3024-AC5E-4256-80E5-37DF4F01F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5CEDA-8537-480E-BAD9-56E46B665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D08E7-2CFF-4640-B26B-E0A5AF0C4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145B3-A09B-402A-A4E9-A4AA45867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8FDD37-6E38-4CF1-B8BF-B4A48D5C29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BFCD74-75DC-4BD6-A3EA-4CF8DEDBD2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D1C33-67AD-45B3-88FE-BF841F02BB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509A0-9759-45A1-85E2-C76D7B756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7103D-C9B7-4458-8234-FF6D75A9D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4149-CF78-4177-AFA2-6D81BB62E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8BD9F-ADC5-44F4-BB18-C9CD148B6F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925DC-E43A-4627-B7FE-E25E0A177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862BA-B39F-40D0-84A3-52118CFA1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E2A2F-E5A3-46AB-A4DC-DCFE89364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BA9754-92AC-4AD2-96CA-924ABC6F6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D2D21-E6DB-403B-ABC9-2EDAF9748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0365D2-EEBB-4129-981C-AD639CFC9B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C2B5A9-17F1-4F50-9E1F-926D86822D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3B1686-E8CB-4482-A7B6-F2F538FFEA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520924-B70E-45C6-9642-031E8D3059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E00A-34D9-4093-8A45-95BDC150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5E8FB-9175-4D2E-A4A4-7324F84A4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CCACC-72F7-434C-B00A-2ACC5CD79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DB2B6C-1459-4001-AFE2-183AA979C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B7C2FB-2B61-4393-AFFA-F1C484CC3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74102-C6B2-4F20-8AEF-8D04770B1D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AB49B-7F6C-4402-9F01-9AEC0E68B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B27D1-6D77-45C7-B02E-04A502B0D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94991-7538-47D8-9712-67FBDE6E1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87A2DF-E60D-40C2-B025-7F504ACA2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9EDD62-18B8-4846-BA65-DE2A1AD196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FC281-8EC5-4BF4-99F4-FEF352BD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5B0560-4377-47B5-8B0D-74A6F260B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B5EA82-5B6C-4769-BEFD-7F62676FA6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AECDD5-564D-4469-A9D8-849FFE488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9D8B8-4C79-4EB7-81A2-FEAEC16D9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A934D1-C7AA-472C-BEE7-82FAF3E370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3C65C-D00D-43F9-AD28-7ACD01EF22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335FF-8379-498E-AF79-2460A55DB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606F9-F1C3-4FE4-8501-AFC1E254C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99F8B-DB6C-4C7C-8720-9F4BAD3AF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7CA5E2-E5F1-43D2-A232-2373A7B0C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E36E-3C69-4D3C-B757-85103B984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15D81-C14E-4F1C-A500-1CB2F8689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938DB9-BAE4-4F67-A07A-B3D3A18440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8652E4-7E0D-486B-94C3-0D0B1920A7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B11767-DD25-4BD9-A047-0E9AE55D5C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89AF87-2A12-4541-95F0-E02403416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FB6356-6334-4A6C-BA3E-DE1C9F074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7C7EE7-0083-4EA9-AC42-596F4C24A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8A3534-C95F-42D9-9ABE-2BBE3B078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F849F5-EF7A-4F02-BBF3-EF165D50E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2612E-9F61-4630-BDA6-C6F60A3A1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F1A9A-E05A-4B43-965D-3029AB5AC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B68345-C270-40DC-8D68-E78F5ED40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C5684-F7FA-4C62-AFF7-AF0E18DF6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A9770-C662-4775-935C-0B7FFAE839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8678CB-D069-42BE-A398-FD625EFDD7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4CAE03-2483-490F-80A4-58F7D90899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2DA48C-F2E7-494D-BEC3-3F7CA0E11A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13797E-1F8E-4F8D-8DFD-C3059A0833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E32B3-D266-48B7-B69C-1766B35EC8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F3BD67-626F-46CA-9DC2-F8AAEBF68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21DC9A-1308-4BB2-A025-0BBDC0413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A1BB-F111-4C92-B4F6-8BCA2BD19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763B15-0ADD-49F5-9F98-9C1219E29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9832D-8828-49FF-874C-08DE049EF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24095-96C1-4497-AE37-A36A2F8E5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578C5-18A9-4647-8584-B315919DE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683BA-9DBD-43E3-AE77-AEC3535A57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B370C5-5FD5-4FEC-8A40-0CB6122237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F3AD5-367F-45D2-8657-A82C471120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3A9D05-4E33-4310-924A-AF49E1AD33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290A1-D3A5-4BA0-B582-ED258D13C1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476A88-946F-42EE-A60E-9B09821F59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DAFE-F0A0-456C-80EC-7EE9DAB3653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9110-C2DA-45EF-BEEE-83A5EC4253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D968-BAA3-41CF-A3B1-EC32FB17BC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3ECD-C7F4-4910-88F8-D8563770F6E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9E42-67E9-47E4-BDED-4B4CFE47DA8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DEFA-9753-4285-B386-FC7CA0999A2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B9DE-1337-43A0-B1DF-2268465EA37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044A-3791-4769-8568-AF51FB28F89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8514-06A8-45EE-8EB7-5887EEA0FD0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E902-A558-47F3-95EC-269805F723A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1191-92C9-4F01-B053-4B53E0DB997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C391-0494-49CD-88A6-4F5B76A15A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aarten Rossum, van</cp:lastModifiedBy>
  <cp:lastPrinted>2012-02-03T12:52:21Z</cp:lastPrinted>
  <dcterms:modified xsi:type="dcterms:W3CDTF">2018-09-23T18:51:18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