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A83A-6A83-471A-AA45-F45008807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3B84-763E-481E-BFB0-BB60A51C7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DD3B-D6C2-4999-AAE1-B4D885065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AC6F-9EFC-491E-A5DF-767745681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A787-876A-4AAB-9CDA-F850206B1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3808-EBC7-4175-8F3D-FE17CBBEF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5EC1-9B88-4A8E-B877-8A00D5195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1A0B-985F-465B-A6B9-49C38DC94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1B12-A9CE-4D17-B11A-180DC478C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29C-AE82-445C-96DD-5E73E45B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E696-FFA4-434C-BD74-A1A79B74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345-DCCE-4056-9FDA-16969EA6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9390-0941-4971-BA6E-46ADDE37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B6F-3F88-4936-8E1C-A4966809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DAF7-1618-4EAF-AEA6-D944E41E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C94-E97D-479B-ABC4-B66F4868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02B-5BCF-4DED-8F74-3D1A81FB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FB2A-5AE8-41F1-B023-6D193C73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0DB-1604-41FF-8324-BCFF8E30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6C74-7B3B-4CE2-92A5-229C12D8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7F89-0A4A-4613-9461-4AF9B644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47CB-536E-438F-B74E-2C475C094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9/S_cerevisiae_under_DIC_microscopy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hyperlink" Target="http://ethnopharmacology.com/index.html" TargetMode="Externa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9/S_cerevisiae_under_DIC_microscopy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hyperlink" Target="http://ethnopharmacology.com/index.html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rijk van 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8" descr="Image:S cerevisiae under DIC micros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628640"/>
            <a:ext cx="4762440" cy="4762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4" descr="hyphae"/>
          <p:cNvPicPr/>
          <p:nvPr/>
        </p:nvPicPr>
        <p:blipFill>
          <a:blip r:embed="rId3"/>
          <a:stretch/>
        </p:blipFill>
        <p:spPr>
          <a:xfrm>
            <a:off x="684360" y="1341360"/>
            <a:ext cx="6912000" cy="541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2" descr="Fungal_hyphae_620"/>
          <p:cNvPicPr/>
          <p:nvPr/>
        </p:nvPicPr>
        <p:blipFill>
          <a:blip r:embed="rId4"/>
          <a:stretch/>
        </p:blipFill>
        <p:spPr>
          <a:xfrm>
            <a:off x="1258920" y="1141560"/>
            <a:ext cx="6480000" cy="571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790px-Edible_Fungi"/>
          <p:cNvPicPr/>
          <p:nvPr/>
        </p:nvPicPr>
        <p:blipFill>
          <a:blip r:embed="rId5"/>
          <a:stretch/>
        </p:blipFill>
        <p:spPr>
          <a:xfrm>
            <a:off x="395280" y="907920"/>
            <a:ext cx="7777080" cy="5899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"/>
          <p:cNvPicPr/>
          <p:nvPr/>
        </p:nvPicPr>
        <p:blipFill>
          <a:blip r:embed="rId6"/>
          <a:stretch/>
        </p:blipFill>
        <p:spPr>
          <a:xfrm>
            <a:off x="684360" y="836640"/>
            <a:ext cx="7343640" cy="597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delicious and nutritious? No.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92360" y="907920"/>
            <a:ext cx="5046480" cy="595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0" descr="baird-purple-fungi-1-large"/>
          <p:cNvPicPr/>
          <p:nvPr/>
        </p:nvPicPr>
        <p:blipFill>
          <a:blip r:embed="rId9"/>
          <a:stretch/>
        </p:blipFill>
        <p:spPr>
          <a:xfrm>
            <a:off x="539640" y="309600"/>
            <a:ext cx="8101080" cy="6548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r159235_580502"/>
          <p:cNvPicPr/>
          <p:nvPr/>
        </p:nvPicPr>
        <p:blipFill>
          <a:blip r:embed="rId10"/>
          <a:stretch/>
        </p:blipFill>
        <p:spPr>
          <a:xfrm>
            <a:off x="1979640" y="0"/>
            <a:ext cx="474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cellig of Meercellig (schimmeldra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ker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wan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dgroenkorre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843280" y="33544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987640" y="393372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356000" y="4508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Image:S cerevisiae under DIC micros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205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yphae"/>
          <p:cNvPicPr/>
          <p:nvPr/>
        </p:nvPicPr>
        <p:blipFill>
          <a:blip r:embed="rId3"/>
          <a:stretch/>
        </p:blipFill>
        <p:spPr>
          <a:xfrm>
            <a:off x="3851280" y="2133720"/>
            <a:ext cx="15112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tpla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nop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g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het uiteinde van schimmeldr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penseelschimm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paddesto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vliegenzw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scanning EM of Candida budding"/>
          <p:cNvPicPr/>
          <p:nvPr/>
        </p:nvPicPr>
        <p:blipFill>
          <a:blip r:embed="rId1"/>
          <a:stretch/>
        </p:blipFill>
        <p:spPr>
          <a:xfrm>
            <a:off x="3348000" y="1413000"/>
            <a:ext cx="2736720" cy="253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yeast_02"/>
          <p:cNvPicPr/>
          <p:nvPr/>
        </p:nvPicPr>
        <p:blipFill>
          <a:blip r:embed="rId2"/>
          <a:stretch/>
        </p:blipFill>
        <p:spPr>
          <a:xfrm>
            <a:off x="6300720" y="476280"/>
            <a:ext cx="2673360" cy="345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humicola9"/>
          <p:cNvPicPr/>
          <p:nvPr/>
        </p:nvPicPr>
        <p:blipFill>
          <a:blip r:embed="rId3"/>
          <a:stretch/>
        </p:blipFill>
        <p:spPr>
          <a:xfrm>
            <a:off x="2411280" y="213372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delicious and nutritious? No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4720" y="4653000"/>
            <a:ext cx="1869840" cy="2205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3"/>
          <p:cNvSpPr/>
          <p:nvPr/>
        </p:nvSpPr>
        <p:spPr>
          <a:xfrm>
            <a:off x="0" y="76500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cell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0" y="306864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cell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e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al dode resten van organis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e opruimers in de natuu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clusief ons eigen voedsel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immelen van fruit, brood, groenten 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verwekken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infectie: schimmel veroorzaakt een zie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Schimmelinfec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emmersecz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Candida albicans between the toes"/>
          <p:cNvPicPr/>
          <p:nvPr/>
        </p:nvPicPr>
        <p:blipFill>
          <a:blip r:embed="rId1"/>
          <a:stretch/>
        </p:blipFill>
        <p:spPr>
          <a:xfrm>
            <a:off x="5334120" y="4181400"/>
            <a:ext cx="38098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lpen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lpen bij maken van voedingsmidd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d (g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er en Wijn (g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mmelk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tbare paddesto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1"/>
          <a:stretch/>
        </p:blipFill>
        <p:spPr>
          <a:xfrm>
            <a:off x="2735280" y="2828880"/>
            <a:ext cx="640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fun01"/>
          <p:cNvPicPr/>
          <p:nvPr/>
        </p:nvPicPr>
        <p:blipFill>
          <a:blip r:embed="rId1"/>
          <a:stretch/>
        </p:blipFill>
        <p:spPr>
          <a:xfrm>
            <a:off x="1835280" y="170028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2:29:18Z</dcterms:created>
  <dc:creator>IT Servicedesk</dc:creator>
  <dc:description/>
  <dc:language>en-US</dc:language>
  <cp:lastModifiedBy>Joyce Vonk</cp:lastModifiedBy>
  <dcterms:modified xsi:type="dcterms:W3CDTF">2018-09-09T12:20:44Z</dcterms:modified>
  <cp:revision>10</cp:revision>
  <dc:subject/>
  <dc:title>Het rijk van de Bacteriën</dc:title>
</cp:coreProperties>
</file>