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D56-CB8A-4ABF-BA52-8CA11CDC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165-A816-435F-9E4F-7A812FAF4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3ED-8287-4675-9427-46B372A1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C6D6-165E-47F1-B10C-29C39E32F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EF5D-AB5A-4547-A9BF-716AE50FD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9AEB-9E30-4475-BFE3-EA3743A0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714A-2335-4460-9A3A-E94F2787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C346-D9D7-46AA-A6C8-7A478FD5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505E-169D-4950-914C-C0C4B4F31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DAD-1416-49C4-9E4B-B428C298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240-0B63-40A4-AF66-00C7671F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6ED-B59A-499E-89B8-CCC8BF60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548-D869-4231-9612-0A470C6B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F1E-AEAF-45BC-8BD3-8705E8FB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4EF-BD4B-488C-9244-DECFF990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349-5CAF-4F2F-8180-3E2106E4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C51-9083-48DC-9375-A92E979B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ABE-A76D-4CA5-8F8A-BCDDFEDE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608-73AF-4F6F-85A9-34DCE1D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A60-D4EE-4417-8B29-D3E8365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7ED-EB22-4124-A7AE-17128148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45CA-99D6-44F4-BB86-E9E99980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hyperlink" Target="http://ethnopharmacology.com/index.html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hyperlink" Target="http://ethnopharmacology.com/index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rijk van 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8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hyphae"/>
          <p:cNvPicPr/>
          <p:nvPr/>
        </p:nvPicPr>
        <p:blipFill>
          <a:blip r:embed="rId3"/>
          <a:stretch/>
        </p:blipFill>
        <p:spPr>
          <a:xfrm>
            <a:off x="684360" y="1341360"/>
            <a:ext cx="6912000" cy="541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Fungal_hyphae_620"/>
          <p:cNvPicPr/>
          <p:nvPr/>
        </p:nvPicPr>
        <p:blipFill>
          <a:blip r:embed="rId4"/>
          <a:stretch/>
        </p:blipFill>
        <p:spPr>
          <a:xfrm>
            <a:off x="1258920" y="1141560"/>
            <a:ext cx="6480000" cy="571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790px-Edible_Fungi"/>
          <p:cNvPicPr/>
          <p:nvPr/>
        </p:nvPicPr>
        <p:blipFill>
          <a:blip r:embed="rId5"/>
          <a:stretch/>
        </p:blipFill>
        <p:spPr>
          <a:xfrm>
            <a:off x="395280" y="907920"/>
            <a:ext cx="7777080" cy="589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6"/>
          <a:stretch/>
        </p:blipFill>
        <p:spPr>
          <a:xfrm>
            <a:off x="684360" y="836640"/>
            <a:ext cx="7343640" cy="597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delicious and nutritious? No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907920"/>
            <a:ext cx="5046480" cy="595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baird-purple-fungi-1-large"/>
          <p:cNvPicPr/>
          <p:nvPr/>
        </p:nvPicPr>
        <p:blipFill>
          <a:blip r:embed="rId9"/>
          <a:stretch/>
        </p:blipFill>
        <p:spPr>
          <a:xfrm>
            <a:off x="539640" y="309600"/>
            <a:ext cx="8101080" cy="654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r159235_580502"/>
          <p:cNvPicPr/>
          <p:nvPr/>
        </p:nvPicPr>
        <p:blipFill>
          <a:blip r:embed="rId10"/>
          <a:stretch/>
        </p:blipFill>
        <p:spPr>
          <a:xfrm>
            <a:off x="197964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 of Meercellig (schimmeldra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ke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korr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3280" y="33544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87640" y="393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356000" y="450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205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yphae"/>
          <p:cNvPicPr/>
          <p:nvPr/>
        </p:nvPicPr>
        <p:blipFill>
          <a:blip r:embed="rId3"/>
          <a:stretch/>
        </p:blipFill>
        <p:spPr>
          <a:xfrm>
            <a:off x="3851280" y="2133720"/>
            <a:ext cx="1511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tpl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p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het uiteinde van schimmel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penseelschimm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liegenz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canning EM of Candida budding"/>
          <p:cNvPicPr/>
          <p:nvPr/>
        </p:nvPicPr>
        <p:blipFill>
          <a:blip r:embed="rId1"/>
          <a:stretch/>
        </p:blipFill>
        <p:spPr>
          <a:xfrm>
            <a:off x="3348000" y="1413000"/>
            <a:ext cx="2736720" cy="25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yeast_02"/>
          <p:cNvPicPr/>
          <p:nvPr/>
        </p:nvPicPr>
        <p:blipFill>
          <a:blip r:embed="rId2"/>
          <a:stretch/>
        </p:blipFill>
        <p:spPr>
          <a:xfrm>
            <a:off x="6300720" y="476280"/>
            <a:ext cx="2673360" cy="34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umicola9"/>
          <p:cNvPicPr/>
          <p:nvPr/>
        </p:nvPicPr>
        <p:blipFill>
          <a:blip r:embed="rId3"/>
          <a:stretch/>
        </p:blipFill>
        <p:spPr>
          <a:xfrm>
            <a:off x="2411280" y="21337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elicious and nutritious? No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653000"/>
            <a:ext cx="1869840" cy="220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0" y="765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dode resten van organi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e opruimers in de natu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clusief ons eigen voeds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immelen van fruit, brood, groenten 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verwekk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infectie: schimmel veroorzaakt een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Schimmelinf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emmersecz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Candida albicans between the toes"/>
          <p:cNvPicPr/>
          <p:nvPr/>
        </p:nvPicPr>
        <p:blipFill>
          <a:blip r:embed="rId1"/>
          <a:stretch/>
        </p:blipFill>
        <p:spPr>
          <a:xfrm>
            <a:off x="5334120" y="418140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lp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en bij maken van voedingsmid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d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er en Wijn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k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tbare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2735280" y="2828880"/>
            <a:ext cx="640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un01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9:18Z</dcterms:created>
  <dc:creator>IT Servicedesk</dc:creator>
  <dc:description/>
  <dc:language>en-US</dc:language>
  <cp:lastModifiedBy>Joyce Vonk</cp:lastModifiedBy>
  <dcterms:modified xsi:type="dcterms:W3CDTF">2018-09-09T12:20:44Z</dcterms:modified>
  <cp:revision>10</cp:revision>
  <dc:subject/>
  <dc:title>Het rijk van de Bacteriën</dc:title>
</cp:coreProperties>
</file>