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0953-2CA1-4123-9908-67A11460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CC0D-51B8-4516-BAC9-DB8565470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4DBB-2CE4-42D3-9229-5FF8585E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AE45-891E-4AA8-926F-3570AA833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D233-8F57-4B2A-9420-226E9C119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3550-55F7-4AF6-9C3E-C534BF472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C66F-B440-4085-B806-751F33A69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798C-E8B6-4714-8C06-52B6901EC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91FD-D8C6-40A8-84FF-7B870421F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1C7-A562-48DF-BA1B-36B87DA6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CD1-26C2-43D2-A8A5-19EF5F26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591-550F-4F98-8DB5-4F08D326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917-D5F6-4FBE-8D4F-04F23C1A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601-7AC3-43D2-BC41-1FCC17D2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A2A-CE8A-4E95-83C2-1062063B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73E-EE71-46A6-A58A-17B5B024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53B-2FE9-4177-8BFF-D41854FB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4C8-A556-44D9-A5B7-F96EA6A1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D0B-BDA6-4906-B380-D85102F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843-6B60-4904-8E05-792B061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12C-4356-458B-8704-D8E419C3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A9B3-045C-4D2D-A287-ECB2676D1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hyperlink" Target="http://ethnopharmacology.com/index.html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hyperlink" Target="http://ethnopharmacology.com/index.html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rijk van 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8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62864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hyphae"/>
          <p:cNvPicPr/>
          <p:nvPr/>
        </p:nvPicPr>
        <p:blipFill>
          <a:blip r:embed="rId3"/>
          <a:stretch/>
        </p:blipFill>
        <p:spPr>
          <a:xfrm>
            <a:off x="684360" y="1341360"/>
            <a:ext cx="6912000" cy="541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Fungal_hyphae_620"/>
          <p:cNvPicPr/>
          <p:nvPr/>
        </p:nvPicPr>
        <p:blipFill>
          <a:blip r:embed="rId4"/>
          <a:stretch/>
        </p:blipFill>
        <p:spPr>
          <a:xfrm>
            <a:off x="1258920" y="1141560"/>
            <a:ext cx="6480000" cy="571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790px-Edible_Fungi"/>
          <p:cNvPicPr/>
          <p:nvPr/>
        </p:nvPicPr>
        <p:blipFill>
          <a:blip r:embed="rId5"/>
          <a:stretch/>
        </p:blipFill>
        <p:spPr>
          <a:xfrm>
            <a:off x="395280" y="907920"/>
            <a:ext cx="7777080" cy="589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6"/>
          <a:stretch/>
        </p:blipFill>
        <p:spPr>
          <a:xfrm>
            <a:off x="684360" y="836640"/>
            <a:ext cx="7343640" cy="597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delicious and nutritious? No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92360" y="907920"/>
            <a:ext cx="5046480" cy="595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baird-purple-fungi-1-large"/>
          <p:cNvPicPr/>
          <p:nvPr/>
        </p:nvPicPr>
        <p:blipFill>
          <a:blip r:embed="rId9"/>
          <a:stretch/>
        </p:blipFill>
        <p:spPr>
          <a:xfrm>
            <a:off x="539640" y="309600"/>
            <a:ext cx="8101080" cy="654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r159235_580502"/>
          <p:cNvPicPr/>
          <p:nvPr/>
        </p:nvPicPr>
        <p:blipFill>
          <a:blip r:embed="rId10"/>
          <a:stretch/>
        </p:blipFill>
        <p:spPr>
          <a:xfrm>
            <a:off x="197964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 of Meercellig (schimmeldra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ke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korre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3280" y="33544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87640" y="3933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356000" y="450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205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yphae"/>
          <p:cNvPicPr/>
          <p:nvPr/>
        </p:nvPicPr>
        <p:blipFill>
          <a:blip r:embed="rId3"/>
          <a:stretch/>
        </p:blipFill>
        <p:spPr>
          <a:xfrm>
            <a:off x="3851280" y="2133720"/>
            <a:ext cx="1511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tpla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p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het uiteinde van schimmel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penseelschimm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vliegenzw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canning EM of Candida budding"/>
          <p:cNvPicPr/>
          <p:nvPr/>
        </p:nvPicPr>
        <p:blipFill>
          <a:blip r:embed="rId1"/>
          <a:stretch/>
        </p:blipFill>
        <p:spPr>
          <a:xfrm>
            <a:off x="3348000" y="1413000"/>
            <a:ext cx="2736720" cy="25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yeast_02"/>
          <p:cNvPicPr/>
          <p:nvPr/>
        </p:nvPicPr>
        <p:blipFill>
          <a:blip r:embed="rId2"/>
          <a:stretch/>
        </p:blipFill>
        <p:spPr>
          <a:xfrm>
            <a:off x="6300720" y="476280"/>
            <a:ext cx="2673360" cy="34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humicola9"/>
          <p:cNvPicPr/>
          <p:nvPr/>
        </p:nvPicPr>
        <p:blipFill>
          <a:blip r:embed="rId3"/>
          <a:stretch/>
        </p:blipFill>
        <p:spPr>
          <a:xfrm>
            <a:off x="2411280" y="213372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delicious and nutritious? No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4653000"/>
            <a:ext cx="1869840" cy="220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0" y="765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dode resten van organis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e opruimers in de natu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clusief ons eigen voedsel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immelen van fruit, brood, groenten 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verwekk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infectie: schimmel veroorzaakt een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Schimmelinf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emmersecz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Candida albicans between the toes"/>
          <p:cNvPicPr/>
          <p:nvPr/>
        </p:nvPicPr>
        <p:blipFill>
          <a:blip r:embed="rId1"/>
          <a:stretch/>
        </p:blipFill>
        <p:spPr>
          <a:xfrm>
            <a:off x="5334120" y="418140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lp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pen bij maken van voedingsmidd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d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er en Wijn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k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tbare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2735280" y="2828880"/>
            <a:ext cx="640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un01"/>
          <p:cNvPicPr/>
          <p:nvPr/>
        </p:nvPicPr>
        <p:blipFill>
          <a:blip r:embed="rId1"/>
          <a:stretch/>
        </p:blipFill>
        <p:spPr>
          <a:xfrm>
            <a:off x="1835280" y="170028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9:18Z</dcterms:created>
  <dc:creator>IT Servicedesk</dc:creator>
  <dc:description/>
  <dc:language>en-US</dc:language>
  <cp:lastModifiedBy>Joyce Vonk</cp:lastModifiedBy>
  <dcterms:modified xsi:type="dcterms:W3CDTF">2018-09-09T12:20:44Z</dcterms:modified>
  <cp:revision>10</cp:revision>
  <dc:subject/>
  <dc:title>Het rijk van de Bacteriën</dc:title>
</cp:coreProperties>
</file>